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9C2-29FD-41EE-966D-F157D0E1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2CA-C66D-4A18-9255-5E30314A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F5E-2EBA-48EA-BABD-6EA7CA1E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B5B-4F08-43BB-8E32-D0764A57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F69-47C9-4C43-B48E-1C2E161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5B0-BD01-49F7-853E-92D4095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E86-86EA-43A5-84E6-7A921716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A9B-0419-4528-9500-0BDF584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063-2390-4CCD-B66B-3FB6B2F9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323-E53D-464B-9DDD-2D7AC82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AD1-2D47-4698-ACFD-85F948B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CAC-FFD0-4594-B9F2-9A91538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149-964B-411A-892B-D2954E8B6B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532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99"/>
                </a:solidFill>
                <a:latin typeface="Baveuse"/>
              </a:rPr>
              <a:t>UITVIND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ijf op de hoogte van de nieuwe tendensen op het gebied va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176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905280" cy="5327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734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uper contactl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2695680" cy="393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3961080" cy="2649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720" y="314172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rage “bijenkor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63640" y="1844280"/>
            <a:ext cx="34196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ndtas in de vorm van je lievelingshuisd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26028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ndverwarmers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t USB-aan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4653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-fi sportsch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SM met nostalgische ho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64000" y="-360"/>
            <a:ext cx="331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d met orgasme-tel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0400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8720" y="3429000"/>
            <a:ext cx="4896000" cy="3225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595008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er-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076280"/>
            <a:ext cx="302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ui met tatoo-m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4600" y="297000"/>
            <a:ext cx="2832120" cy="37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19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5445000"/>
            <a:ext cx="3070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ans m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sche ta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38760" cy="5905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360" y="632880"/>
            <a:ext cx="4176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D met 20 genante geluiden om je buur te plagen. </a:t>
            </a:r>
            <a:br>
              <a:rPr sz="3600"/>
            </a:b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leverd met oordopjes (voor jezel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960720" cy="2643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9760" cy="3058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3960720" cy="2643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6720" y="259920"/>
            <a:ext cx="3492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ntoff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530064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e mogen in de microgolf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08360" y="3227400"/>
            <a:ext cx="5138640" cy="33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140360" cy="375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00720" y="40464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jsblokjes in de vorm van een diam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86900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egobl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9108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97240" cy="338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ek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01336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zzel om wakker te worden (grrr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 je favoriete video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067280" cy="282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95640" y="76500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inderlepeltje « vliegtuig » om alles op te 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5084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ndkoffer die gromt, blaft, aanschuift in de rij en die antwoordt als het baasje ro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6192720" cy="609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72360" y="1916280"/>
            <a:ext cx="255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cc00"/>
                </a:solidFill>
                <a:latin typeface="Arial"/>
                <a:ea typeface="Arial"/>
              </a:rPr>
              <a:t>Maskers zodat het tandartsbezoek voor de kinderen leuker wor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960720" cy="2597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3159000" cy="518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2000" y="162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ooih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093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naan om het hondje mee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345440" cy="236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213000"/>
            <a:ext cx="3346200" cy="334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429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Koffi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Glas dat verkleurt naargelang de temperatuur van de inh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429000"/>
            <a:ext cx="230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t koekjesh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3664080"/>
            <a:ext cx="3600720" cy="30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3960" cy="229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673440" cy="3425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14600" cy="26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7280" y="278136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om paardje te sp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es-ze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26028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Zetels voor de arbeiders van Mich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3716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 in slaap te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4121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03640" y="4049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35640" y="5734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pinemu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9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m de dooier te scheiden van het eiw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43640" y="3500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eschermt de bh in de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535280" cy="597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535280" cy="308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582640" cy="316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9280" y="4094280"/>
            <a:ext cx="3745080" cy="2543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630864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Het grote rad, zonder uit je auto te st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28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band in de vlieghaven “roulet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42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Tafel zonder p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165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lasta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95800" y="692280"/>
            <a:ext cx="4048200" cy="187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130640" cy="453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den-t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70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bogen BBQ-ste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76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124080"/>
            <a:ext cx="4653000" cy="349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0464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Gordijnen met de schaduw van een boom, voor meer 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508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douchegordijn model “psych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Zonnescherm voor de auto, model “paperazzi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4920" cy="328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10000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Zetel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076640"/>
            <a:ext cx="30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Opgeruimd lijken ze sterk op een grote supp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08720" y="2205000"/>
            <a:ext cx="3325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 de juiste datum verwarmt de ring, om de drager eraan te herinneren dat het vandaag een speciale dag i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61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508560" cy="422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51280" y="458136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C-rolhouder met muziek, wc-papier voor Kerstmis of voor de sudoku-sp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058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19640" y="3860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924360" cy="30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27280" y="115920"/>
            <a:ext cx="388944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8360" y="2708280"/>
            <a:ext cx="4284720" cy="389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20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iginele ze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55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m ongemerkt te velde te trek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0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ubbele veldf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2:59:35Z</dcterms:created>
  <dc:creator>oscar4x4</dc:creator>
  <dc:description/>
  <dc:language>en-US</dc:language>
  <cp:lastModifiedBy>kbonte</cp:lastModifiedBy>
  <dcterms:modified xsi:type="dcterms:W3CDTF">2008-10-07T12:22:32Z</dcterms:modified>
  <cp:revision>14</cp:revision>
  <dc:subject/>
  <dc:title>iNVENTOS CURIOSOS</dc:title>
</cp:coreProperties>
</file>