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36.gif" ContentType="image/gif"/>
  <Override PartName="/ppt/media/image2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9.jpeg" ContentType="image/jpeg"/>
  <Override PartName="/ppt/media/image11.png" ContentType="image/pn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18.jpeg" ContentType="image/jpeg"/>
  <Override PartName="/ppt/media/image8.gif" ContentType="image/gif"/>
  <Override PartName="/ppt/media/image26.jpeg" ContentType="image/jpeg"/>
  <Override PartName="/ppt/media/image5.jpeg" ContentType="image/jpeg"/>
  <Override PartName="/ppt/media/image29.jpeg" ContentType="image/jpeg"/>
  <Override PartName="/ppt/media/image52.jpeg" ContentType="image/jpeg"/>
  <Override PartName="/ppt/media/image35.jpeg" ContentType="image/jpeg"/>
  <Override PartName="/ppt/media/image10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34.jpeg" ContentType="image/jpeg"/>
  <Override PartName="/ppt/media/image33.jpeg" ContentType="image/jpeg"/>
  <Override PartName="/ppt/media/image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42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7F13-C90F-4FB3-A0C2-1A038E449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B276-5E8D-4F1D-B41B-F21ED1F9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9772-B1E6-4D08-8A9B-3BCEF10E3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ECE2-2A32-4388-B7EC-8AAF26042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545A-0088-4EC5-A92B-984126F9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ABCD-437A-4BBD-A99C-DD808E7A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D257-C7B2-43F2-82BF-89A20C77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CE3C-D645-478B-BD38-AFA555AD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E42B-C3BC-417B-BB43-25EAB8AB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EEE0-809F-4AC7-AE72-33A6021B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16FD-B1A5-4245-8384-38320F82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7FAE-A819-4305-996E-D7ACB799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8796-F477-4107-995F-915FADEC8CE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1341360"/>
            <a:ext cx="532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99"/>
                </a:solidFill>
                <a:latin typeface="Baveuse"/>
              </a:rPr>
              <a:t>UITVINDIN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797000"/>
            <a:ext cx="64008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lijf op de hoogte van de nieuwe tendensen op het gebied va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940360" y="1773360"/>
            <a:ext cx="1766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3905280" cy="5327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9640" y="57340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Super contactlij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716360" y="2924280"/>
            <a:ext cx="2695680" cy="3933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716360" y="115920"/>
            <a:ext cx="3961080" cy="2649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308720" y="3141720"/>
            <a:ext cx="18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arage “bijenkorf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63640" y="1844280"/>
            <a:ext cx="3419640" cy="27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ndtas in de vorm van je lievelingshuisd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4176720" cy="3132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39640" y="260280"/>
            <a:ext cx="43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andverwarmers,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et USB-aanslu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835280" y="4076640"/>
            <a:ext cx="3332160" cy="2498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55640" y="465300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i-fi sportscho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435640" y="2637000"/>
            <a:ext cx="3529080" cy="3387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300720" y="1700280"/>
            <a:ext cx="23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SM met nostalgische ho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64000" y="-360"/>
            <a:ext cx="3313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ed met orgasme-tel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5040000" cy="3168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068720" y="3429000"/>
            <a:ext cx="4896000" cy="3225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26920" y="5950080"/>
            <a:ext cx="309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eer-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4076280"/>
            <a:ext cx="3024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ui met tatoo-mou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44600" y="297000"/>
            <a:ext cx="2832120" cy="3708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19432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132000" y="5445000"/>
            <a:ext cx="3070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Jeans m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ptische tan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738760" cy="5905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716360" y="632880"/>
            <a:ext cx="4176720" cy="32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D met 20 genante geluiden om je buur te plagen. </a:t>
            </a:r>
            <a:br>
              <a:rPr sz="3600"/>
            </a:br>
            <a:br>
              <a:rPr sz="40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eleverd met oordopjes (voor jezelf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4000" y="3429000"/>
            <a:ext cx="3960720" cy="2643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788000" y="2060640"/>
            <a:ext cx="4109760" cy="3058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3960720" cy="26431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76720" y="259920"/>
            <a:ext cx="3492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ntoff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03640" y="5300640"/>
            <a:ext cx="35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Ze mogen in de microgolf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708360" y="3227400"/>
            <a:ext cx="5138640" cy="3340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4140360" cy="3759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00720" y="404640"/>
            <a:ext cx="37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Ijsblokjes in de vorm van een diam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4869000"/>
            <a:ext cx="381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Legoblok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2791080" cy="3047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3297240" cy="3384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771640" y="549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Wek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1280" y="5013360"/>
            <a:ext cx="33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uzzel om wakker te worden (grrr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64000" y="530064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et je favoriete videoc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716360" y="3357720"/>
            <a:ext cx="4067280" cy="2825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95640" y="765000"/>
            <a:ext cx="22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Kinderlepeltje « vliegtuig » om alles op te e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508464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ondkoffer die gromt, blaft, aanschuift in de rij en die antwoordt als het baasje roe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4036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6192720" cy="6097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372360" y="1916280"/>
            <a:ext cx="25556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cc00"/>
                </a:solidFill>
                <a:latin typeface="Arial"/>
                <a:ea typeface="Arial"/>
              </a:rPr>
              <a:t>Maskers zodat het tandartsbezoek voor de kinderen leuker word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3960720" cy="25970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435640" y="765000"/>
            <a:ext cx="3159000" cy="5185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332000" y="1628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looih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56000" y="609300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anaan om het hondje mee te 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03280" y="3048120"/>
            <a:ext cx="5079960" cy="3809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7345440" cy="2363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508720" y="3213000"/>
            <a:ext cx="3346200" cy="3346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95280" y="4292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Koffie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Glas dat verkleurt naargelang de temperatuur van de inhou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24360" y="3429000"/>
            <a:ext cx="23032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Met koekjeshou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9280" y="3664080"/>
            <a:ext cx="3600720" cy="30715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867280" y="3933720"/>
            <a:ext cx="3063960" cy="2298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3673440" cy="34257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6300720" y="189000"/>
            <a:ext cx="2514600" cy="2636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867280" y="278136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t om paardje te spe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24360" y="616572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es-ze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59280" y="26028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Zetels voor de arbeiders van Miche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35280" y="3716280"/>
            <a:ext cx="21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m in slaap te 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3313080" cy="3214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867280" y="692280"/>
            <a:ext cx="2786040" cy="2786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0920" y="4121280"/>
            <a:ext cx="2736720" cy="2736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3203640" y="4049640"/>
            <a:ext cx="2808360" cy="2808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435640" y="57340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lpinemut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89000"/>
            <a:ext cx="55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Om de dooier te scheiden van het eiw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43640" y="350028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Beschermt de bh in de w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00720" y="260280"/>
            <a:ext cx="4535280" cy="5977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500720" y="3284640"/>
            <a:ext cx="4535280" cy="30844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2582640" cy="3168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79280" y="4094280"/>
            <a:ext cx="3745080" cy="2543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427640" y="6308640"/>
            <a:ext cx="446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Het grote rad, zonder uit je auto te stapp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27640" y="2852640"/>
            <a:ext cx="46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Transportband in de vlieghaven “roulett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342900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Tafel zonder po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616572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lastaf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095800" y="692280"/>
            <a:ext cx="4048200" cy="1873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39640" y="981000"/>
            <a:ext cx="4130640" cy="45356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39640" y="57340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Laden-tr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80000" y="270828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Gebogen BBQ-ste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248360" cy="2760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211640" y="3124080"/>
            <a:ext cx="4653000" cy="3497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0" y="404640"/>
            <a:ext cx="273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Arial"/>
                <a:ea typeface="Arial"/>
              </a:rPr>
              <a:t>Gordijnen met de schaduw van een boom, voor meer r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4508640"/>
            <a:ext cx="280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Arial"/>
                <a:ea typeface="Arial"/>
              </a:rPr>
              <a:t>douchegordijn model “psych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488360" cy="571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15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Arial"/>
                <a:ea typeface="Arial"/>
              </a:rPr>
              <a:t>Zonnescherm voor de auto, model “paperazzi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427640" y="3284640"/>
            <a:ext cx="4716360" cy="3573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4920" cy="3284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003640" y="100008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03640" y="98100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"/>
              </a:rPr>
              <a:t>Zetel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4076640"/>
            <a:ext cx="3095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"/>
              </a:rPr>
              <a:t>Opgeruimd lijken ze sterk op een grote supp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508720" y="2205000"/>
            <a:ext cx="33256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 de juiste datum verwarmt de ring, om de drager eraan te herinneren dat het vandaag een speciale dag i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461016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292720" y="1268280"/>
            <a:ext cx="3508560" cy="4221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71640" y="393372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51280" y="4581360"/>
            <a:ext cx="273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C-rolhouder met muziek, wc-papier voor Kerstmis of voor de sudoku-spe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68360" y="404640"/>
            <a:ext cx="305892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219640" y="3860640"/>
            <a:ext cx="3672000" cy="2754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219640" y="549360"/>
            <a:ext cx="3924360" cy="3019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627280" y="115920"/>
            <a:ext cx="3889440" cy="217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68360" y="2708280"/>
            <a:ext cx="4284720" cy="3898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62064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riginele zet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993080" cy="6553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6021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m ongemerkt te velde te trek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71640" y="40464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Dubbele veldf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22:59:35Z</dcterms:created>
  <dc:creator>oscar4x4</dc:creator>
  <dc:description/>
  <dc:language>en-US</dc:language>
  <cp:lastModifiedBy>kbonte</cp:lastModifiedBy>
  <dcterms:modified xsi:type="dcterms:W3CDTF">2008-10-07T12:22:32Z</dcterms:modified>
  <cp:revision>14</cp:revision>
  <dc:subject/>
  <dc:title>iNVENTOS CURIOSOS</dc:title>
</cp:coreProperties>
</file>