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BAF-42AA-432D-9398-1FFD1D65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C23-04C7-45A9-BFC4-60AE30DC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039-0EC0-45C2-92DE-17CD128F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F45-11C0-4EF3-9B4C-2AE9CD45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4EE-D94B-4FA6-8ABC-7F206F44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DE5-30FD-48BD-BA19-12AE9175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951-0783-4D81-8E14-22800C9A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7AE-C344-4A46-A87C-EDBD0A2F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0E6-8833-47B2-97E0-D4462487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A5F-1A6B-4345-85D1-02CCAB7F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B7B-7C8E-4978-8205-A77DE716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F60-6106-4B49-99AE-C593EE6B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B98CE-2795-4C03-863E-5AE9FA706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8FC7B-E122-4B45-B2D2-9D5C1EE614D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6:14:27Z</dcterms:created>
  <dc:creator>최봉수</dc:creator>
  <dc:description/>
  <dc:language>en-US</dc:language>
  <cp:lastModifiedBy>군만두 맛있다</cp:lastModifiedBy>
  <dcterms:modified xsi:type="dcterms:W3CDTF">2023-07-12T04:03:09Z</dcterms:modified>
  <cp:revision>2</cp:revision>
  <dc:subject/>
  <dc:title>슬라이드 1</dc:title>
</cp:coreProperties>
</file>