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1A52-BC3F-47EE-8DF2-078221FB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411A-DB61-4F8B-AC12-3AF84AA5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09BA-6956-4E91-A0CB-FBD8BE4B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AD07-B280-4C5A-B8F2-EC77B676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973C-8483-470E-8524-F0CB702C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09B9-2468-44A9-BD0E-67017229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83C5-D9F2-43BE-9DC3-C676E5E7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0D10-34EB-4B45-AB57-6E4C59DC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636-C234-4135-9017-42F7CE7E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A91-5171-4C09-89B8-035E5DE3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700F-7554-4BD3-B169-1C034C08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2992-A2D4-48F6-9211-6287E554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8388D-1EE2-4146-9032-250E2B66B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83F17-E670-4176-8955-3E93D090FFBD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6:14:27Z</dcterms:created>
  <dc:creator>최봉수</dc:creator>
  <dc:description/>
  <dc:language>en-US</dc:language>
  <cp:lastModifiedBy>군만두 맛있다</cp:lastModifiedBy>
  <dcterms:modified xsi:type="dcterms:W3CDTF">2023-07-12T04:03:09Z</dcterms:modified>
  <cp:revision>2</cp:revision>
  <dc:subject/>
  <dc:title>슬라이드 1</dc:title>
</cp:coreProperties>
</file>