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cant%20ocells%20P.Casalsw.wav" ContentType="audio/x-wav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B33-5A03-4FED-9677-7EFE3D2B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D59-6AB3-46F7-A120-D838188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644-1FAF-48D0-A164-61ED3A99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0A8-09C0-424B-81DA-C99DD0DF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42B-3F41-4A7A-A6D8-DC727341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9F2-7372-44AA-9BB3-6675D040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B77-4DE2-4716-A313-3C8D7580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93A-B643-4D94-A37E-2E2F49C6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3EA-F871-4186-BBFB-B51B5436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B8B-C584-4DAE-B0CF-ADEED35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C7F9-5F56-47C9-AC1D-FC2DBA9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AF1-B155-48F6-9B04-C38C303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D893-A203-4657-AF8F-714ED2E1937C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audio" Target="../media/cant%20ocells%20P.Casalsw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esized_SB boir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7137000" y="130320"/>
            <a:ext cx="1690920" cy="627480"/>
          </a:xfrm>
          <a:prstGeom prst="rect">
            <a:avLst/>
          </a:prstGeom>
          <a:solidFill>
            <a:srgbClr val="ebebff"/>
          </a:solidFill>
          <a:ln w="9360">
            <a:solidFill>
              <a:srgbClr val="d9d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 Black"/>
              </a:rPr>
              <a:t>Ciclo  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500040" y="2786040"/>
            <a:ext cx="7012080" cy="18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DoMINGO 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dc0d9"/>
                </a:solidFill>
                <a:latin typeface="Arial Black"/>
              </a:rPr>
              <a:t>tiempo de NAv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dc0d9"/>
              </a:solidFill>
              <a:latin typeface="Arial Black"/>
              <a:ea typeface="Arial Black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214200" y="5572080"/>
            <a:ext cx="678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ffffff"/>
                </a:solidFill>
                <a:latin typeface="Arial"/>
              </a:rPr>
              <a:t>Escuchemos el “Cant del ocells”: ...Al ver salir la LUZ más grande   (pop catalana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8 Imagen" descr="estrella-12.gif"/>
          <p:cNvPicPr/>
          <p:nvPr/>
        </p:nvPicPr>
        <p:blipFill>
          <a:blip r:embed="rId2"/>
          <a:stretch/>
        </p:blipFill>
        <p:spPr>
          <a:xfrm>
            <a:off x="571680" y="114300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19 Imagen" descr="estrella-12.gif"/>
          <p:cNvPicPr/>
          <p:nvPr/>
        </p:nvPicPr>
        <p:blipFill>
          <a:blip r:embed="rId3"/>
          <a:stretch/>
        </p:blipFill>
        <p:spPr>
          <a:xfrm>
            <a:off x="4286160" y="4287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7" name="20 Imagen" descr="estrella-12.gif"/>
          <p:cNvPicPr/>
          <p:nvPr/>
        </p:nvPicPr>
        <p:blipFill>
          <a:blip r:embed="rId4"/>
          <a:stretch/>
        </p:blipFill>
        <p:spPr>
          <a:xfrm>
            <a:off x="1857240" y="4287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21 Imagen" descr="estrella-12.gif"/>
          <p:cNvPicPr/>
          <p:nvPr/>
        </p:nvPicPr>
        <p:blipFill>
          <a:blip r:embed="rId5"/>
          <a:stretch/>
        </p:blipFill>
        <p:spPr>
          <a:xfrm>
            <a:off x="2500200" y="642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9 Imagen" descr="GIF033.gif"/>
          <p:cNvPicPr/>
          <p:nvPr/>
        </p:nvPicPr>
        <p:blipFill>
          <a:blip r:embed="rId6"/>
          <a:stretch/>
        </p:blipFill>
        <p:spPr>
          <a:xfrm>
            <a:off x="6286680" y="1285920"/>
            <a:ext cx="2071440" cy="20718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7" name="cant%20ocells%20P.Casals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68360" y="333360"/>
            <a:ext cx="8280360" cy="69498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ía la luz verdadera que, al venir al mundo, alumbra a todo hombre. En el mundo estaba, y el mundo fue hecho por medio de Él, y el mundo no le conoció.  A lo suyo vino, y los suyos no le recibieron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95280" y="2565360"/>
            <a:ext cx="367200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es un ases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50920" y="587700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en lo ama ha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250920" y="4724280"/>
            <a:ext cx="8569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Times New Roman"/>
              </a:rPr>
              <a:t>www.entreculturas.org</a:t>
            </a:r>
            <a:br>
              <a:rPr sz="3000"/>
            </a:br>
            <a:r>
              <a:rPr b="1" lang="es-ES" sz="3000" spc="-1" strike="noStrike">
                <a:solidFill>
                  <a:srgbClr val="ffffff"/>
                </a:solidFill>
                <a:latin typeface="Times New Roman"/>
              </a:rPr>
              <a:t>Más de mil millones no tienen posibilidad de v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7" descr="DSC02290"/>
          <p:cNvPicPr/>
          <p:nvPr/>
        </p:nvPicPr>
        <p:blipFill>
          <a:blip r:embed="rId1"/>
          <a:srcRect l="0" t="14221" r="0" b="0"/>
          <a:stretch/>
        </p:blipFill>
        <p:spPr>
          <a:xfrm>
            <a:off x="4390920" y="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549360"/>
            <a:ext cx="828036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ro a todos los que le recibieron, les dio el derecho de llegar a ser hijos de Dios, es decir, a los que creen en su nombre,  que no nacieron de sangre, ni de la voluntad de la carne, ni de la voluntad del hombre, sino de Dios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5"/>
          <p:cNvGrpSpPr/>
          <p:nvPr/>
        </p:nvGrpSpPr>
        <p:grpSpPr>
          <a:xfrm>
            <a:off x="0" y="30240"/>
            <a:ext cx="8820000" cy="6827760"/>
            <a:chOff x="0" y="30240"/>
            <a:chExt cx="8820000" cy="6827760"/>
          </a:xfrm>
        </p:grpSpPr>
        <p:pic>
          <p:nvPicPr>
            <p:cNvPr id="86" name="Picture 13" descr="nensmarkw"/>
            <p:cNvPicPr/>
            <p:nvPr/>
          </p:nvPicPr>
          <p:blipFill>
            <a:blip r:embed="rId1"/>
            <a:stretch/>
          </p:blipFill>
          <p:spPr>
            <a:xfrm>
              <a:off x="0" y="30240"/>
              <a:ext cx="8820000" cy="682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14"/>
            <p:cNvSpPr/>
            <p:nvPr/>
          </p:nvSpPr>
          <p:spPr>
            <a:xfrm>
              <a:off x="3564000" y="3645000"/>
              <a:ext cx="5256000" cy="165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10"/>
          <p:cNvSpPr/>
          <p:nvPr/>
        </p:nvSpPr>
        <p:spPr>
          <a:xfrm>
            <a:off x="3643200" y="3720960"/>
            <a:ext cx="5429520" cy="7034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Todos somos Hi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643200" y="4513320"/>
            <a:ext cx="55008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Nacidos de Dios mism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39640" y="981000"/>
            <a:ext cx="8280360" cy="596052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el Verbo se hizo carne, y habitó entre nosotros, y vimos su gloria, gloria como del unigénito del Padre, lleno de gracia y de verdad.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refRuanen"/>
          <p:cNvPicPr/>
          <p:nvPr/>
        </p:nvPicPr>
        <p:blipFill>
          <a:blip r:embed="rId1"/>
          <a:stretch/>
        </p:blipFill>
        <p:spPr>
          <a:xfrm>
            <a:off x="0" y="1739880"/>
            <a:ext cx="712944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6896160" y="5643720"/>
            <a:ext cx="2176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"/>
              </a:rPr>
              <a:t>Campo de refugiad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5280" y="189000"/>
            <a:ext cx="8748720" cy="187704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Plantando su tienda entre nosotros, </a:t>
            </a:r>
            <a:br>
              <a:rPr sz="3900"/>
            </a:br>
            <a:r>
              <a:rPr b="1" lang="es-ES" sz="3900" spc="-1" strike="noStrike">
                <a:solidFill>
                  <a:srgbClr val="ffffff"/>
                </a:solidFill>
                <a:latin typeface="Arial"/>
              </a:rPr>
              <a:t>Dios es el primero de amarno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61080" y="1557360"/>
            <a:ext cx="421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os preocupan  sus tiend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826920" y="404640"/>
            <a:ext cx="7488360" cy="679860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uan dio testimonio de Él y clamó, diciendo: Éste era del que yo decía: "El que viene después de mí, es antes de mí, porque era primero que yo." 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42920" y="2143080"/>
            <a:ext cx="251928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otro es “el qui viene” después de Jesú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abracada2"/>
          <p:cNvPicPr/>
          <p:nvPr/>
        </p:nvPicPr>
        <p:blipFill>
          <a:blip r:embed="rId1"/>
          <a:stretch/>
        </p:blipFill>
        <p:spPr>
          <a:xfrm>
            <a:off x="2844720" y="2071800"/>
            <a:ext cx="6299280" cy="4846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16000" y="71280"/>
            <a:ext cx="720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Quien no ama al hermano que ve, ¿como puede decir que ama a Dios que no v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333360"/>
            <a:ext cx="8351640" cy="64947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ues de su plenitud todos hemos recibido, y gracia sobre gracia. Porque la ley fue dada por medio de Moisés; la gracia y la verdad fueron hechas realidad por medio de Jesucristo. Nadie ha visto jamás a Dios; el unigénito Dios, que está en el seno del Padre, Él le ha dado a conocer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Hereuet5w"/>
          <p:cNvPicPr/>
          <p:nvPr/>
        </p:nvPicPr>
        <p:blipFill>
          <a:blip r:embed="rId1"/>
          <a:stretch/>
        </p:blipFill>
        <p:spPr>
          <a:xfrm>
            <a:off x="1235160" y="928800"/>
            <a:ext cx="7908840" cy="5929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4200" y="1000080"/>
            <a:ext cx="280836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da a todos el ser HIJOS en su Hi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28760" y="214200"/>
            <a:ext cx="6319800" cy="62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Todos somos su Hijo Ún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636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11280" y="907920"/>
            <a:ext cx="8497800" cy="544320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noche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Nace, Hijo, en una cuev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NAVIDAD d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a Palabra eterna viene a la tierra</a:t>
            </a:r>
            <a:br>
              <a:rPr sz="2700"/>
            </a:b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de la Sagrada Familia (ciclo A):</a:t>
            </a:r>
            <a:br>
              <a:rPr sz="2700"/>
            </a:b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esús, José y Maíia han de uhir hacia Egip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Solemnidad de la Madre de Dios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Le ponen el nombre de JESÚS (Salvador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 Navidad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700" spc="-1" strike="noStrike">
                <a:solidFill>
                  <a:srgbClr val="d2d2f4"/>
                </a:solidFill>
                <a:latin typeface="Arial"/>
              </a:rPr>
              <a:t>Como el Día de Navidad meditamos la Palabra de Dios que viene al mun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Epifanía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Manifestación del REY a los pagan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Bautismo (ciclo A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Es preciso que Jesús se ponga a la hilera de los pecad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Domingo II del año (ciclo A):</a:t>
            </a: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Juan Bautista da testimonio de Jesú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11280" y="115920"/>
            <a:ext cx="85327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Jesús se revela Hijo y Señ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3643200"/>
            <a:ext cx="684360" cy="486000"/>
          </a:xfrm>
          <a:prstGeom prst="rightArrow">
            <a:avLst>
              <a:gd name="adj1" fmla="val 50000"/>
              <a:gd name="adj2" fmla="val 3520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116000" y="404640"/>
            <a:ext cx="7201080" cy="5400720"/>
          </a:xfrm>
          <a:prstGeom prst="rect">
            <a:avLst/>
          </a:prstGeom>
          <a:gradFill rotWithShape="0">
            <a:gsLst>
              <a:gs pos="0">
                <a:srgbClr val="dd4b09"/>
              </a:gs>
              <a:gs pos="100000">
                <a:srgbClr val="3a090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050920" y="1341360"/>
            <a:ext cx="547236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</a:rPr>
              <a:t>Haz, Señor, que la Navidad sea VIDA ETERNA para los hombres y mujeres de hoy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8" descr="ESTRELLA8"/>
          <p:cNvPicPr/>
          <p:nvPr/>
        </p:nvPicPr>
        <p:blipFill>
          <a:blip r:embed="rId1"/>
          <a:stretch/>
        </p:blipFill>
        <p:spPr>
          <a:xfrm>
            <a:off x="6732720" y="5013360"/>
            <a:ext cx="1584360" cy="15285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14200" y="5000760"/>
            <a:ext cx="8715600" cy="1556280"/>
          </a:xfrm>
          <a:prstGeom prst="rect">
            <a:avLst/>
          </a:prstGeom>
          <a:solidFill>
            <a:srgbClr val="000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njas de St. Benet de Montserrat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_tradnl" sz="2500" spc="-1" strike="noStrike">
                <a:solidFill>
                  <a:srgbClr val="ffffff"/>
                </a:solidFill>
                <a:latin typeface="Arial"/>
              </a:rPr>
              <a:t>stbenet@benedictinescat.com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www.benedictinescat.com/montserr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7" descr="C:\Documents and Settings\st benet\Mis documentos\Fotos\SBw.jpg"/>
          <p:cNvPicPr/>
          <p:nvPr/>
        </p:nvPicPr>
        <p:blipFill>
          <a:blip r:embed="rId1"/>
          <a:stretch/>
        </p:blipFill>
        <p:spPr>
          <a:xfrm>
            <a:off x="428760" y="5286240"/>
            <a:ext cx="1052280" cy="92880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663480" y="64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08200" y="143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58920" y="1197000"/>
            <a:ext cx="6554880" cy="2531880"/>
          </a:xfrm>
          <a:prstGeom prst="rect">
            <a:avLst/>
          </a:prstGeom>
          <a:solidFill>
            <a:srgbClr val="cccc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comentarios son del mismo apóstol Juan en su 1ª carta a los cristianos de TODO EL MUND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214280" y="4643280"/>
            <a:ext cx="6553440" cy="131292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a carta en NAVIDAD se hace Lumino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333360"/>
            <a:ext cx="8280360" cy="7301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Jn 1:1-18 En el principio existía el Verbo, y el Verbo estaba con Dios, y el Verbo era Dios. Él estaba en el principio con Dios.  Todas las cosas fueron hechas por medio de Él, y sin Él nada de lo que ha sido hecho, fue hecho. En Él estaba la vida, y la vida era la luz de los hombres.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4" descr="sb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6"/>
          <p:cNvSpPr/>
          <p:nvPr/>
        </p:nvSpPr>
        <p:spPr>
          <a:xfrm>
            <a:off x="216000" y="189000"/>
            <a:ext cx="6661080" cy="192240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l PRINCIPIO es la Palabra de Vida que se nos ha manifestado, puro regal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2357280" y="4714920"/>
            <a:ext cx="66135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anunciar la Vida que hemos  contemplado tenemos que SER D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55640" y="836640"/>
            <a:ext cx="7848720" cy="69519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 la luz brilla en las tinieblas, y las tinieblas no la comprendieron.  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6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71" descr="nencreut"/>
          <p:cNvPicPr/>
          <p:nvPr/>
        </p:nvPicPr>
        <p:blipFill>
          <a:blip r:embed="rId1"/>
          <a:stretch/>
        </p:blipFill>
        <p:spPr>
          <a:xfrm>
            <a:off x="1619280" y="755640"/>
            <a:ext cx="7489800" cy="5991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69"/>
          <p:cNvSpPr/>
          <p:nvPr/>
        </p:nvSpPr>
        <p:spPr>
          <a:xfrm>
            <a:off x="250920" y="260280"/>
            <a:ext cx="4897440" cy="131292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ios es LUZ y en El no hay oscur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70"/>
          <p:cNvSpPr/>
          <p:nvPr/>
        </p:nvSpPr>
        <p:spPr>
          <a:xfrm>
            <a:off x="214200" y="1643040"/>
            <a:ext cx="2962440" cy="37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i ayudamos a provocar tinieblas, somos mentiro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900000" y="620640"/>
            <a:ext cx="7775640" cy="6266160"/>
          </a:xfrm>
          <a:prstGeom prst="rect">
            <a:avLst/>
          </a:prstGeom>
          <a:solidFill>
            <a:srgbClr val="4d4d4d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ino al mundo un hombre enviado por Dios, cuyo nombre era Juan. Éste vino como testigo, para testificar de la luz, a fin de que todos creyeran por medio de él. No era él la luz, sino que vino para dar testimonio de la luz. 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8 Imagen" descr="gregoire4t.jpg"/>
          <p:cNvPicPr/>
          <p:nvPr/>
        </p:nvPicPr>
        <p:blipFill>
          <a:blip r:embed="rId1"/>
          <a:stretch/>
        </p:blipFill>
        <p:spPr>
          <a:xfrm>
            <a:off x="142920" y="147600"/>
            <a:ext cx="4714920" cy="635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7"/>
          <p:cNvSpPr/>
          <p:nvPr/>
        </p:nvSpPr>
        <p:spPr>
          <a:xfrm>
            <a:off x="4786200" y="2214720"/>
            <a:ext cx="4286520" cy="2531880"/>
          </a:xfrm>
          <a:prstGeom prst="rect">
            <a:avLst/>
          </a:prstGeom>
          <a:solidFill>
            <a:srgbClr val="a33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La victoria que vence al mundo es la Fe en un HOY mej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4786200" y="4857840"/>
            <a:ext cx="428796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os verdaderos profetas  han nacido de D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0"/>
          <p:cNvSpPr/>
          <p:nvPr/>
        </p:nvSpPr>
        <p:spPr>
          <a:xfrm>
            <a:off x="214200" y="4286160"/>
            <a:ext cx="29289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Gregoire (2010)</a:t>
            </a:r>
            <a:br>
              <a:rPr sz="2800"/>
            </a:b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http://www.mundonegro.com/index.php?option=com_content&amp;task=view&amp;id=109&amp;Itemid=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10 CuadroTexto"/>
          <p:cNvSpPr/>
          <p:nvPr/>
        </p:nvSpPr>
        <p:spPr>
          <a:xfrm>
            <a:off x="4929120" y="287280"/>
            <a:ext cx="4143600" cy="155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r un nuevo vídeo en nuestra web (página de “Diálogo”) en este momento de guerra en Costa de Mar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05:49:42Z</dcterms:created>
  <dc:creator>.</dc:creator>
  <dc:description/>
  <dc:language>en-US</dc:language>
  <cp:lastModifiedBy>REGINA</cp:lastModifiedBy>
  <dcterms:modified xsi:type="dcterms:W3CDTF">2010-12-26T10:58:18Z</dcterms:modified>
  <cp:revision>94</cp:revision>
  <dc:subject/>
  <dc:title>Presentación de PowerPoint</dc:title>
</cp:coreProperties>
</file>