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cant%20ocells%20P.Casalsw.wav" ContentType="audio/x-wav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3EE-A43E-4B95-8682-60E77EC2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4D1-0910-4F23-A1CA-4E9934B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3CC-DD37-4054-BD42-2CB024B1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F80-6A71-42D6-8AFD-C9E2FD7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27E-14D3-4FD9-BCA1-4D0E93F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DC3-4F7D-456C-A652-3CA1382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DB5-27F9-4313-ADAC-DCB75CD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EC2-8AAA-4B62-BC29-F111B11A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9C8-6060-4A71-B331-CA6CCE8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A22-5252-451A-BD2B-761FC64D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958-6A08-4CC7-BCD3-74D2C4B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0C0-74EF-4BC4-8497-206BD9A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EFD-9005-49C0-AFB1-6C8E3E4741B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audio" Target="../media/cant%20ocells%20P.Casalsw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esized_SB boi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7137000" y="130320"/>
            <a:ext cx="169092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500040" y="2786040"/>
            <a:ext cx="701208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DoMINGO 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14200" y="5572080"/>
            <a:ext cx="678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Escuchemos el “Cant del ocells”: ...Al ver salir la LUZ más grande   (pop catala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8 Imagen" descr="estrella-12.gif"/>
          <p:cNvPicPr/>
          <p:nvPr/>
        </p:nvPicPr>
        <p:blipFill>
          <a:blip r:embed="rId2"/>
          <a:stretch/>
        </p:blipFill>
        <p:spPr>
          <a:xfrm>
            <a:off x="571680" y="114300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19 Imagen" descr="estrella-12.gif"/>
          <p:cNvPicPr/>
          <p:nvPr/>
        </p:nvPicPr>
        <p:blipFill>
          <a:blip r:embed="rId3"/>
          <a:stretch/>
        </p:blipFill>
        <p:spPr>
          <a:xfrm>
            <a:off x="4286160" y="4287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7" name="20 Imagen" descr="estrella-12.gif"/>
          <p:cNvPicPr/>
          <p:nvPr/>
        </p:nvPicPr>
        <p:blipFill>
          <a:blip r:embed="rId4"/>
          <a:stretch/>
        </p:blipFill>
        <p:spPr>
          <a:xfrm>
            <a:off x="1857240" y="428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21 Imagen" descr="estrella-12.gif"/>
          <p:cNvPicPr/>
          <p:nvPr/>
        </p:nvPicPr>
        <p:blipFill>
          <a:blip r:embed="rId5"/>
          <a:stretch/>
        </p:blipFill>
        <p:spPr>
          <a:xfrm>
            <a:off x="2500200" y="642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9 Imagen" descr="GIF033.gif"/>
          <p:cNvPicPr/>
          <p:nvPr/>
        </p:nvPicPr>
        <p:blipFill>
          <a:blip r:embed="rId6"/>
          <a:stretch/>
        </p:blipFill>
        <p:spPr>
          <a:xfrm>
            <a:off x="6286680" y="128592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cant%20ocells%20P.Casa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68360" y="333360"/>
            <a:ext cx="8280360" cy="694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ía la luz verdadera que, al venir al mundo, alumbra a todo hombre. En el mundo estaba, y el mundo fue hecho por medio de Él, y el mundo no le conoció.  A lo suyo vino, y los suyos no le recibieron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95280" y="2565360"/>
            <a:ext cx="367200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es un ases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50920" y="5877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en lo ama ha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50920" y="47242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Times New Roman"/>
              </a:rPr>
              <a:t>www.entreculturas.org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imes New Roman"/>
              </a:rPr>
              <a:t>Más de mil millones no tienen posibilidad de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7" descr="DSC02290"/>
          <p:cNvPicPr/>
          <p:nvPr/>
        </p:nvPicPr>
        <p:blipFill>
          <a:blip r:embed="rId1"/>
          <a:srcRect l="0" t="14221" r="0" b="0"/>
          <a:stretch/>
        </p:blipFill>
        <p:spPr>
          <a:xfrm>
            <a:off x="4390920" y="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549360"/>
            <a:ext cx="828036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todos los que le recibieron, les dio el derecho de llegar a ser hijos de Dios, es decir, a los que creen en su nombre,  que no nacieron de sangre, ni de la voluntad de la carne, ni de la voluntad del hombre, sino de Dios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5"/>
          <p:cNvGrpSpPr/>
          <p:nvPr/>
        </p:nvGrpSpPr>
        <p:grpSpPr>
          <a:xfrm>
            <a:off x="0" y="30240"/>
            <a:ext cx="8820000" cy="6827760"/>
            <a:chOff x="0" y="30240"/>
            <a:chExt cx="8820000" cy="6827760"/>
          </a:xfrm>
        </p:grpSpPr>
        <p:pic>
          <p:nvPicPr>
            <p:cNvPr id="86" name="Picture 13" descr="nensmarkw"/>
            <p:cNvPicPr/>
            <p:nvPr/>
          </p:nvPicPr>
          <p:blipFill>
            <a:blip r:embed="rId1"/>
            <a:stretch/>
          </p:blipFill>
          <p:spPr>
            <a:xfrm>
              <a:off x="0" y="30240"/>
              <a:ext cx="882000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4"/>
            <p:cNvSpPr/>
            <p:nvPr/>
          </p:nvSpPr>
          <p:spPr>
            <a:xfrm>
              <a:off x="3564000" y="3645000"/>
              <a:ext cx="5256000" cy="165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0"/>
          <p:cNvSpPr/>
          <p:nvPr/>
        </p:nvSpPr>
        <p:spPr>
          <a:xfrm>
            <a:off x="3643200" y="3720960"/>
            <a:ext cx="5429520" cy="7034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somos Hi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643200" y="4513320"/>
            <a:ext cx="55008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Nacidos de Dios mism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981000"/>
            <a:ext cx="828036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Verbo se hizo carne, y habitó entre nosotros, y vimos su gloria, gloria como del unigénito del Padre, lleno de gracia y de verdad.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refRuanen"/>
          <p:cNvPicPr/>
          <p:nvPr/>
        </p:nvPicPr>
        <p:blipFill>
          <a:blip r:embed="rId1"/>
          <a:stretch/>
        </p:blipFill>
        <p:spPr>
          <a:xfrm>
            <a:off x="0" y="1739880"/>
            <a:ext cx="712944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6896160" y="5643720"/>
            <a:ext cx="2176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ampo de refugiad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5280" y="189000"/>
            <a:ext cx="8748720" cy="18770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Plantando su tienda entre nosotros, </a:t>
            </a:r>
            <a:br>
              <a:rPr sz="3900"/>
            </a:b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Dios es el primero de amarn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61080" y="1557360"/>
            <a:ext cx="421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s preocupan  sus tien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26920" y="404640"/>
            <a:ext cx="7488360" cy="6798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uan dio testimonio de Él y clamó, diciendo: Éste era del que yo decía: "El que viene después de mí, es antes de mí, porque era primero que yo."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42920" y="2143080"/>
            <a:ext cx="25192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otro es “el qui viene” después de Jesú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abracada2"/>
          <p:cNvPicPr/>
          <p:nvPr/>
        </p:nvPicPr>
        <p:blipFill>
          <a:blip r:embed="rId1"/>
          <a:stretch/>
        </p:blipFill>
        <p:spPr>
          <a:xfrm>
            <a:off x="2844720" y="2071800"/>
            <a:ext cx="6299280" cy="4846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16000" y="71280"/>
            <a:ext cx="720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que ve, ¿como puede decir que ama a Dios que no 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333360"/>
            <a:ext cx="835164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ues de su plenitud todos hemos recibido, y gracia sobre gracia. Porque la ley fue dada por medio de Moisés; la gracia y la verdad fueron hechas realidad por medio de Jesucristo. Nadie ha visto jamás a Dios; el unigénito Dios, que está en el seno del Padre, Él le ha dado a conoc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Hereuet5w"/>
          <p:cNvPicPr/>
          <p:nvPr/>
        </p:nvPicPr>
        <p:blipFill>
          <a:blip r:embed="rId1"/>
          <a:stretch/>
        </p:blipFill>
        <p:spPr>
          <a:xfrm>
            <a:off x="1235160" y="928800"/>
            <a:ext cx="7908840" cy="5929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4200" y="1000080"/>
            <a:ext cx="280836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da a todos el ser HIJOS en su Hi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28760" y="214200"/>
            <a:ext cx="63198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Todos somos su Hijo Ú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11280" y="907920"/>
            <a:ext cx="8497800" cy="544320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a Palabra eterna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A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, José y Maíia han de uhir hacia Egip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700" spc="-1" strike="noStrike">
                <a:solidFill>
                  <a:srgbClr val="d2d2f4"/>
                </a:solidFill>
                <a:latin typeface="Arial"/>
              </a:rPr>
              <a:t>Como el Día de Navidad meditamos la Palabra de Dios que viene al mun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A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Es preciso que Jesús se ponga a la hilera de los pecad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l año (ciclo A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uan Bautista da testimonio de Jesú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15920"/>
            <a:ext cx="85327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3643200"/>
            <a:ext cx="684360" cy="486000"/>
          </a:xfrm>
          <a:prstGeom prst="rightArrow">
            <a:avLst>
              <a:gd name="adj1" fmla="val 50000"/>
              <a:gd name="adj2" fmla="val 352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116000" y="404640"/>
            <a:ext cx="7201080" cy="5400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050920" y="1341360"/>
            <a:ext cx="5472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Haz, Señor, que la Navidad sea VIDA ETERNA para los hombres y mujeres de ho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ESTRELLA8"/>
          <p:cNvPicPr/>
          <p:nvPr/>
        </p:nvPicPr>
        <p:blipFill>
          <a:blip r:embed="rId1"/>
          <a:stretch/>
        </p:blipFill>
        <p:spPr>
          <a:xfrm>
            <a:off x="6732720" y="5013360"/>
            <a:ext cx="1584360" cy="15285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14200" y="5000760"/>
            <a:ext cx="8715600" cy="155628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njas de St. Benet de Montserrat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_tradnl" sz="2500" spc="-1" strike="noStrike">
                <a:solidFill>
                  <a:srgbClr val="ffffff"/>
                </a:solidFill>
                <a:latin typeface="Arial"/>
              </a:rPr>
              <a:t>stbenet@benedictinescat.com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www.benedictinescat.com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C:\Documents and Settings\st benet\Mis documentos\Fotos\SBw.jpg"/>
          <p:cNvPicPr/>
          <p:nvPr/>
        </p:nvPicPr>
        <p:blipFill>
          <a:blip r:embed="rId1"/>
          <a:stretch/>
        </p:blipFill>
        <p:spPr>
          <a:xfrm>
            <a:off x="428760" y="5286240"/>
            <a:ext cx="10522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58920" y="1197000"/>
            <a:ext cx="6554880" cy="2531880"/>
          </a:xfrm>
          <a:prstGeom prst="rect">
            <a:avLst/>
          </a:prstGeom>
          <a:solidFill>
            <a:srgbClr val="cc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comentarios son del mismo apóstol Juan en su 1ª carta a los cristianos de TODO EL MU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214280" y="4643280"/>
            <a:ext cx="6553440" cy="131292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carta en NAVIDAD se hace Lumin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333360"/>
            <a:ext cx="8280360" cy="7301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1:1-18 En el principio existía el Verbo, y el Verbo estaba con Dios, y el Verbo era Dios. Él estaba en el principio con Dios.  Todas las cosas fueron hechas por medio de Él, y sin Él nada de lo que ha sido hecho, fue hecho. En Él estaba la vida, y la vida era la luz de los hombre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4" descr="sb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6"/>
          <p:cNvSpPr/>
          <p:nvPr/>
        </p:nvSpPr>
        <p:spPr>
          <a:xfrm>
            <a:off x="216000" y="189000"/>
            <a:ext cx="666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IO es la Palabra de Vida que se nos ha manifestado, puro rega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2357280" y="4714920"/>
            <a:ext cx="66135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anunciar la Vida que hemos  contemplado tenemos que SER 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55640" y="836640"/>
            <a:ext cx="7848720" cy="6951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 luz brilla en las tinieblas, y las tinieblas no la comprendieron. 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6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71" descr="nencreut"/>
          <p:cNvPicPr/>
          <p:nvPr/>
        </p:nvPicPr>
        <p:blipFill>
          <a:blip r:embed="rId1"/>
          <a:stretch/>
        </p:blipFill>
        <p:spPr>
          <a:xfrm>
            <a:off x="1619280" y="755640"/>
            <a:ext cx="7489800" cy="5991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69"/>
          <p:cNvSpPr/>
          <p:nvPr/>
        </p:nvSpPr>
        <p:spPr>
          <a:xfrm>
            <a:off x="250920" y="260280"/>
            <a:ext cx="489744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LUZ y en El no hay oscur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70"/>
          <p:cNvSpPr/>
          <p:nvPr/>
        </p:nvSpPr>
        <p:spPr>
          <a:xfrm>
            <a:off x="214200" y="1643040"/>
            <a:ext cx="296244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yudamos a provocar tinieblas, somos mentiro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900000" y="620640"/>
            <a:ext cx="77756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no al mundo un hombre enviado por Dios, cuyo nombre era Juan. Éste vino como testigo, para testificar de la luz, a fin de que todos creyeran por medio de él. No era él la luz, sino que vino para dar testimonio de la luz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8 Imagen" descr="gregoire4t.jpg"/>
          <p:cNvPicPr/>
          <p:nvPr/>
        </p:nvPicPr>
        <p:blipFill>
          <a:blip r:embed="rId1"/>
          <a:stretch/>
        </p:blipFill>
        <p:spPr>
          <a:xfrm>
            <a:off x="142920" y="147600"/>
            <a:ext cx="4714920" cy="635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7"/>
          <p:cNvSpPr/>
          <p:nvPr/>
        </p:nvSpPr>
        <p:spPr>
          <a:xfrm>
            <a:off x="4786200" y="2214720"/>
            <a:ext cx="428652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victoria que vence al mundo es la Fe en un HOY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4786200" y="4857840"/>
            <a:ext cx="42879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verdaderos profetas  han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0"/>
          <p:cNvSpPr/>
          <p:nvPr/>
        </p:nvSpPr>
        <p:spPr>
          <a:xfrm>
            <a:off x="214200" y="4286160"/>
            <a:ext cx="2928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Gregoire (2010)</a:t>
            </a:r>
            <a:br>
              <a:rPr sz="2800"/>
            </a:b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http://www.mundonegro.com/index.php?option=com_content&amp;task=view&amp;id=109&amp;Itemid=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10 CuadroTexto"/>
          <p:cNvSpPr/>
          <p:nvPr/>
        </p:nvSpPr>
        <p:spPr>
          <a:xfrm>
            <a:off x="4929120" y="287280"/>
            <a:ext cx="41436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r un nuevo vídeo en nuestra web (página de “Diálogo”) en este momento de guerra en Costa de Ma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5:49:42Z</dcterms:created>
  <dc:creator>.</dc:creator>
  <dc:description/>
  <dc:language>en-US</dc:language>
  <cp:lastModifiedBy>REGINA</cp:lastModifiedBy>
  <dcterms:modified xsi:type="dcterms:W3CDTF">2010-12-26T10:58:18Z</dcterms:modified>
  <cp:revision>94</cp:revision>
  <dc:subject/>
  <dc:title>Presentación de PowerPoint</dc:title>
</cp:coreProperties>
</file>