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049-538D-401A-83BB-B5D85038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414-26C2-499F-A5CD-41B8D39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3CD-DCFE-4901-9C96-740D17E9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869-83FB-441D-AC2B-52821530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C86-D045-4079-840A-5C3BAC54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72BA-B660-4383-B7CF-853AEC14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C88D-ECCB-401A-9C78-83923C25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E39A-1F6A-4210-9C85-98E873B3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B86-77F2-45E4-9DCC-E030CD6E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BC6D-10F9-45C7-90C1-65A0E4E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CD89-4D28-423F-8D28-0DBA5EE7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5C4-AA1D-40DA-B945-CDB4C12F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D67-3389-40D0-94FA-313CD89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C058-E81B-4FFE-80FE-0966F632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B76-700F-409F-A4D3-205868EA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44F9-354F-40F2-B99E-471A903D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844C-5FDB-450C-AF1C-2EAB0C7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310-E1BF-4893-9EE2-86970EE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14B-A890-46F7-82C5-7A4010D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CFE-EAFF-4733-9515-0647E481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D02-4FD6-41DD-8A56-CB47D80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20C-F06A-4FC1-9728-BC82E55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7A-2BDB-4693-8DE7-3FDD22F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8D3-955D-451F-8354-7BE1FB4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CB7-3AFF-4F2C-B6A9-1C3860B883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22A-7E80-4C45-9A16-742E90D3C9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spect réseau des ordinateu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écouverte des informatio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orithme pour rejoindre un poste distant en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sur même réseau (même adresse réseau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oie directement à l’adresse MAC, en consultant la cache AR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pdate la cache ARP au beso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N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oie à la passer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’update pas le ARP, car ne concerne pas le réseau loc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col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2420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91132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67080" y="250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 protocole utilisé est TCP/IP pour les communications sur l’Interne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102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On accède à sa configuration en cliquant avec le bouton de droite sur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voisinage réseau (networking neibhorhood) 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puis sur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propriétés (properties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14408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col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12264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24280" y="3905280"/>
            <a:ext cx="4114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 double-cliquant sur TCP/IP, on obtient cette fenêtre. Sous l’onglet Adresse IP est spécifié l’adresse du poste. L’adresse peut être entrée manuellement ou obtenu automatiquement par le protocole DHC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45736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’adresse IP sert à désigner de manière unique une machine sur un rése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ssere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3260880" cy="3581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52880" y="240984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a passerelle (routeur par défaut) est l’équipement permettant de communiquer avec les autres réseaux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7721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asserelle (Gateway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e trouve son adresse IP. Il peut avoir plus d’une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06812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86280" cy="327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52880" y="240984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Un serveur DNS (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Domain Name Resolution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) fait la résolution nom de domaine –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Exemple : www.uqam.ca = 132.208.250.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8481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Configuration DNS, on a une ou plusieurs adresses IP de serveurs D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103560" cy="3124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239544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Le serveur WINS (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Windows Internet Naming Service) 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fait la résolution nom de machine roulant sous Windows –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529160"/>
            <a:ext cx="373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Configuration WINS, on a une ou plusieurs adresses IP de serveurs WI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andes réseau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winipcfg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(ipconfig /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a configuration IP de la carte résea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arp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associations adresse MAC – adresse I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ping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adresse_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Vérifie la connexion réseau de la machine ayant l’adresse IP spécifiée en paramèt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tracert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nom_domaine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adresse_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a route pour se rendre à la destination spécifiée en paramèt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Tracert –d adresse_ip : plus rapide (ne résout pas les noms d’hô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Commande « </a:t>
            </a:r>
            <a:r>
              <a:rPr b="0" i="1" lang="fr-CA" sz="3600" spc="-1" strike="noStrike">
                <a:solidFill>
                  <a:srgbClr val="006666"/>
                </a:solidFill>
                <a:latin typeface="Arial"/>
              </a:rPr>
              <a:t>netstat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Affiche les statistiques de protocole et les connexions réseau TCP/IP coura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(sans paramèt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Proto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 : Nom du protocole utilisé par la connex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dresse locale : Adresse IP du système local et numéro de port utilisé par la connex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dresse extérieure : Adresse IP du système distant et numéro de port utilisé par la connex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État : indique l'état des connexions TCP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99180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Exemple « netstat 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514600"/>
            <a:ext cx="87631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:\&gt;netst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onnexions activ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Proto  Adresse locale         Adresse extérieure     Et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026       localhost:1033       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033       localhost:1026       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nbsession  M940_17:1991           DERNIER_AC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366       cahier.si.uqam.ca:pop3  TEMPS D'ATT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367       cahier.si.uqam.ca:pop3  TEMPS D'ATT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4951       newell.infolabs.uqam.ca:nbsession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103932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</a:rPr>
              <a:t>Commande « netstat –r 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676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iche le contenu de la table de rou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ination réseau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que réseau…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passerelle : adresse du routeur par laquelle le message doit transi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interface : interface local par laquelle le message doit être envoy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trique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éseau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ement d’ordinateurs qui communiquent directement ensemble, sans intermédiai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 ordinateurs au delà d’une passerelle sont à l’extérieur du réseau lo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Exemple « netstat -r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255760"/>
            <a:ext cx="86108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:\&gt;netstat -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Itinéraires actifs 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Destination réseau    Masque réseau    Adr. passerelle   Adr. interface       Métri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0.0.0.0             0.0.0.0                 132.208.135.240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27.0.0.0           255.0.0.0             127.0.0.1              127.0.0.1          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135.0       255.255.255.0     132.208.135.85 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135.85      255.255.255.255  127.0.0.1             127.0.0.1          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255.255     255.255.255.255  132.208.135.85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224.0.0.0           224.0.0.0              132.208.135.85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255.255.255.255     255.255.255.255  132.208.135.85   132.208.135.85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     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66996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</a:rPr>
              <a:t>Autres informations disponibles avec « netstat 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Etherne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Ex: nombre d’octets envoyés et reç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des protocoles respectifs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s –p protoc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du protocole spécifié par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 protocole, 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qui peut être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tcp, udp, icmp, ou i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e de regi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utes les informations réseau se retrouvent également dans la base de regis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peut utiliser l’éditeur de la base de registre pour rechercher et modifier ces inform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Éditeur de la base de regi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2441520"/>
            <a:ext cx="5334120" cy="365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851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On peut y accéder par la commande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reged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faces réseau d’entrée/sor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Carte rése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Mod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56 Ko ou haute-vites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Câ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Au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Carte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Infrarou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et de communiquer avec d’autres ordinateurs se situant sur un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rte un port désignant le type de réseau sur lequel l’ordinateur est connect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hernet, Anneau à Jeton, etc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ée à la carte maîtres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ur Ethernet, une adresse physique unique (aussi appelée adresse MAC) est associée à la carte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sé être unique, mais peut ne pas l’être (confli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Quatre éléments importants dans le choix d’une carte réseau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réseau (ex. : Ethernet, anneau à jeton ou autre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média (ex. : câble à paires torsadées, câble coaxial ou fibre optique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bus système (ex. : PCI et ISA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a vitesse de transfe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10, 100 ou 1000 Mb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06812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e TCP/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Ensemble de composantes logicielles permettant la communication des données entre les applications et la carte résea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Sous Windows 98, plusieurs fichiers sont utilisés par la pile TCP/IP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vip.386, vtcp.386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Situé dans le répertoire «%root%»\system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èle O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438280"/>
            <a:ext cx="1614600" cy="396252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2520" y="301788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2520" y="35514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2520" y="4084560"/>
            <a:ext cx="1614600" cy="1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2520" y="461808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2520" y="51516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2520" y="58374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3440" y="251460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6760" y="3124080"/>
            <a:ext cx="162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358128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4114800"/>
            <a:ext cx="130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7880" y="4648320"/>
            <a:ext cx="96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Résea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7520" y="52578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iais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0840" y="594360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Physi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scape, Explorer,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26708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4038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tcp.386, vudp.38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487692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48640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09588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p.38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ilote carte résea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éd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figuration de la 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doit spécifier certains paramètres pour que la carte réseau puisse communiquer avec le réseau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protocole utilisé (TCP/I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’adresse réseau de l’ordinat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routeur par défa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res services optionnel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doit aussi installer le pilote spécifique à la carte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squ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2.168.0.10 / 24 : 24 premiers bits représentent le rése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Réseau: 192.168.0.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méro d’ordinateur sur le réseau: 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4:47:46Z</dcterms:created>
  <dc:creator>Sarrazin_a</dc:creator>
  <dc:description/>
  <dc:language>en-US</dc:language>
  <cp:lastModifiedBy>BOUCHERIT</cp:lastModifiedBy>
  <dcterms:modified xsi:type="dcterms:W3CDTF">2009-01-05T18:05:49Z</dcterms:modified>
  <cp:revision>55</cp:revision>
  <dc:subject/>
  <dc:title>Aspect réseau des ordinateu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6948868</vt:r8>
  </property>
  <property fmtid="{D5CDD505-2E9C-101B-9397-08002B2CF9AE}" pid="3" name="_AuthorEmail">
    <vt:lpwstr>mirna76@sympatico.ca</vt:lpwstr>
  </property>
  <property fmtid="{D5CDD505-2E9C-101B-9397-08002B2CF9AE}" pid="4" name="_AuthorEmailDisplayName">
    <vt:lpwstr>Mirna Bou Melhem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