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020-6F7F-4352-8C26-C04F739B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989-F20F-4147-9612-2A8C328F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47F-BC68-49A8-AB1D-76176187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3BBA-FF0C-442B-8025-67C9373B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2F57-2B11-484F-836D-9CEF4767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EFB8-BBAC-4100-AC17-44B98A3A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E7FD-2A33-4943-8E5A-2F542ABA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2881-EE31-49BD-990F-75E96CF3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D871-2F2F-43B5-B685-A9ED21A0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985E-0452-4E56-A7D8-03E83EC2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0841-25BC-4EC7-97A1-F6ECE641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E9F-C020-47F2-B1F8-15231285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AD79-FAD8-400B-80BC-277C1934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3016-281C-4E73-9C3D-16D9404C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2B52-37A9-4FB5-A3D0-069E809F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47BF-7EF2-4DA1-B059-D83B44ED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DAD9-1A3C-45B8-8AB5-75358C42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0FD-8E2D-4970-8394-35C394BD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126-3904-45CB-8A17-925A5260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EB8-37A3-4330-8FD5-A60B5D06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A0E8-86ED-40E9-BA2F-7FA6AFD3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CE4-8D7E-4E12-AA3F-1297010E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BF37-08CB-4461-BF0F-F36519AA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3B8-F773-4B13-9A16-AFA4F1D7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509D-F76E-4009-9356-71725731877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1B92-6B3A-443A-8526-3A11E90B854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spect réseau des ordinateur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écouverte des information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gorithme pour rejoindre un poste distant en résea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 sur même réseau (même adresse réseau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voie directement à l’adresse MAC, en consultant la cache AR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pdate la cache ARP au beso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N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voie à la passer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’update pas le ARP, car ne concerne pas le réseau loc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tocole résea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24200" y="12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911320" cy="3657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267080" y="2502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e protocole utilisé est TCP/IP pour les communications sur l’Interne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41022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On accède à sa configuration en cliquant avec le bouton de droite sur </a:t>
            </a:r>
            <a:r>
              <a:rPr b="0" i="1" lang="fr-CA" sz="2400" spc="-1" strike="noStrike">
                <a:solidFill>
                  <a:srgbClr val="003366"/>
                </a:solidFill>
                <a:latin typeface="Times New Roman"/>
              </a:rPr>
              <a:t>voisinage réseau (networking neibhorhood) </a:t>
            </a: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puis sur </a:t>
            </a:r>
            <a:r>
              <a:rPr b="0" i="1" lang="fr-CA" sz="2400" spc="-1" strike="noStrike">
                <a:solidFill>
                  <a:srgbClr val="003366"/>
                </a:solidFill>
                <a:latin typeface="Times New Roman"/>
              </a:rPr>
              <a:t>propriétés (properties</a:t>
            </a: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1144080"/>
            <a:ext cx="79246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tocole résea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9084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3122640" cy="3429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24280" y="3905280"/>
            <a:ext cx="4114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n double-cliquant sur TCP/IP, on obtient cette fenêtre. Sous l’onglet Adresse IP est spécifié l’adresse du poste. L’adresse peut être entrée manuellement ou obtenu automatiquement par le protocole DHCP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245736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’adresse IP sert à désigner de manière unique une machine sur un réseau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sserel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9084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3260880" cy="3581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952880" y="240984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a passerelle (routeur par défaut) est l’équipement permettant de communiquer avec les autres réseaux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77216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us l’onglet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Passerelle (Gateway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se trouve son adresse IP. Il peut avoir plus d’une adresse IP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1068120"/>
            <a:ext cx="79246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9084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3086280" cy="3276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952880" y="240984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Un serveur DNS (</a:t>
            </a:r>
            <a:r>
              <a:rPr b="0" i="1" lang="fr-CA" sz="2400" spc="-1" strike="noStrike">
                <a:solidFill>
                  <a:srgbClr val="003366"/>
                </a:solidFill>
                <a:latin typeface="Times New Roman"/>
              </a:rPr>
              <a:t>Domain Name Resolution</a:t>
            </a: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) fait la résolution nom de domaine – adresse IP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Exemple : www.uqam.ca = 132.208.250.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84812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us l’onglet Configuration DNS, on a une ou plusieurs adresses IP de serveurs DN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102852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9084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3103560" cy="3124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876920" y="2395440"/>
            <a:ext cx="373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Le serveur WINS (</a:t>
            </a:r>
            <a:r>
              <a:rPr b="0" i="1" lang="fr-CA" sz="2400" spc="-1" strike="noStrike">
                <a:solidFill>
                  <a:srgbClr val="003366"/>
                </a:solidFill>
                <a:latin typeface="Times New Roman"/>
              </a:rPr>
              <a:t>Windows Internet Naming Service) </a:t>
            </a: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fait la résolution nom de machine roulant sous Windows – adresse IP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4529160"/>
            <a:ext cx="3733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us l’onglet Configuration WINS, on a une ou plusieurs adresses IP de serveurs WIN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andes réseau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3366"/>
                </a:solidFill>
                <a:latin typeface="Arial"/>
              </a:rPr>
              <a:t>winipcfg</a:t>
            </a: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 (ipconfig /al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Affiche la configuration IP de la carte réseau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3366"/>
                </a:solidFill>
                <a:latin typeface="Arial"/>
              </a:rPr>
              <a:t>arp</a:t>
            </a: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fr-CA" sz="2400" spc="-1" strike="noStrike">
                <a:solidFill>
                  <a:srgbClr val="003366"/>
                </a:solidFill>
                <a:latin typeface="Arial"/>
              </a:rPr>
              <a:t>–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Affiche les associations adresse MAC – adresse IP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3366"/>
                </a:solidFill>
                <a:latin typeface="Arial"/>
              </a:rPr>
              <a:t>ping</a:t>
            </a: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fr-CA" sz="2400" spc="-1" strike="noStrike">
                <a:solidFill>
                  <a:srgbClr val="003366"/>
                </a:solidFill>
                <a:latin typeface="Arial"/>
              </a:rPr>
              <a:t>adresse_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Vérifie la connexion réseau de la machine ayant l’adresse IP spécifiée en paramètr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3366"/>
                </a:solidFill>
                <a:latin typeface="Arial"/>
              </a:rPr>
              <a:t>tracert</a:t>
            </a: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fr-CA" sz="2400" spc="-1" strike="noStrike">
                <a:solidFill>
                  <a:srgbClr val="003366"/>
                </a:solidFill>
                <a:latin typeface="Arial"/>
              </a:rPr>
              <a:t>nom_domaine</a:t>
            </a: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 ou </a:t>
            </a:r>
            <a:r>
              <a:rPr b="0" i="1" lang="fr-CA" sz="2400" spc="-1" strike="noStrike">
                <a:solidFill>
                  <a:srgbClr val="003366"/>
                </a:solidFill>
                <a:latin typeface="Arial"/>
              </a:rPr>
              <a:t>adresse_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Affiche la route pour se rendre à la destination spécifiée en paramètr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Tracert –d adresse_ip : plus rapide (ne résout pas les noms d’hô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102852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Commande « </a:t>
            </a:r>
            <a:r>
              <a:rPr b="0" i="1" lang="fr-CA" sz="3600" spc="-1" strike="noStrike">
                <a:solidFill>
                  <a:srgbClr val="006666"/>
                </a:solidFill>
                <a:latin typeface="Arial"/>
              </a:rPr>
              <a:t>netstat 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Affiche les statistiques de protocole et les connexions réseau TCP/IP couran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3366"/>
                </a:solidFill>
                <a:latin typeface="Arial"/>
              </a:rPr>
              <a:t>netstat </a:t>
            </a: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 (sans paramèt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3366"/>
                </a:solidFill>
                <a:latin typeface="Arial"/>
              </a:rPr>
              <a:t>Proto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 : Nom du protocole utilisé par la connex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Adresse locale : Adresse IP du système local et numéro de port utilisé par la connex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Adresse extérieure : Adresse IP du système distant et numéro de port utilisé par la connex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État : indique l'état des connexions TCP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991800"/>
            <a:ext cx="79246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Exemple « netstat 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514600"/>
            <a:ext cx="87631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C:\&gt;netsta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Connexions activ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Proto  Adresse locale         Adresse extérieure     Eta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TCP    laboinfo-06:1026       localhost:1033         ETABLI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TCP    laboinfo-06:1033       localhost:1026         ETABLI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TCP    laboinfo-06:nbsession  M940_17:1991           DERNIER_AC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TCP    laboinfo-06:1366       cahier.si.uqam.ca:pop3  TEMPS D'ATTEN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TCP    laboinfo-06:1367       cahier.si.uqam.ca:pop3  TEMPS D'ATTEN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TCP    laboinfo-06:4951       newell.infolabs.uqam.ca:nbsession  ETABLI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103932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</a:rPr>
              <a:t>Commande « netstat –r 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6762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ffiche le contenu de la table de rout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tination réseau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sque réseau…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resse passerelle : adresse du routeur par laquelle le message doit transi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resse interface : interface local par laquelle le message doit être envoyé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étrique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éseau loc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upement d’ordinateurs qui communiquent directement ensemble, sans intermédiai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s ordinateurs au delà d’une passerelle sont à l’extérieur du réseau loc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Exemple « netstat -r 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255760"/>
            <a:ext cx="86108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C:\&gt;netstat -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Itinéraires actifs 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Destination réseau    Masque réseau    Adr. passerelle   Adr. interface       Métriqu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0.0.0.0             0.0.0.0                 132.208.135.240  132.208.135.85      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127.0.0.0           255.0.0.0             127.0.0.1              127.0.0.1                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132.208.135.0       255.255.255.0     132.208.135.85    132.208.135.85      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132.208.135.85      255.255.255.255  127.0.0.1             127.0.0.1                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132.208.255.255     255.255.255.255  132.208.135.85   132.208.135.85      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224.0.0.0           224.0.0.0              132.208.135.85   132.208.135.85       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003366"/>
                </a:solidFill>
                <a:latin typeface="Times New Roman"/>
              </a:rPr>
              <a:t>255.255.255.255     255.255.255.255  132.208.135.85   132.208.135.85</a:t>
            </a: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      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66996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6666"/>
                </a:solidFill>
                <a:latin typeface="Arial"/>
              </a:rPr>
              <a:t>Autres informations disponibles avec « netstat 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3366"/>
                </a:solidFill>
                <a:latin typeface="Arial"/>
              </a:rPr>
              <a:t>netstat </a:t>
            </a:r>
            <a:r>
              <a:rPr b="0" i="1" lang="fr-CA" sz="2400" spc="-1" strike="noStrike">
                <a:solidFill>
                  <a:srgbClr val="003366"/>
                </a:solidFill>
                <a:latin typeface="Arial"/>
              </a:rPr>
              <a:t>–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Affiche les statistiques Etherne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66"/>
                </a:solidFill>
                <a:latin typeface="Arial"/>
              </a:rPr>
              <a:t>Ex: nombre d’octets envoyés et reçu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3366"/>
                </a:solidFill>
                <a:latin typeface="Arial"/>
              </a:rPr>
              <a:t>netstat </a:t>
            </a:r>
            <a:r>
              <a:rPr b="0" i="1" lang="fr-CA" sz="2400" spc="-1" strike="noStrike">
                <a:solidFill>
                  <a:srgbClr val="003366"/>
                </a:solidFill>
                <a:latin typeface="Arial"/>
              </a:rPr>
              <a:t>–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Affiche les statistiques des protocoles respectifs</a:t>
            </a:r>
            <a:r>
              <a:rPr b="0" i="1" lang="fr-CA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3366"/>
                </a:solidFill>
                <a:latin typeface="Arial"/>
              </a:rPr>
              <a:t>netstat </a:t>
            </a:r>
            <a:r>
              <a:rPr b="0" i="1" lang="fr-CA" sz="2400" spc="-1" strike="noStrike">
                <a:solidFill>
                  <a:srgbClr val="003366"/>
                </a:solidFill>
                <a:latin typeface="Arial"/>
              </a:rPr>
              <a:t>–s –p protoco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Affiche les statistiques du protocole spécifié par</a:t>
            </a:r>
            <a:r>
              <a:rPr b="0" i="1" lang="fr-CA" sz="2000" spc="-1" strike="noStrike">
                <a:solidFill>
                  <a:srgbClr val="003366"/>
                </a:solidFill>
                <a:latin typeface="Arial"/>
              </a:rPr>
              <a:t> protocole, 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qui peut être </a:t>
            </a:r>
            <a:r>
              <a:rPr b="0" i="1" lang="fr-CA" sz="2000" spc="-1" strike="noStrike">
                <a:solidFill>
                  <a:srgbClr val="003366"/>
                </a:solidFill>
                <a:latin typeface="Arial"/>
              </a:rPr>
              <a:t>tcp, udp, icmp, ou ip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e de regist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utes les informations réseau se retrouvent également dans la base de regist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peut utiliser l’éditeur de la base de registre pour rechercher et modifier ces informa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Éditeur de la base de regist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14400" y="2441520"/>
            <a:ext cx="5334120" cy="3654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400800" y="2851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On peut y accéder par la commande </a:t>
            </a:r>
            <a:r>
              <a:rPr b="0" i="1" lang="fr-CA" sz="2400" spc="-1" strike="noStrike">
                <a:solidFill>
                  <a:srgbClr val="003366"/>
                </a:solidFill>
                <a:latin typeface="Times New Roman"/>
              </a:rPr>
              <a:t>regedi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faces réseau d’entrée/sort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Carte résea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Mod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56 Ko ou haute-vites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Câ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Aut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Carte </a:t>
            </a:r>
            <a:r>
              <a:rPr b="0" i="1" lang="fr-CA" sz="2400" spc="-1" strike="noStrike">
                <a:solidFill>
                  <a:srgbClr val="003366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Infrarou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102852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te Résea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met de communiquer avec d’autres ordinateurs se situant sur un résea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orte un port désignant le type de réseau sur lequel l’ordinateur est connecté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thernet, Anneau à Jeton, etc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nectée à la carte maîtress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ur Ethernet, une adresse physique unique (aussi appelée adresse MAC) est associée à la carte résea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pposé être unique, mais peut ne pas l’être (conflit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102852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te Résea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Quatre éléments importants dans le choix d’une carte réseau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le type de réseau (ex. : Ethernet, anneau à jeton ou autre)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le type de média (ex. : câble à paires torsadées, câble coaxial ou fibre optique)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le type de bus système (ex. : PCI et ISA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La vitesse de transfer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10, 100 ou 1000 Mbp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1068120"/>
            <a:ext cx="79246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ile TCP/I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Ensemble de composantes logicielles permettant la communication des données entre les applications et la carte résea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Sous Windows 98, plusieurs fichiers sont utilisés par la pile TCP/IP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vip.386, vtcp.386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Situé dans le répertoire «%root%»\system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èle OS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438280"/>
            <a:ext cx="1614600" cy="396252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2520" y="3017880"/>
            <a:ext cx="1614600" cy="14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82520" y="3551400"/>
            <a:ext cx="1614600" cy="14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82520" y="4084560"/>
            <a:ext cx="1614600" cy="18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2520" y="4618080"/>
            <a:ext cx="1614600" cy="14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82520" y="5151600"/>
            <a:ext cx="1614600" cy="14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82520" y="5837400"/>
            <a:ext cx="1614600" cy="14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3440" y="2514600"/>
            <a:ext cx="1459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86760" y="3124080"/>
            <a:ext cx="1622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Présent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3120" y="358128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Sess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0480" y="4114800"/>
            <a:ext cx="1303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7880" y="4648320"/>
            <a:ext cx="963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Réseau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7520" y="5257800"/>
            <a:ext cx="99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Liais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0840" y="594360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Physiqu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743200"/>
            <a:ext cx="236196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24382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etscape, Explorer, 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267080"/>
            <a:ext cx="236196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4038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tcp.386, vudp.38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4876920"/>
            <a:ext cx="236196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5486400"/>
            <a:ext cx="236196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6095880"/>
            <a:ext cx="236196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4648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ip.38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257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ilote carte réseau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5867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éd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figuration de la carte résea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doit spécifier certains paramètres pour que la carte réseau puisse communiquer avec le réseau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 protocole utilisé (TCP/I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’adresse réseau de l’ordinateu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 routeur par défau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res services optionnels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doit aussi installer le pilote spécifique à la carte résea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sque Résea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92.168.0.10 / 24 : 24 premiers bits représentent le résea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resse Réseau: 192.168.0.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uméro d’ordinateur sur le réseau: 1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14:47:46Z</dcterms:created>
  <dc:creator>Sarrazin_a</dc:creator>
  <dc:description/>
  <dc:language>en-US</dc:language>
  <cp:lastModifiedBy>BOUCHERIT</cp:lastModifiedBy>
  <dcterms:modified xsi:type="dcterms:W3CDTF">2009-01-05T18:05:49Z</dcterms:modified>
  <cp:revision>55</cp:revision>
  <dc:subject/>
  <dc:title>Aspect réseau des ordinateu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06948868</vt:r8>
  </property>
  <property fmtid="{D5CDD505-2E9C-101B-9397-08002B2CF9AE}" pid="3" name="_AuthorEmail">
    <vt:lpwstr>mirna76@sympatico.ca</vt:lpwstr>
  </property>
  <property fmtid="{D5CDD505-2E9C-101B-9397-08002B2CF9AE}" pid="4" name="_AuthorEmailDisplayName">
    <vt:lpwstr>Mirna Bou Melhem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