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F5A-CA54-48F7-A191-A44B1C04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C10-5047-4851-9274-844D8CFF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AA1-046D-4200-94D0-DDDCFFAD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DDC-CF53-4AC7-8F44-65F6AFD2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5CA-5A52-4CA8-95E0-986C116E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DF8-A92B-4075-A109-FF7DF9EB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819-ED48-4ABC-8AFA-3DFCBC6E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A1E-3DE1-4178-8941-FC75F1B2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E53-A1C1-4085-845C-AAED9686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0CC-AE66-4960-A47A-B5FA67DC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749-B28E-400F-9E54-5223441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89F-D6BD-4AF7-B0BD-DD3D28C1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C5CC-F5C5-44D2-8906-20A5A628F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219320"/>
          <a:ext cx="8839440" cy="225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883944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457200"/>
          <a:ext cx="868680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8680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90720"/>
          <a:ext cx="8686800" cy="198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2280" y="762120"/>
          <a:ext cx="8839440" cy="19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9480" y="123840"/>
          <a:ext cx="784872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3840"/>
                    <a:ext cx="784872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8600" y="609480"/>
          <a:ext cx="8686800" cy="42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868680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280" y="536400"/>
          <a:ext cx="8804520" cy="499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6400"/>
                    <a:ext cx="8804520" cy="49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560600" y="152280"/>
          <a:ext cx="5602320" cy="655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152280"/>
                    <a:ext cx="560232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1200" y="835200"/>
          <a:ext cx="8593200" cy="19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835200"/>
                    <a:ext cx="85932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533520"/>
          <a:ext cx="883944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8394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452600" y="228600"/>
          <a:ext cx="586260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228600"/>
                    <a:ext cx="58626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914400"/>
          <a:ext cx="8763120" cy="30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631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362240" y="152280"/>
          <a:ext cx="625788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52280"/>
                    <a:ext cx="62578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280" y="533520"/>
          <a:ext cx="8763120" cy="175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763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57200" y="380880"/>
          <a:ext cx="815328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15328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04920" y="914400"/>
          <a:ext cx="8610480" cy="24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61048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2120" y="396720"/>
          <a:ext cx="8001000" cy="638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720"/>
                    <a:ext cx="8001000" cy="638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2280" y="609480"/>
          <a:ext cx="8763120" cy="43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76312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533520"/>
          <a:ext cx="8915400" cy="404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915400" cy="40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762120"/>
          <a:ext cx="8686800" cy="38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68680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304920"/>
          <a:ext cx="8763120" cy="454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76312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6960" y="318960"/>
          <a:ext cx="7900920" cy="63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318960"/>
                    <a:ext cx="7900920" cy="63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2:39:53Z</dcterms:created>
  <dc:creator>Bambang Murdoko EJ</dc:creator>
  <dc:description/>
  <dc:language>en-US</dc:language>
  <cp:lastModifiedBy>Bambang Murdoko2</cp:lastModifiedBy>
  <dcterms:modified xsi:type="dcterms:W3CDTF">2012-10-07T04:37:53Z</dcterms:modified>
  <cp:revision>10</cp:revision>
  <dc:subject/>
  <dc:title>Slide 1</dc:title>
</cp:coreProperties>
</file>