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B198-E081-44AA-85B5-168C358F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48A8-9334-4AC9-A233-5D50D342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54F3-8557-4475-A976-84E59CD1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72BA-6A1B-4DA2-92D2-24F14EC7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3BB-2C2D-4188-83D4-9C02839C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790-DF8A-47FC-8563-071BFC14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7CD-7046-457B-AD1E-5E01F43C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ABB-02DF-4F30-A1E0-3E890883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73E3-8083-4B98-9E06-B7524D21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3B6E-3912-4ADC-8ECA-9E5EA45B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4A0-A109-42AB-96E2-DE0AD770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3467-8853-4452-809E-7B26CB45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B2F7-8740-4FA1-AE2E-21075037D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280" y="1219320"/>
          <a:ext cx="8839440" cy="225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19320"/>
                    <a:ext cx="883944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28600" y="457200"/>
          <a:ext cx="868680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868680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90720"/>
          <a:ext cx="8686800" cy="198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6868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52280" y="762120"/>
          <a:ext cx="8839440" cy="199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83944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09480" y="123840"/>
          <a:ext cx="7848720" cy="664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3840"/>
                    <a:ext cx="7848720" cy="66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28600" y="609480"/>
          <a:ext cx="8686800" cy="42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8686800" cy="42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52280" y="536400"/>
          <a:ext cx="8804520" cy="499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6400"/>
                    <a:ext cx="8804520" cy="49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560600" y="152280"/>
          <a:ext cx="5602320" cy="655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0600" y="152280"/>
                    <a:ext cx="560232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41200" y="835200"/>
          <a:ext cx="8593200" cy="196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200" y="835200"/>
                    <a:ext cx="85932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52280" y="533520"/>
          <a:ext cx="8839440" cy="201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883944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452600" y="228600"/>
          <a:ext cx="5862600" cy="647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228600"/>
                    <a:ext cx="58626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8600" y="914400"/>
          <a:ext cx="8763120" cy="30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631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362240" y="152280"/>
          <a:ext cx="6257880" cy="647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152280"/>
                    <a:ext cx="625788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52280" y="533520"/>
          <a:ext cx="8763120" cy="175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87631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457200" y="380880"/>
          <a:ext cx="8153280" cy="60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15328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04920" y="914400"/>
          <a:ext cx="8610480" cy="246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61048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62120" y="396720"/>
          <a:ext cx="8001000" cy="638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6720"/>
                    <a:ext cx="8001000" cy="638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52280" y="609480"/>
          <a:ext cx="8763120" cy="43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8763120" cy="43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533520"/>
          <a:ext cx="8915400" cy="404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8915400" cy="40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04920" y="762120"/>
          <a:ext cx="8686800" cy="388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8686800" cy="38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28600" y="304920"/>
          <a:ext cx="8763120" cy="454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76312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96960" y="318960"/>
          <a:ext cx="7900920" cy="63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318960"/>
                    <a:ext cx="7900920" cy="63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2:39:53Z</dcterms:created>
  <dc:creator>Bambang Murdoko EJ</dc:creator>
  <dc:description/>
  <dc:language>en-US</dc:language>
  <cp:lastModifiedBy>Bambang Murdoko2</cp:lastModifiedBy>
  <dcterms:modified xsi:type="dcterms:W3CDTF">2012-10-07T04:37:53Z</dcterms:modified>
  <cp:revision>10</cp:revision>
  <dc:subject/>
  <dc:title>Slide 1</dc:title>
</cp:coreProperties>
</file>