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7D8-3035-47B3-8BA4-80036BE8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4A2-473C-41BE-9815-B854DF31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58A-65F6-421A-AFE2-3CFDA79B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EDE-45D0-46EE-B150-31322D35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C00-C1C8-470D-840A-4DECA28A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D19-9BE2-466B-87C6-39B1A591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D1D-C0CE-4109-9513-5C08AFB4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619-771D-4931-9E3A-9589B584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E46A-9F77-47BB-9C75-0F6BF555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61B-F4C3-4BDB-9127-38E6107A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6A7-4FEC-46F1-A5BD-45E48E68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175-15FE-4156-B07A-13D77B6F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D96CC-2708-445E-944E-B37988960A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73433-3ADA-499D-BC58-2621CA46F75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5:03:28Z</dcterms:created>
  <dc:creator>최봉수</dc:creator>
  <dc:description/>
  <dc:language>en-US</dc:language>
  <cp:lastModifiedBy>맛있다 군만두</cp:lastModifiedBy>
  <dcterms:modified xsi:type="dcterms:W3CDTF">2024-09-24T08:21:01Z</dcterms:modified>
  <cp:revision>3</cp:revision>
  <dc:subject/>
  <dc:title>슬라이드 1</dc:title>
</cp:coreProperties>
</file>