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5AC-2C96-48CA-9B06-3ACA336D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FFE-0E79-4CA3-B052-6736A07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927-8688-4F65-851B-867E6B64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51D-286E-4FE0-A4CD-686A4794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7C7-754A-4924-9165-87AB0BE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135-1017-4110-91F6-23A71B8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D12-32AE-4517-9462-85492ABA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B64-78FD-4C04-8C92-9E609BC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A1E-3006-47D1-AF44-E09FB7B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04E-13E0-4DA0-9644-731BACA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1FF-3999-42F5-88DD-DB6BC56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A26-4DA7-4EB1-A7AB-93ABD8A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FEBD8-C7D6-49D3-9D47-C93A976234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75E3F-5F7C-4830-B171-5E4A474CAF6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5:03:28Z</dcterms:created>
  <dc:creator>최봉수</dc:creator>
  <dc:description/>
  <dc:language>en-US</dc:language>
  <cp:lastModifiedBy>맛있다 군만두</cp:lastModifiedBy>
  <dcterms:modified xsi:type="dcterms:W3CDTF">2024-09-24T08:21:01Z</dcterms:modified>
  <cp:revision>3</cp:revision>
  <dc:subject/>
  <dc:title>슬라이드 1</dc:title>
</cp:coreProperties>
</file>