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Jan%20Tromp%20-%20Het%20Angelus(1954)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C1B-AC52-4348-B6B6-49AC6BE7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1ED-ACF6-4965-8176-BB8E62BF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0DC-00B2-45AD-9757-B22978EB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C3D-39B8-4DBD-8E2E-E56D7F40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61D-3EBB-4EB4-8BD9-E0AE964F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DAB-BB95-4FF5-B937-94907DE3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F2F-CCB6-492B-AA17-1A0E98D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7A7-3FA5-4A79-B388-6217C2D0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017-AA98-4139-BAF9-D55929A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F0B-E05D-40AB-B505-2B2ECEB2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1B5-3ECA-4F26-AB55-62652A5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64B-D678-4940-8700-36D8AA3E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C7B3-A9F1-4907-ADC7-50A704B4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n%20Tromp%20-%20Het%20Angelus(1954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404640"/>
            <a:ext cx="51721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oetjes van Eugè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diamond/>
    <p:sndAc>
      <p:stSnd>
        <p:snd r:embed="rId2" name="Jan%20Tromp%20-%20Het%20Angelus(1954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2:14:33Z</dcterms:created>
  <dc:creator>eugene</dc:creator>
  <dc:description/>
  <dc:language>en-US</dc:language>
  <cp:lastModifiedBy>Smets</cp:lastModifiedBy>
  <dcterms:modified xsi:type="dcterms:W3CDTF">2008-09-13T07:36:26Z</dcterms:modified>
  <cp:revision>4</cp:revision>
  <dc:subject/>
  <dc:title>Dia 1</dc:title>
</cp:coreProperties>
</file>