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Jan%20Tromp%20-%20Het%20Angelus(1954).wav" ContentType="audio/x-wav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D8C-E9BA-4A34-9BA9-B17CBE3A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EC7-E2AA-40AC-9972-70E96666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A56-D0B0-4050-BF3D-032BEDE2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0A53-7219-4A83-8547-5C27960A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0B4-2745-4E99-8C79-33F2EC7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133-2E5E-4B24-B65B-7FCB6626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C18-1097-46CE-8374-0111B10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099-0D78-4FAC-81B5-05414954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6AB-FF70-4176-B845-CE655C09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C2D-75EC-4F7C-BA54-DB3672A0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A5A-EC7E-4A54-BE9F-0E85CE0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CB5-074E-41A6-89CB-69C03CEA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7A5-B98A-47A2-86A8-98F7AE1A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an%20Tromp%20-%20Het%20Angelus(1954)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79280" y="404640"/>
            <a:ext cx="517212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oetjes van Eugè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diamond/>
    <p:sndAc>
      <p:stSnd>
        <p:snd r:embed="rId2" name="Jan%20Tromp%20-%20Het%20Angelus(1954)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90800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2:14:33Z</dcterms:created>
  <dc:creator>eugene</dc:creator>
  <dc:description/>
  <dc:language>en-US</dc:language>
  <cp:lastModifiedBy>Smets</cp:lastModifiedBy>
  <dcterms:modified xsi:type="dcterms:W3CDTF">2008-09-13T07:36:26Z</dcterms:modified>
  <cp:revision>4</cp:revision>
  <dc:subject/>
  <dc:title>Dia 1</dc:title>
</cp:coreProperties>
</file>