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E34-D6D6-469B-93B9-F209C250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8ED-3E12-4392-86B1-5F129E19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40B-E8D3-4B08-9612-C911134E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738-63F3-4F4B-B1F9-305B4FAB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5E4-2E23-4CFE-9481-5214D15C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370-4017-4413-A257-1FEA1B4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04C-1CBF-45E0-A7BE-B0B68F7B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D2E-5D98-4FDC-8327-5EFE288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EAB-05E1-403F-A716-96FDD08B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C51-261D-401B-8F43-4347E4F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B7E-E8E0-4C82-9596-DBEBEB3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AB4-1FF2-4060-965B-F523E9E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E55-E379-40CF-83A1-93376C308C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MATIKA PENULISAN LAPOR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IATAN KESEHATAN MASYARAKAT DI D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571400"/>
            <a:ext cx="87138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d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PORAN HASIL KEGI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SEHATAN MASYARA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 RW I KELURAHAN NGADIR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CAMATAN MIJ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KOTA SEMAR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 III. GAMBARAN UMUM KONDISI DESA NGADIR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 Gambaran Kependudu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Distribusi penduduk  menurut kelompok Um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Distribusi penduduk  menurut tingkat pendidi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Distribusi penduduk menurut mata pencaha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st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Gambaran Status Keseha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lahi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saki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Kemat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Gambaran Pelayanan Keseh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Gambaran Perilaku (PH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Gambaran Lingkung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B IV: ANALISIS MASALAH DAN UPAYA PEMECAHANNY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Identifikasi masala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isis data Status keseha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Prioritas masalah (H Kualitat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Kriteria Urgen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Kriteria Serious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riteria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Skala prioritas masala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. Analisis penyebab masal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nalisis HL Blu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. Alternatif pemecahan masala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 Kegiatan-kegiatan alternatif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. Pengambilan keputusan (MM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. Rencana Kegiatan (PO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. Hasil Kegiat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 V: PENU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Kesimpu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aran-sa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TAR PUS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MPIRAN (Kuestioner, dll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o Univers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usun ole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Kelompok ……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a-nama                    No m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………………                   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KULTAS KESEHATAN MASYARA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MUS - SEMAR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2 /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AMAN PENGESA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poran hasil kegiatan kesehatan masyarakat di desa Ngadirego Kecamatan Mijen - Kota Semarang, telah diseminarkan dan disetujui tim penguji, guna melengkapi  tugas PBL. Fakultas Kesehatan Masyarakat Universitas Muhammadiyah Semara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arang, 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Ringka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hkan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 Penguji                                        Dosen Pembimbing (DP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…………………                                      (…………………………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getah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kan FKM-UNIM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…………………..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j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A  PENGAN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marang,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FTAR 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aman judul………………………………  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aman pengesahan …………………….  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kasan…………………………………..  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a Pengantar ……………………………  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isi ……………………………………  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tabel  ……………………………….    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gambar ……………………………..   v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ftar lampiran…………………………….   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 I  PENDAHUL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Latar belak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uj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Manf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Metodologi pengumpula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b II. Tinjauan Pus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Teori PM-P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Teori HL B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Teori IK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Teori berkaitan dengan kasus(garis bes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1:41:48Z</dcterms:created>
  <dc:creator>Erny Poedjirahajoe</dc:creator>
  <dc:description/>
  <dc:language>en-US</dc:language>
  <cp:lastModifiedBy>Joe_By-Bay</cp:lastModifiedBy>
  <dcterms:modified xsi:type="dcterms:W3CDTF">2013-01-11T01:41:43Z</dcterms:modified>
  <cp:revision>41</cp:revision>
  <dc:subject/>
  <dc:title>LAPORAN MANAJEMEN PUSKESMAS</dc:title>
</cp:coreProperties>
</file>