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D5C-3AF7-4D7C-95D8-B142C80D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4D1-4FCF-484D-AC22-4EAF0A57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5CD-9CBD-41D2-BCB9-19BBF0D5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B95-6B05-471C-AAFA-5EFC932B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633-E342-43AD-A721-772A2D4E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E49-59AB-4FEB-A8A6-59064D01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25E-21DF-420A-963D-E28F28A3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9C9-A762-4835-8623-698AAE0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03C-1CDC-4CC5-9DC3-C43529C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8AB-FFC0-415C-B03E-117DF52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B19-7E5C-4179-88E2-C799E97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0A8-DB9B-4E62-A80E-E3C2136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505D-5582-462B-8F91-9F93D76735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MATIKA PENULISAN LAPOR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GIATAN KESEHATAN MASYARAKAT DI D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571400"/>
            <a:ext cx="87138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d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PORAN HASIL KEGI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SEHATAN MASYARA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 RW I KELURAHAN NGADIR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CAMATAN MIJ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KOTA SEMAR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B III. GAMBARAN UMUM KONDISI DESA NGADIR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 Gambaran Kependudu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Distribusi penduduk  menurut kelompok Um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Distribusi penduduk  menurut tingkat pendidi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Distribusi penduduk menurut mata pencahar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st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Gambaran Status Keseha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Kelahi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Kesaki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Kemat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Gambaran Pelayanan Keseh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Gambaran Perilaku (PH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Gambaran Lingkung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B IV: ANALISIS MASALAH DAN UPAYA PEMECAHANNY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Identifikasi masala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isis data Status keseha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Prioritas masalah (H Kualitat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Kriteria Urgen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Kriteria Serious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riteria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Skala prioritas masala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 Analisis penyebab masala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nalisis HL Blu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. Alternatif pemecahan masala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 Kegiatan-kegiatan alternatif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. Pengambilan keputusan (MM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. Rencana Kegiatan (PO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. Hasil Kegiat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 V: PENU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Kesimpu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aran-sa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FTAR PUS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MPIRAN (Kuestioner, dll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o Univers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usun ole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Kelompok ……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a-nama                    No m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………………                   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KULTAS KESEHATAN MASYARAK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MUS - SEMAR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/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AMAN PENGESA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poran hasil kegiatan kesehatan masyarakat di desa Ngadirego Kecamatan Mijen - Kota Semarang, telah diseminarkan dan disetujui tim penguji, guna melengkapi  tugas PBL. Fakultas Kesehatan Masyarakat Universitas Muhammadiyah Semar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arang, 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Ringka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hkan ole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 Penguji                                        Dosen Pembimbing (DP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…………………                                      (…………………………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getah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kan FKM-UNIM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…………………..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A  PENGAN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arang,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FTAR 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aman judul………………………………  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aman pengesahan …………………….  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ngkasan…………………………………..  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ta Pengantar ……………………………   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isi ……………………………………  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tabel  ……………………………….    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gambar ……………………………..   v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lampiran…………………………….   v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 I  PENDAHUL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Latar belak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uj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Manf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Metodologi pengumpula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b II. Tinjauan Pus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Teori PM-P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eori HL B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Teori IK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Teori berkaitan dengan kasus(garis bes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1:41:48Z</dcterms:created>
  <dc:creator>Erny Poedjirahajoe</dc:creator>
  <dc:description/>
  <dc:language>en-US</dc:language>
  <cp:lastModifiedBy>Joe_By-Bay</cp:lastModifiedBy>
  <dcterms:modified xsi:type="dcterms:W3CDTF">2013-01-11T01:41:43Z</dcterms:modified>
  <cp:revision>41</cp:revision>
  <dc:subject/>
  <dc:title>LAPORAN MANAJEMEN PUSKESMAS</dc:title>
</cp:coreProperties>
</file>