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61A-C3A6-4305-A1C3-04F90FDC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167-AACC-4024-9F00-0D1EF03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72F-A2E7-4658-8263-8A86BE7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719-95C0-4A58-87FB-8C4F8FB9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CAE-4C55-4D3E-A0DF-C403250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7B3-E1B6-4CBB-94B8-B4AF9F5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61F-701C-4E60-B8DB-D1C9F82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C65-3A20-4FF0-84C5-00E4FB71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CB1-121E-4607-9CE2-821F9E51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66D-8B15-41AE-999A-1892192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F85-5768-431C-B39C-88B582D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90-33D4-4A9A-BEC5-EA87C82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C6BD8-DCD8-4724-80C9-AE2D6469A5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1E548-E1C8-4A3E-8B4E-D3E860827BA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14:14Z</dcterms:created>
  <dc:creator>최봉수</dc:creator>
  <dc:description/>
  <dc:language>en-US</dc:language>
  <cp:lastModifiedBy>맛있다 군만두</cp:lastModifiedBy>
  <dcterms:modified xsi:type="dcterms:W3CDTF">2024-09-24T08:21:05Z</dcterms:modified>
  <cp:revision>4</cp:revision>
  <dc:subject/>
  <dc:title>슬라이드 1</dc:title>
</cp:coreProperties>
</file>