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5FD-C6CA-4BA4-BC34-CFBAC87D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364-DF4E-472D-A88E-70BA29F8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9ED-9462-437B-B5F9-0C5CCE7C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93C-8342-4BB6-BB7E-1E51BA0D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70F-C55C-40CC-B643-6BBA99FA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F9F-EAFE-457F-B0E5-08C04A14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4B1-4A2B-4311-9E41-94491AA1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715-BD36-42AC-9CC3-8F836EE8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20D-D3EC-4449-B04F-97F5B6EE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6BA-CB82-44CC-A0F3-3B629DE1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11E-458D-4228-8A84-002CAE9F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F33-97A1-4468-955B-1E58C138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6FC03-5FC4-46CF-BE0F-353B2023CB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C0A37-3CB8-45C9-B128-66A78EEBB29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2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23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24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25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2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24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5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24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5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1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9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22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23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24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5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14:14Z</dcterms:created>
  <dc:creator>최봉수</dc:creator>
  <dc:description/>
  <dc:language>en-US</dc:language>
  <cp:lastModifiedBy>맛있다 군만두</cp:lastModifiedBy>
  <dcterms:modified xsi:type="dcterms:W3CDTF">2024-09-24T08:21:05Z</dcterms:modified>
  <cp:revision>4</cp:revision>
  <dc:subject/>
  <dc:title>슬라이드 1</dc:title>
</cp:coreProperties>
</file>