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0F4-1632-4CE1-8D27-64B46086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BBC-A0CB-41D6-BC4E-A2CFECFC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4CD1-E442-4266-B1F9-2A013F4B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17E-42CC-42C1-8A7E-D8F8DA0C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073B-36E1-4B6D-9922-2D0CD63D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9A8D-9518-486D-91D8-3A1EEB94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5827-100C-4ACC-8BD1-A0099638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3D8D-23B8-465F-B9B8-498F0C61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9208-030E-4CED-891C-48189101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E57D-B482-48DF-B676-42E777EF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3E24-215C-45E9-8C2B-8C6EC14B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6A43-6890-4F57-9304-E14F901D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57D9-3781-436A-972F-8952E6F2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BBE3-056F-4875-9F2F-D30E3112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0A3C-FC3A-4E77-BF8A-6D5566F3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749D-6174-4DBC-B03B-C504CFCA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93EB-B118-44F2-81D2-133BA47D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C7338-E7C5-441E-90F3-9895E848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2E915-8AAE-4F48-ABB1-6BED869D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EAC4E-5498-4999-88CE-724263D9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23317D-AA46-4CE8-BEE2-9CD35B41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BE8B4-142B-450D-8B9A-39A1D0BE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178-7D02-4C7F-94A2-E003E12F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00411-DF14-440B-9568-7A0B051F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A0410-4261-49D0-93AF-AADD210B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794E37-1D89-4EC6-86EF-40C4E646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997C32-049F-4D22-99A0-FE80B43C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F5223-1D63-4F26-97FF-CBD6711A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781DB-CC9D-4BBE-A729-F2318B25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F350E-9F97-4627-8A90-69DFEEEA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DC19A-A02E-4B91-8AA8-51082C06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3FC54-DCEB-47D7-8E58-60714E4D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D1C63-7A4D-4C55-9BC5-600B97A4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9491-DCEF-4DBF-991B-EF43BADE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CFDFD-23B2-42E9-90E9-F6F6D67F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4AAF6-737D-4C0D-9CEE-E3AA85CD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1C8B8-01D6-42B2-ABE8-C39C36B6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60A87-6961-4C5C-AAA1-E9932075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7581C-FF01-4BBB-B41F-A45941B5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8FA89-15CA-409D-B0EE-CC24F0D8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39C19-DE75-4503-A3EE-5C01BA18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9713C-A657-483D-82B4-259433BD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DE01C-C6BB-4B3D-AE22-10C96441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8A924F-7A3E-4A04-A810-5C4E627B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CDCB-0A6B-4069-AB66-518BD495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71B0BB-F354-447D-B9E4-75C99FE9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08C171-3640-4AEA-A942-32D78E26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10071B-8BEE-48E1-88EF-54875831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76CE1C-C58F-422A-82C5-5870F3BA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8837B1-A57C-4CB5-9F45-BC682484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09B47C-8DCC-4D40-BE98-2C91749D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8C3A01-56BE-48BD-AB2B-62467E35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C1E46B-6D03-4451-9684-59CDD7CB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B68526-6B97-48BC-B1F7-BBB0F5A2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E9A6CB-CFE8-44FE-A8A7-43722EAB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7EF-8702-4AA0-8880-FDADBE30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EC8177-717B-4B73-B477-FD6C3084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E6325A-C8E0-4288-890E-847B1C3A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0B7A31-C961-411D-8C5D-E73A65A1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2DDF30-6E05-40EE-ABEC-A986559D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AE0657-9E3E-43D1-A8EB-672B599E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88D533-8C78-4548-9AB0-2CFC031D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CA6517-F569-4953-BC5B-9A5DB7EE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F15064-A30D-44DB-9B52-B5E15BD4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C7FF1A-3A58-46E1-A51E-97FCF5F2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2B5388-513A-4AF8-8DB4-4DE702F0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E776-AC3C-4821-83C1-06CB1235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73826D-2178-4FA0-BB86-96D13473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7F99B6-C57F-4419-8570-B6E6436F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34EFFF-97F9-49CC-AF19-83CF7467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2E93A3-A335-4997-847A-26064A4A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DAF588-5A6A-4663-BA7F-7077A0E0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21EE69-D1F1-4A40-9C92-F15880D9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47FD30-5A30-4976-A92E-5DC8A3FD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F00E68-9A35-47FA-828C-F4DDD792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377451-1B09-4FEC-8CE8-11BBCC55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8DA7CC-863D-4B8A-8F98-38E1BADB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E38-D44B-434C-8BFD-6D739F35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AF9616-C16A-4117-B0AA-830AFB89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CAD56C-B598-444B-8AEC-21A3C97E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7F18F1-8E5E-49E3-8A38-498D939D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3EE9A7-7573-4E8E-B9F5-1C792B66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698DB8-423E-4FC0-AA48-397F771E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E6C5-CEB0-4E57-B3AC-94D260A8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P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8711-B384-4CEB-9E3A-090449C829A0}" type="slidenum">
              <a:rPr b="1" lang="es-P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P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524D-E2A4-4EEF-BF94-A443DFBA43D2}" type="slidenum">
              <a:rPr b="1" lang="es-P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P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8F6D-0680-45AC-ABB9-EB597227CE37}" type="slidenum">
              <a:rPr b="1" lang="es-P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P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C816-CBC5-47BA-8AF5-6399D00603E5}" type="slidenum">
              <a:rPr b="1" lang="es-P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P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50A9-9E72-46E9-8A3C-1D63A016F5C9}" type="slidenum">
              <a:rPr b="1" lang="es-P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P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DBAC-5333-4463-BB18-2C2D7B60148E}" type="slidenum">
              <a:rPr b="1" lang="es-P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P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4EEC-B947-48D9-9FF5-46F4444BC08D}" type="slidenum">
              <a:rPr b="1" lang="es-P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e75c01"/>
                </a:solidFill>
                <a:latin typeface="Century Schoolbook"/>
              </a:rPr>
              <a:t>EL INFORM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aebad5"/>
                </a:solidFill>
                <a:latin typeface="Century Schoolbook"/>
              </a:rPr>
              <a:t>Colegio de La Inmaculada- Jesuit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aebad5"/>
                </a:solidFill>
                <a:latin typeface="Century Schoolbook"/>
              </a:rPr>
              <a:t>Profesora Silvia Mazuelos B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aebad5"/>
                </a:solidFill>
                <a:latin typeface="Century Schoolbook"/>
              </a:rPr>
              <a:t>3° de sec. 201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e75c01"/>
                </a:solidFill>
                <a:latin typeface="Century Schoolbook"/>
              </a:rPr>
              <a:t>¿PARA QUÉ SIRVEN LOS INFORM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3 Marcador de contenido" descr="untitled.bmp"/>
          <p:cNvPicPr/>
          <p:nvPr/>
        </p:nvPicPr>
        <p:blipFill>
          <a:blip r:embed="rId1"/>
          <a:stretch/>
        </p:blipFill>
        <p:spPr>
          <a:xfrm>
            <a:off x="2000160" y="1928880"/>
            <a:ext cx="5286600" cy="350028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e75c01"/>
                </a:solidFill>
                <a:latin typeface="Century Schoolbook"/>
              </a:rPr>
              <a:t>PARA PRODUCI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entury Schoolbook"/>
              </a:rPr>
              <a:t>¿Cómo harías un informe descriptivo sobre la rotura de un vidrio de una ventana de la clase ocurrido en un momento de recre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entury Schoolbook"/>
              </a:rPr>
              <a:t>¿ Qué pondrías en el Inici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entury Schoolbook"/>
              </a:rPr>
              <a:t>¿Cómo organizarías el desarroll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entury Schoolbook"/>
              </a:rPr>
              <a:t>¿Cómo terminarías este Inform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Century Schoolbook"/>
              </a:rPr>
              <a:t>VA DIRIGIDO A LA COORDINACIÓN DEL NI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e75c01"/>
                </a:solidFill>
                <a:latin typeface="Century Schoolbook"/>
              </a:rPr>
              <a:t>SISTEMATIZACIÓN DE LA INFORM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Century Schoolbook"/>
              </a:rPr>
              <a:t>Un informe ordena, jerarquiza, organiza un conjunto de dato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Century Schoolbook"/>
              </a:rPr>
              <a:t>Da a conocer: hechos resultados , datos, etc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Century Schoolbook"/>
              </a:rPr>
              <a:t>Asuntos comprobables sobre una persona,  de la vida diaria,  situación de una empresa, una actividad, un estado, etc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eb6e5a"/>
                </a:solidFill>
                <a:latin typeface="Century Schoolbook"/>
              </a:rPr>
              <a:t>VENTAJAS DEL INFORM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7480440" cy="49086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e75c01"/>
                </a:solidFill>
                <a:latin typeface="Century Schoolbook"/>
              </a:rPr>
              <a:t>COMPA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5400" spc="-1" strike="noStrike">
                <a:solidFill>
                  <a:srgbClr val="000000"/>
                </a:solidFill>
                <a:latin typeface="Century Schoolbook"/>
              </a:rPr>
              <a:t>¿Qué diferencia existirá entre un informe médico y un informe sobre las averías en tuberías de agua del CI?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e75c01"/>
                </a:solidFill>
                <a:latin typeface="Century Schoolbook"/>
              </a:rPr>
              <a:t>EL LENGUAJE DEL INFORM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7480440" cy="4981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e75c01"/>
                </a:solidFill>
                <a:latin typeface="Century Schoolbook"/>
              </a:rPr>
              <a:t>CLASES DE INFORM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3 Marcador de contenido" descr=""/>
          <p:cNvPicPr/>
          <p:nvPr/>
        </p:nvPicPr>
        <p:blipFill>
          <a:blip r:embed="rId1"/>
          <a:stretch/>
        </p:blipFill>
        <p:spPr>
          <a:xfrm>
            <a:off x="438120" y="1560600"/>
            <a:ext cx="7505640" cy="4932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e75c01"/>
                </a:solidFill>
                <a:latin typeface="Century Schoolbook"/>
              </a:rPr>
              <a:t>ELABOR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entury Schoolbook"/>
              </a:rPr>
              <a:t>Imagina que se necesita solucionar un problema que presenta tu distrito, un problema REAL que tú observas diariamente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entury Schoolbook"/>
              </a:rPr>
              <a:t>Organiza un INFORME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entury Schoolbook"/>
              </a:rPr>
              <a:t>Va dirigido al señor Alcalde de tu distrito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8:32:33Z</dcterms:created>
  <dc:creator>Silvia</dc:creator>
  <dc:description/>
  <dc:language>en-US</dc:language>
  <cp:lastModifiedBy>Silvia</cp:lastModifiedBy>
  <dcterms:modified xsi:type="dcterms:W3CDTF">2011-03-09T18:17:53Z</dcterms:modified>
  <cp:revision>24</cp:revision>
  <dc:subject/>
  <dc:title>Diapositiva 1</dc:title>
</cp:coreProperties>
</file>