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6313-0EFD-45AE-AA50-18F3DCC60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3A24-1C5F-4793-8E8C-A60B222F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772E-B9B4-4006-A427-6F2E8B0C8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93B1-A58F-4AAA-8082-09FAF5B3B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61CA-A434-4321-92ED-573CA6578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5D2F-EE13-405E-93B4-2F0BECDE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47E1-6CCE-4C5D-8C61-C0DA07E0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F61AB-1C99-4338-B774-836B5DC7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74D5C-86D0-4CAC-BAB6-37A7D2B4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FFEEA-0041-4375-85A2-14D1DFF3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BCA2-76AA-48E5-B96F-0C356169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B120-CBF8-471E-B725-136AC03F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3143C-78C3-4F16-B408-8C671E12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5D45-DD8B-41BF-9C6A-1D6CEFBD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FA40-4438-4EEB-8E32-BBB33500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F710-1B6E-463F-97CB-8C79AD346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0BE9-779B-463E-87B7-B15C7E091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0BB49F-762E-4E44-9C2C-4050C9492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F47A01-99BB-47F8-9F13-4BC97673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459A66-1C7E-4BFE-9623-CAC46169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56F239-C893-4E47-BFE1-3302C7CC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DBBA40-E322-4C17-8CDB-8EEACA74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DBA9-867F-4115-AF9E-84F620B5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EFD192-D8EE-4D94-A6B2-9D91A12F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4119F4-EB46-40F8-8423-9FF27B18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985797-447D-4E3F-8667-10F14647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6C4D16-2FEB-4B61-917A-18202605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8A38EB-4A7C-4FBF-B300-D9B622E0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FB42E0-D486-4552-BD6B-25096AE21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2E7D6A-67D3-464A-9C89-16681C4AB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DC124-1D31-4FB3-86CB-AC1D26B0B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578F0-C23D-4CF6-B2FD-26F03A32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F3697-3210-4E67-9741-75826A80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AA5C-4477-41AD-898B-FF71725E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297FF-035C-4D01-B7E8-26EEC6D6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05F4E-C7ED-4F45-BCC6-DA537BB5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EF2D1-9882-4B98-BBA7-9D774744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80760-B9B3-4129-8F36-F5ECBF18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C489F-881D-476F-B1AF-FD22FE55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C26F4-5505-4B5C-AAD5-49ECF57F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DB49E-E8BB-4882-B754-68DDCCEF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D8B58-6E33-4FF6-BFA7-452C14FFF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A1265-880D-419E-A518-ADB9B58EA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835916-3CB5-49B8-B526-E39A5678B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ED80-3F4E-41D7-A221-6C23C033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81386E-FD1E-4545-A1FA-F00B0A4C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A89465-D157-421F-A0C7-49F66706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2CC002-6968-4039-B848-819698E6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F9C235-18B5-4ED0-86DA-90CCB7B8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44C90F-B602-442B-AD81-61BE6BED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B29DD3-9B10-4648-8CD7-8F013F9F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0818AC-E337-4598-B708-B6424029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1923DC-17CF-4C01-BBE7-26C65C36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33CC5A-1ABD-4DB8-BD1B-82E9A01F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2EB33B-BBE9-4501-A05F-AEBDBD073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944A-D53A-4726-9531-5E202B8D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5CC505-3064-4A38-9E12-5A8B03A05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161A29-52E6-4E9D-8CCF-1637CFFEE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AC64AB-2974-4B85-9E8B-947B3FB8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1A0E6A-761F-4F14-9040-4913F144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BE464C-D16A-4F05-8C95-F5909BB3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9833C8-97D1-482E-A04B-CD656163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1788F0-D13C-4EEF-B8D5-048C43FF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BDD8F1-E705-455D-BB65-50CE7D5E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C3DCA7-8AC1-45AC-A2AE-57A872C0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87D00F-2A8D-4A96-8B7D-26C84B0E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9471-3358-4608-827B-2AEB87D2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2029E3-8AE8-4C4D-B7D6-1A81B62C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541FA5-8C63-4945-9175-DB4511A3B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7F8552-92CC-45CD-9595-E4C4CC258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A7892F-4B07-4E88-9680-81895BABD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57B0A5-F57A-4372-914D-D6ABF395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477471-7EFA-4752-B74E-30FEA99B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C2C454-825F-4536-9643-6E89AC0A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61B318-B083-4D2E-A984-6BD062D4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923DC1-8839-4EEF-A55D-CFE94970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B517F4-F106-43C1-B660-0645D295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7491-FC03-4CFC-8221-CA9183DA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673F27-4492-4DD5-9796-4B3638FC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8471DB-92FA-490B-9750-C2DC8A63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8A5B3E-C2DB-425A-B5AA-9E11347C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B5D887-CBEC-4382-B0EE-9B42A69A7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F4F4AA-7A4D-40DF-B875-61D5BD17A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6AD7-C5CE-494C-881A-695DF62F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P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76C8-FAE9-4981-A662-1CE46D937F2C}" type="slidenum">
              <a:rPr b="1" lang="es-P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6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7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8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9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30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1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2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P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8AC2-1386-44ED-B63E-B82C95F0C238}" type="slidenum">
              <a:rPr b="1" lang="es-P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P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A693-15BE-4C4F-8308-4C3B27003962}" type="slidenum">
              <a:rPr b="1" lang="es-P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8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0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1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2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P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9CC9-C05A-4738-89CE-C7B803A3F7CB}" type="slidenum">
              <a:rPr b="1" lang="es-P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P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D70C-ABB7-49D6-8AE0-EEDEEBC73F39}" type="slidenum">
              <a:rPr b="1" lang="es-P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6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7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P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2EA9-2AC3-414D-8571-8F8887FAC736}" type="slidenum">
              <a:rPr b="1" lang="es-P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6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20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3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P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5CC3-2FD4-4833-99A7-E7FD1B661D02}" type="slidenum">
              <a:rPr b="1" lang="es-P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e75c01"/>
                </a:solidFill>
                <a:latin typeface="Century Schoolbook"/>
              </a:rPr>
              <a:t>EL INFORM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aebad5"/>
                </a:solidFill>
                <a:latin typeface="Century Schoolbook"/>
              </a:rPr>
              <a:t>Colegio de La Inmaculada- Jesuita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aebad5"/>
                </a:solidFill>
                <a:latin typeface="Century Schoolbook"/>
              </a:rPr>
              <a:t>Profesora Silvia Mazuelos B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aebad5"/>
                </a:solidFill>
                <a:latin typeface="Century Schoolbook"/>
              </a:rPr>
              <a:t>3° de sec. 2011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e75c01"/>
                </a:solidFill>
                <a:latin typeface="Century Schoolbook"/>
              </a:rPr>
              <a:t>¿PARA QUÉ SIRVEN LOS INFORME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4" name="3 Marcador de contenido" descr="untitled.bmp"/>
          <p:cNvPicPr/>
          <p:nvPr/>
        </p:nvPicPr>
        <p:blipFill>
          <a:blip r:embed="rId1"/>
          <a:stretch/>
        </p:blipFill>
        <p:spPr>
          <a:xfrm>
            <a:off x="2000160" y="1928880"/>
            <a:ext cx="5286600" cy="3500280"/>
          </a:xfrm>
          <a:prstGeom prst="rect">
            <a:avLst/>
          </a:prstGeom>
          <a:ln cap="sq" w="44460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e75c01"/>
                </a:solidFill>
                <a:latin typeface="Century Schoolbook"/>
              </a:rPr>
              <a:t>PARA PRODUCI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Century Schoolbook"/>
              </a:rPr>
              <a:t>¿Cómo harías un informe descriptivo sobre la rotura de un vidrio de una ventana de la clase ocurrido en un momento de recreo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Century Schoolbook"/>
              </a:rPr>
              <a:t>¿ Qué pondrías en el Inicio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Century Schoolbook"/>
              </a:rPr>
              <a:t>¿Cómo organizarías el desarrollo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Century Schoolbook"/>
              </a:rPr>
              <a:t>¿Cómo terminarías este Inform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Century Schoolbook"/>
              </a:rPr>
              <a:t>VA DIRIGIDO A LA COORDINACIÓN DEL NI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e75c01"/>
                </a:solidFill>
                <a:latin typeface="Century Schoolbook"/>
              </a:rPr>
              <a:t>SISTEMATIZACIÓN DE LA INFORM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Century Schoolbook"/>
              </a:rPr>
              <a:t>Un informe ordena, jerarquiza, organiza un conjunto de dato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Century Schoolbook"/>
              </a:rPr>
              <a:t>Da a conocer: hechos resultados , datos, etc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Century Schoolbook"/>
              </a:rPr>
              <a:t>Asuntos comprobables sobre una persona,  de la vida diaria,  situación de una empresa, una actividad, un estado, etc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eb6e5a"/>
                </a:solidFill>
                <a:latin typeface="Century Schoolbook"/>
              </a:rPr>
              <a:t>VENTAJAS DEL INFORM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0" name="3 Marcador de contenido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7480440" cy="490860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e75c01"/>
                </a:solidFill>
                <a:latin typeface="Century Schoolbook"/>
              </a:rPr>
              <a:t>COMPAR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5400" spc="-1" strike="noStrike">
                <a:solidFill>
                  <a:srgbClr val="000000"/>
                </a:solidFill>
                <a:latin typeface="Century Schoolbook"/>
              </a:rPr>
              <a:t>¿Qué diferencia existirá entre un informe médico y un informe sobre las averías en tuberías de agua del CI?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e75c01"/>
                </a:solidFill>
                <a:latin typeface="Century Schoolbook"/>
              </a:rPr>
              <a:t>EL LENGUAJE DEL INFORM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4" name="3 Marcador de contenido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7480440" cy="49816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e75c01"/>
                </a:solidFill>
                <a:latin typeface="Century Schoolbook"/>
              </a:rPr>
              <a:t>CLASES DE INFORM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6" name="3 Marcador de contenido" descr=""/>
          <p:cNvPicPr/>
          <p:nvPr/>
        </p:nvPicPr>
        <p:blipFill>
          <a:blip r:embed="rId1"/>
          <a:stretch/>
        </p:blipFill>
        <p:spPr>
          <a:xfrm>
            <a:off x="438120" y="1560600"/>
            <a:ext cx="7505640" cy="49323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e75c01"/>
                </a:solidFill>
                <a:latin typeface="Century Schoolbook"/>
              </a:rPr>
              <a:t>ELABOR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0000"/>
                </a:solidFill>
                <a:latin typeface="Century Schoolbook"/>
              </a:rPr>
              <a:t>Imagina que se necesita solucionar un problema que presenta tu distrito, un problema REAL que tú observas diariamente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0000"/>
                </a:solidFill>
                <a:latin typeface="Century Schoolbook"/>
              </a:rPr>
              <a:t>Organiza un INFORME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0000"/>
                </a:solidFill>
                <a:latin typeface="Century Schoolbook"/>
              </a:rPr>
              <a:t>Va dirigido al señor Alcalde de tu distrito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8:32:33Z</dcterms:created>
  <dc:creator>Silvia</dc:creator>
  <dc:description/>
  <dc:language>en-US</dc:language>
  <cp:lastModifiedBy>Silvia</cp:lastModifiedBy>
  <dcterms:modified xsi:type="dcterms:W3CDTF">2011-03-09T18:17:53Z</dcterms:modified>
  <cp:revision>24</cp:revision>
  <dc:subject/>
  <dc:title>Diapositiva 1</dc:title>
</cp:coreProperties>
</file>