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9.jpeg" ContentType="image/jpeg"/>
  <Override PartName="/ppt/media/image57.gif" ContentType="image/gif"/>
  <Override PartName="/ppt/media/image10.jpeg" ContentType="image/jpeg"/>
  <Override PartName="/ppt/media/image56.gif" ContentType="image/gif"/>
  <Override PartName="/ppt/media/image34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.jpeg" ContentType="image/jpeg"/>
  <Override PartName="/ppt/media/image61.png" ContentType="image/png"/>
  <Override PartName="/ppt/media/image63.jpeg" ContentType="image/jpeg"/>
  <Override PartName="/ppt/media/image26.gif" ContentType="image/gif"/>
  <Override PartName="/ppt/media/image55.png" ContentType="image/png"/>
  <Override PartName="/ppt/media/image52.gif" ContentType="image/gif"/>
  <Override PartName="/ppt/media/image20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22.png" ContentType="image/png"/>
  <Override PartName="/ppt/media/image19.jpeg" ContentType="image/jpeg"/>
  <Override PartName="/ppt/media/image24.jpeg" ContentType="image/jpeg"/>
  <Override PartName="/ppt/media/image27.gif" ContentType="image/gif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2.jpeg" ContentType="image/jpeg"/>
  <Override PartName="/ppt/media/image29.jpeg" ContentType="image/jpeg"/>
  <Override PartName="/ppt/media/image58.gif" ContentType="image/gif"/>
  <Override PartName="/ppt/media/image8.jpeg" ContentType="image/jpeg"/>
  <Override PartName="/ppt/media/image38.png" ContentType="image/png"/>
  <Override PartName="/ppt/media/image62.jpeg" ContentType="image/jpeg"/>
  <Override PartName="/ppt/media/image41.wmf" ContentType="image/x-wmf"/>
  <Override PartName="/ppt/media/image45.gif" ContentType="image/gif"/>
  <Override PartName="/ppt/media/image23.png" ContentType="image/png"/>
  <Override PartName="/ppt/media/image13.jpeg" ContentType="image/jpeg"/>
  <Override PartName="/ppt/media/image51.gif" ContentType="image/gif"/>
  <Override PartName="/ppt/media/image2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3.png" ContentType="image/png"/>
  <Override PartName="/ppt/media/image35.png" ContentType="image/png"/>
  <Override PartName="/ppt/media/image42.gif" ContentType="image/gif"/>
  <Override PartName="/ppt/media/image37.png" ContentType="image/png"/>
  <Override PartName="/ppt/media/image44.gif" ContentType="image/gif"/>
  <Override PartName="/ppt/media/image64.jpeg" ContentType="image/jpeg"/>
  <Override PartName="/ppt/media/image39.png" ContentType="image/png"/>
  <Override PartName="/ppt/media/image65.jpeg" ContentType="image/jpeg"/>
  <Override PartName="/ppt/media/image46.gif" ContentType="image/gif"/>
  <Override PartName="/ppt/media/image4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53.gif" ContentType="image/gif"/>
  <Override PartName="/ppt/media/image54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FED-3AE7-408A-9957-403CC9F5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9AC-A3E8-4D95-8371-ADD57512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EFD-3672-4BB8-B641-75B0985F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7B0-D16B-4CA3-BCDD-1E8E021A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D24-1F4D-427C-9B10-EF475996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7C2-FEA2-436B-A0B8-7AEF4FB0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688-3A35-4220-8D0E-DE020651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F0D-AFE6-46AB-A33A-EDB052D1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096-AFA8-43D4-94A5-316EE9C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E2F-7E6A-477E-8DE5-FC751656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5E9-5AB9-42D9-A615-28189E31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907-C3AA-4162-A9DF-78BC6BBC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Rectangle 13"/>
          <p:cNvSpPr/>
          <p:nvPr/>
        </p:nvSpPr>
        <p:spPr>
          <a:xfrm>
            <a:off x="763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4-2007 Sherif Kam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7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C10-1998-473B-94D3-10EA22D6ADED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ll.com/" TargetMode="External"/><Relationship Id="rId2" Type="http://schemas.openxmlformats.org/officeDocument/2006/relationships/hyperlink" Target="http://www.mallofamerica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ell.com/" TargetMode="External"/><Relationship Id="rId2" Type="http://schemas.openxmlformats.org/officeDocument/2006/relationships/hyperlink" Target="http://www.mallofamerica.com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bn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bn.com/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almart.com/" TargetMode="External"/><Relationship Id="rId2" Type="http://schemas.openxmlformats.org/officeDocument/2006/relationships/hyperlink" Target="http://www.internet.mall/" TargetMode="External"/><Relationship Id="rId3" Type="http://schemas.openxmlformats.org/officeDocument/2006/relationships/hyperlink" Target="http://www.bestbookbuys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almart.com/" TargetMode="External"/><Relationship Id="rId2" Type="http://schemas.openxmlformats.org/officeDocument/2006/relationships/hyperlink" Target="http://www.bestbookbuys.com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excite.com/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ritishairways.com/" TargetMode="External"/><Relationship Id="rId2" Type="http://schemas.openxmlformats.org/officeDocument/2006/relationships/hyperlink" Target="http://www.gap.com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a.com/" TargetMode="External"/><Relationship Id="rId2" Type="http://schemas.openxmlformats.org/officeDocument/2006/relationships/hyperlink" Target="http://www.gap.com/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johnlewis.com/" TargetMode="External"/><Relationship Id="rId2" Type="http://schemas.openxmlformats.org/officeDocument/2006/relationships/hyperlink" Target="http://www.hp.com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johnlewis.com/" TargetMode="External"/><Relationship Id="rId2" Type="http://schemas.openxmlformats.org/officeDocument/2006/relationships/hyperlink" Target="http://www.hp.com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eapod.com/" TargetMode="External"/><Relationship Id="rId2" Type="http://schemas.openxmlformats.org/officeDocument/2006/relationships/hyperlink" Target="http://www.walgreens.com/" TargetMode="External"/><Relationship Id="rId3" Type="http://schemas.openxmlformats.org/officeDocument/2006/relationships/hyperlink" Target="http://www.nwolb.com/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peapod.com/" TargetMode="External"/><Relationship Id="rId2" Type="http://schemas.openxmlformats.org/officeDocument/2006/relationships/hyperlink" Target="http://www.walgreens.com/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ell.com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ews.com/" TargetMode="External"/><Relationship Id="rId2" Type="http://schemas.openxmlformats.org/officeDocument/2006/relationships/hyperlink" Target="http://www.wired.com/news" TargetMode="External"/><Relationship Id="rId3" Type="http://schemas.openxmlformats.org/officeDocument/2006/relationships/hyperlink" Target="http://www.borders.comwww.bn.comwww.amazon.com/" TargetMode="External"/><Relationship Id="rId4" Type="http://schemas.openxmlformats.org/officeDocument/2006/relationships/hyperlink" Target="http://www.borders.comwww.bn.comwww.amazon.com/" TargetMode="Externa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ired.com/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one2one.com.au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candystand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216.34.184.221/banman.asp?Task=Click&amp;ZoneID=4&amp;CampaignID=76&amp;AdvertiserID=2&amp;BannerID=1&amp;SiteID=0&amp;RandomNumber=69975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livegoal.net/cgi-bin/adgenie/loadlink.cgi?125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newsletters.clickz.com/c.html?rtr=on&amp;s=auxa,29ud,52v,cx92,kl9f,51y9,8wz8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afepress.com/itotd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dhs.r.delivery.net/r/c/r?2.1.Hl.2Ue.qkMAH.EJQKEY..N.DclE.2awu.DbdOEbU0" TargetMode="External"/><Relationship Id="rId4" Type="http://schemas.openxmlformats.org/officeDocument/2006/relationships/image" Target="../media/image32.png"/><Relationship Id="rId5" Type="http://schemas.openxmlformats.org/officeDocument/2006/relationships/hyperlink" Target="http://dhs.r.delivery.net/r/c/r?2.1.Hl.2Ue.qkMAH.EJQKEY..N.DclG.2awu.DcDCEbW0" TargetMode="External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hyperlink" Target="http://music.yahoo.com/" TargetMode="External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hyperlink" Target="http://us.ard.yahoo.com/SIG=12h43k15a/M=389956.10088034.10766394.7929445/D=hojo/S=396510659:NH3/Y=YAHOO/EXP=1172945884/A=4338812/R=0/SIG=11ss209if/*http://hotjobs.yahoo.com/Company-Profiles/H/H-M-Jobs_27882" TargetMode="External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hyperlink" Target="http://www.cnn.com/event.ng/Type=click&amp;RunID=27201&amp;ProfileID=2122&amp;AdID=21186&amp;GroupID=376&amp;FamilyID=5743&amp;TagValues=4.435.644.645.3434&amp;Redirect=http:%2F%2Fcgi.pathfinder.com%2Fcgi-bin%2Fmagsubs%2Fcc%2Fsubs%2Fecompanynowcc1%3FEFFORTKEY%3DECAASF1" TargetMode="External"/><Relationship Id="rId16" Type="http://schemas.openxmlformats.org/officeDocument/2006/relationships/image" Target="../media/image40.png"/><Relationship Id="rId17" Type="http://schemas.openxmlformats.org/officeDocument/2006/relationships/image" Target="../media/image41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adserver.adtech.de/?adlink%7C500%7C1003240%7C0%7C1%7CAdId=1001880;BnId=3;itime=938153826;key=footballscorecentre;" TargetMode="External"/><Relationship Id="rId2" Type="http://schemas.openxmlformats.org/officeDocument/2006/relationships/image" Target="../media/image42.gif"/><Relationship Id="rId3" Type="http://schemas.openxmlformats.org/officeDocument/2006/relationships/hyperlink" Target="http://business2.ads.imaginemedia.com/cgi-bin/accipiter/adclick.exe/site=BUSINESS2/area=B2.BUSINESS2.magazine.indepth.120X120.1/adsize=120X120/acc_random=962708242320" TargetMode="External"/><Relationship Id="rId4" Type="http://schemas.openxmlformats.org/officeDocument/2006/relationships/image" Target="../media/image43.gif"/><Relationship Id="rId5" Type="http://schemas.openxmlformats.org/officeDocument/2006/relationships/hyperlink" Target="http://business2.ads.imaginemedia.com/cgi-bin/accipiter/adclick.exe/site=BUSINESS2/area=B2.BUSINESS2.magazine.indepth.120X120.2/adsize=120X120/acc_random=962708257760" TargetMode="External"/><Relationship Id="rId6" Type="http://schemas.openxmlformats.org/officeDocument/2006/relationships/image" Target="../media/image44.gif"/><Relationship Id="rId7" Type="http://schemas.openxmlformats.org/officeDocument/2006/relationships/hyperlink" Target="http://business2.ads.imaginemedia.com/cgi-bin/accipiter/adclick.exe/site=BUSINESS2/area=B2.BUSINESS2.magazine.indepth.120X240/adsize=120X240/acc_random=962708257760" TargetMode="External"/><Relationship Id="rId8" Type="http://schemas.openxmlformats.org/officeDocument/2006/relationships/image" Target="../media/image45.gif"/><Relationship Id="rId9" Type="http://schemas.openxmlformats.org/officeDocument/2006/relationships/hyperlink" Target="http://business2.ads.imaginemedia.com/cgi-bin/accipiter/adclick.exe/site=BUSINESS2/area=B2.BUSINESS2.magazine.120X120.2/adsize=120X120/acc_random=962709077680" TargetMode="External"/><Relationship Id="rId10" Type="http://schemas.openxmlformats.org/officeDocument/2006/relationships/image" Target="../media/image46.gif"/><Relationship Id="rId11" Type="http://schemas.openxmlformats.org/officeDocument/2006/relationships/hyperlink" Target="http://business2.ads.imaginemedia.com/cgi-bin/accipiter/adclick.exe/site=BUSINESS2/area=B2.BUSINESS2.magazine.468X60/adsize=468X60/acc_random=962709077350" TargetMode="External"/><Relationship Id="rId12" Type="http://schemas.openxmlformats.org/officeDocument/2006/relationships/image" Target="../media/image47.gif"/><Relationship Id="rId13" Type="http://schemas.openxmlformats.org/officeDocument/2006/relationships/hyperlink" Target="http://www.sky.com/cgi/skybuy.pl?url=http://www.surreysports.com/sky.html?aff=18" TargetMode="External"/><Relationship Id="rId14" Type="http://schemas.openxmlformats.org/officeDocument/2006/relationships/image" Target="../media/image48.gif"/><Relationship Id="rId15" Type="http://schemas.openxmlformats.org/officeDocument/2006/relationships/hyperlink" Target="http://ad.doubleclick.net/click;1301248;0-0;0;3723273;1-468%7C60;0%7C0%7C0;;?http://www.sky.com/skydigital/" TargetMode="External"/><Relationship Id="rId16" Type="http://schemas.openxmlformats.org/officeDocument/2006/relationships/image" Target="../media/image49.gif"/><Relationship Id="rId17" Type="http://schemas.openxmlformats.org/officeDocument/2006/relationships/hyperlink" Target="http://ad.doubleclick.net/click;1411977;0-0;0;3723273;262-130%7C60;0%7C0%7C0;;?http://www.sky.com/movies" TargetMode="External"/><Relationship Id="rId18" Type="http://schemas.openxmlformats.org/officeDocument/2006/relationships/image" Target="../media/image50.gif"/><Relationship Id="rId19" Type="http://schemas.openxmlformats.org/officeDocument/2006/relationships/image" Target="../media/image51.gif"/><Relationship Id="rId20" Type="http://schemas.openxmlformats.org/officeDocument/2006/relationships/image" Target="../media/image52.gif"/><Relationship Id="rId21" Type="http://schemas.openxmlformats.org/officeDocument/2006/relationships/image" Target="../media/image53.gif"/><Relationship Id="rId22" Type="http://schemas.openxmlformats.org/officeDocument/2006/relationships/image" Target="../media/image54.gif"/><Relationship Id="rId23" Type="http://schemas.openxmlformats.org/officeDocument/2006/relationships/image" Target="../media/image55.png"/><Relationship Id="rId24" Type="http://schemas.openxmlformats.org/officeDocument/2006/relationships/image" Target="../media/image56.gif"/><Relationship Id="rId25" Type="http://schemas.openxmlformats.org/officeDocument/2006/relationships/image" Target="../media/image57.gif"/><Relationship Id="rId26" Type="http://schemas.openxmlformats.org/officeDocument/2006/relationships/image" Target="../media/image58.gif"/><Relationship Id="rId2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Marketing and Advertising 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in Electronic Business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 Sherif Kam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495360" y="1066680"/>
          <a:ext cx="3085920" cy="1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66680"/>
                    <a:ext cx="308592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What is Electronic Marketing?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 is the application of the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related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gital technologi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to achieve marketing objectiv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eting consists of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ividual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ctivities that facilitate and expedite satisfying exchange relationships in a dynamic environment through the creation, distribution, promotion and pricing of goods, services and idea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 electronic marketing plan is essential to be able to realize the objectives of an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lectronic business strateg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it depends on the creation of 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early defined strategic proc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Electronic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48" name="Picture 5" descr="Picture2"/>
          <p:cNvPicPr/>
          <p:nvPr/>
        </p:nvPicPr>
        <p:blipFill>
          <a:blip r:embed="rId1"/>
          <a:srcRect l="21094" t="22918" r="22655" b="7293"/>
          <a:stretch/>
        </p:blipFill>
        <p:spPr>
          <a:xfrm>
            <a:off x="2362320" y="2133720"/>
            <a:ext cx="4419360" cy="411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Stages of a Marketing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tu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where are we now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where do we want to b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ateg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how do we get ther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ctic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how exactly do we get ther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What is our plan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tro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did we get ther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Business Models for Electronic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rect marketing v indirect 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v partial cyber-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nic distributor v brok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nic store v shopping ma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neralized v specialized eMalls/Sto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active v reactive strategic posture toward cyber-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lobal v regional 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les v customer sup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Direct v Indirect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ect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nufacturers advertise and distribute their own products to customers via Internet-based electronic store – without interven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ample: Dell computers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dell.com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rect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ts are distributed through third party intermediaries such as eMal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5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ample: Mall of America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mallofamerica.com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dell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mallofamerica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 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65" name="Picture 9" descr="Picture6"/>
          <p:cNvPicPr/>
          <p:nvPr/>
        </p:nvPicPr>
        <p:blipFill>
          <a:blip r:embed="rId3"/>
          <a:stretch/>
        </p:blipFill>
        <p:spPr>
          <a:xfrm>
            <a:off x="536400" y="1828800"/>
            <a:ext cx="4035600" cy="430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Picture7"/>
          <p:cNvPicPr/>
          <p:nvPr/>
        </p:nvPicPr>
        <p:blipFill>
          <a:blip r:embed="rId4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Full v Partial Cyber-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ll Cyber-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ies sell their products and services only through the Inter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Amazon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amazon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al Cyber-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ies sell their products both online and offline (traditional physical store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arnes and Nob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bn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amazon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bn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73" name="Picture 9" descr="Picture8"/>
          <p:cNvPicPr/>
          <p:nvPr/>
        </p:nvPicPr>
        <p:blipFill>
          <a:blip r:embed="rId3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Picture9"/>
          <p:cNvPicPr/>
          <p:nvPr/>
        </p:nvPicPr>
        <p:blipFill>
          <a:blip r:embed="rId4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Electronic Distributor v Broker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Distribu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tributors are responsible for order fulfillment and guarante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Dell, Amazon and Wal-Mart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walmart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Brok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okers only introduce suppliers who deal with the items that the customers are loo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Internet Mall, bestbookbuy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internet.mall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827360" indent="-4381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www.bestbookbuys.co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Yahoo! and Excite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walmart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bestbookbuys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81" name="Picture 9" descr="Picture11"/>
          <p:cNvPicPr/>
          <p:nvPr/>
        </p:nvPicPr>
        <p:blipFill>
          <a:blip r:embed="rId3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Picture12"/>
          <p:cNvPicPr/>
          <p:nvPr/>
        </p:nvPicPr>
        <p:blipFill>
          <a:blip r:embed="rId4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lectronic Business and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electronic marketing strategies to handle changes in the world of eBusin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ping with the change from physical to intellectual and digital products, and process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role of electronic marketing in handling the change from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rketplac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rketspa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yahoo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excite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84" name="Picture 9" descr="Picture14"/>
          <p:cNvPicPr/>
          <p:nvPr/>
        </p:nvPicPr>
        <p:blipFill>
          <a:blip r:embed="rId3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Picture13"/>
          <p:cNvPicPr/>
          <p:nvPr/>
        </p:nvPicPr>
        <p:blipFill>
          <a:blip r:embed="rId4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lectronic Store v Shopping Mall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St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ies selling their products onl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ependent sto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ritish Airway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britishairways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ctronic Shopping Mal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d as a wide umbrella term of electronic shop and electronic store as well as a mal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ga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gap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ba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gap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92" name="Picture 9" descr="Picture17"/>
          <p:cNvPicPr/>
          <p:nvPr/>
        </p:nvPicPr>
        <p:blipFill>
          <a:blip r:embed="rId3"/>
          <a:stretch/>
        </p:blipFill>
        <p:spPr>
          <a:xfrm>
            <a:off x="4648320" y="1828800"/>
            <a:ext cx="4035240" cy="4303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Picture15"/>
          <p:cNvPicPr/>
          <p:nvPr/>
        </p:nvPicPr>
        <p:blipFill>
          <a:blip r:embed="rId4"/>
          <a:stretch/>
        </p:blipFill>
        <p:spPr>
          <a:xfrm>
            <a:off x="533520" y="1828800"/>
            <a:ext cx="4035240" cy="430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eneralized v Specialized eMalls/Store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eralized eMalls/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als with various categories of items where supply is diversifi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Online department stor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johnlewis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ialized eMalls/Sto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cus only on special types of it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ooks and computer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hp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johnlewis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hp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00" name="Picture 9" descr="Picture19"/>
          <p:cNvPicPr/>
          <p:nvPr/>
        </p:nvPicPr>
        <p:blipFill>
          <a:blip r:embed="rId3"/>
          <a:stretch/>
        </p:blipFill>
        <p:spPr>
          <a:xfrm>
            <a:off x="4724280" y="1905120"/>
            <a:ext cx="4035600" cy="4303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Picture18"/>
          <p:cNvPicPr/>
          <p:nvPr/>
        </p:nvPicPr>
        <p:blipFill>
          <a:blip r:embed="rId4"/>
          <a:stretch/>
        </p:blipFill>
        <p:spPr>
          <a:xfrm>
            <a:off x="533520" y="1905120"/>
            <a:ext cx="4035240" cy="43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active v Reac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ategic Positioning toward Cyber-marketing</a:t>
            </a:r>
            <a:endParaRPr b="0" lang="en-US" sz="28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ny’s main distribution channel is the Inter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cus is to capitalize on the benefits of cyber-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ditional physical distribution channels continue to be the main mechanis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line distribution channel work as a parallel vehic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lobal v Regional Marketing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lobal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rishable products can not be provided on a global basi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Grocery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peapod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Pharmacy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walgreens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onal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ending on industry some of the services could have a regional exten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xample: Banking Sector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www.nwolb.com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peapod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v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walgreens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13" name="Picture 9" descr="Picture21"/>
          <p:cNvPicPr/>
          <p:nvPr/>
        </p:nvPicPr>
        <p:blipFill>
          <a:blip r:embed="rId3"/>
          <a:stretch/>
        </p:blipFill>
        <p:spPr>
          <a:xfrm>
            <a:off x="533520" y="1905120"/>
            <a:ext cx="4035240" cy="430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Picture20"/>
          <p:cNvPicPr/>
          <p:nvPr/>
        </p:nvPicPr>
        <p:blipFill>
          <a:blip r:embed="rId4"/>
          <a:stretch/>
        </p:blipFill>
        <p:spPr>
          <a:xfrm>
            <a:off x="4648320" y="1905120"/>
            <a:ext cx="4035240" cy="43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Online Banking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NatWest Bank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16" name="Picture 5" descr="Picture22"/>
          <p:cNvPicPr/>
          <p:nvPr/>
        </p:nvPicPr>
        <p:blipFill>
          <a:blip r:embed="rId1"/>
          <a:srcRect l="782" t="21875" r="3126" b="7293"/>
          <a:stretch/>
        </p:blipFill>
        <p:spPr>
          <a:xfrm>
            <a:off x="609480" y="1978200"/>
            <a:ext cx="8001000" cy="442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ales v Customer Service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les Serv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les becomes the priority of the firm and using online transactions for the generation of additional sales transac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stomer service and customer relationship management are key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Rules of Electronic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wer shift from sellers to buy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reasing spe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moval of dis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lobal rea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ime compres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nowledge manage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disciplinary foc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Direct Marketing - Example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intermediarie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dell.c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l critical success factor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vanced web applicatio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ice competitiveness owing to mass customiz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atabase marketing and customer intimac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lobal reach and value-added services at a single contact poi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reliability and reput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livery suppo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ss marketing (undifferentiated targeting-broadcast market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How to attract Customers ?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aining market share through cont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ent should be hourly/daily/weekly updated (real time information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ttracted to come back – web is changing (window shopping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ffering free inform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ed to build a loyal customer bas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ree information, products and services should be offer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ample: screen savers, mouse pads, air miles, etc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son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uild an intelligent database about your customers (develop interest group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nderstand your custo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ivacy is a key issu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ne time customer v returning custom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How to attract Customers ?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 online and offline read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ge 1 is very important (opening screen is crucial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ownloading capacities is a must (speed is a decider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eb versus printed vers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news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wired.com/new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-marketing and cross-sell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ke cross references between products and services (Book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reating an added-value websit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www.borders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Narrow"/>
                <a:hlinkClick r:id="rId4"/>
              </a:rPr>
              <a:t>www.bn.co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e faster than your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asiest way to get to a product/service (user friendly search engine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ne2one marketing help identify user requiremen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ubscribe to newsletter updat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ou should be always 3 clicks away from your product/servi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wired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35" name="Picture 5" descr="Picture1"/>
          <p:cNvPicPr/>
          <p:nvPr/>
        </p:nvPicPr>
        <p:blipFill>
          <a:blip r:embed="rId2"/>
          <a:stretch/>
        </p:blipFill>
        <p:spPr>
          <a:xfrm>
            <a:off x="604800" y="1981080"/>
            <a:ext cx="7935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e2One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e2one marketing (marketing that treats each customer in a unique wa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sonalization (matching of services, products, and advertising content to individual consumer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r profile (requirements, preferences, behaviors, and demographic traits of a particular customer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jor strategies used to compile user profil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licit information directly from the us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bserve what people are doing onlin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34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okie (data file that is placed on a user’s hard drive by a webserver, frequently without disclosure or the user’s consent, that collects information about the user’s activities at a sit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uild from previous purchase patter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erform marketing research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e2One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41" name="Picture 3" descr="EXH04_05"/>
          <p:cNvPicPr/>
          <p:nvPr/>
        </p:nvPicPr>
        <p:blipFill>
          <a:blip r:embed="rId1"/>
          <a:srcRect l="3162" t="11767" r="1644" b="0"/>
          <a:stretch/>
        </p:blipFill>
        <p:spPr>
          <a:xfrm>
            <a:off x="1633680" y="1981080"/>
            <a:ext cx="5833800" cy="4343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e2One Market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stomer loyalty (degree to which a customer will stay with a specific vendor or brand) - eLoyal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d customer loyalty produces cost savings through: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marketing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transaction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customer turnover expens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ower failure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 to increase eBusiness trust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gree of initial success that each party experienced with each other and with e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ll-defined roles and procedures for all parties involv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istic expectations as to outcomes from e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one2one.com.au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rcRect l="8594" t="27086" r="10938" b="7294"/>
          <a:stretch/>
        </p:blipFill>
        <p:spPr>
          <a:xfrm>
            <a:off x="990720" y="1981080"/>
            <a:ext cx="7086600" cy="433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Marketing in B2B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ganizational buyer behavi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organizational buyers is much smaller than the number of individual buy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nsaction volumes are far larg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rms of negotiations and purchasing are more comple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hods for B2B online marke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rgeting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act all of its targeted customers individuall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ectronic wholesal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ermediary sells directly to businesses, but does so exclusively onlin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ffiliate progra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lacing banners on another vendor’s websit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ent alliance program in which content is exchanged so that all can obtain some free cont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fomediar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line data mining servi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921040" y="2965320"/>
            <a:ext cx="17668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cd1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971800" y="5511960"/>
            <a:ext cx="17668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cd1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4303800" y="4094280"/>
            <a:ext cx="0" cy="12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3416400" y="4121280"/>
            <a:ext cx="0" cy="12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927680" y="4165560"/>
            <a:ext cx="2004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enchma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Link between Business Unit 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and Marketing Strateg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siness-unit strategy provides a context for the choices made while creating a marketing strateg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lectronic Marketing Structure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nic marketing can be classified a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umer-orient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siness-orient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number of characteristics need to be addressed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rketing technolog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stomer relationship management (CRM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upply chain management (SCM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ectronic data interchange (EDI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2"/>
          <p:cNvSpPr/>
          <p:nvPr/>
        </p:nvSpPr>
        <p:spPr>
          <a:xfrm>
            <a:off x="3463920" y="3147840"/>
            <a:ext cx="1738440" cy="11163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3463920" y="4570560"/>
            <a:ext cx="1738440" cy="1116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4"/>
          <p:cNvCxnSpPr>
            <a:stCxn id="263" idx="4"/>
            <a:endCxn id="264" idx="0"/>
          </p:cNvCxnSpPr>
          <p:nvPr/>
        </p:nvCxnSpPr>
        <p:spPr>
          <a:xfrm>
            <a:off x="4333680" y="426384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5"/>
          <p:cNvSpPr/>
          <p:nvPr/>
        </p:nvSpPr>
        <p:spPr>
          <a:xfrm>
            <a:off x="3895200" y="6399720"/>
            <a:ext cx="7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AutoShape 6"/>
          <p:cNvCxnSpPr>
            <a:stCxn id="264" idx="4"/>
            <a:endCxn id="266" idx="0"/>
          </p:cNvCxnSpPr>
          <p:nvPr/>
        </p:nvCxnSpPr>
        <p:spPr>
          <a:xfrm flipH="1">
            <a:off x="4274640" y="5686560"/>
            <a:ext cx="5976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Marketing Strategy for 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Pure-Play v Bricks-and-Mortar Firm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hough marketing strategy development follows a similar path for both pure-play online firms and bricks-and-mortar firms, there are differen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914400" y="3422520"/>
            <a:ext cx="22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ure-Pla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Click-and-Mort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278000" y="4084560"/>
            <a:ext cx="1757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ah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ma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800680" y="3511440"/>
            <a:ext cx="22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icks-and-Mor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6164280" y="4173480"/>
            <a:ext cx="2166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rnes and No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Oval 2"/>
          <p:cNvSpPr/>
          <p:nvPr/>
        </p:nvSpPr>
        <p:spPr>
          <a:xfrm>
            <a:off x="3692520" y="2887560"/>
            <a:ext cx="1738440" cy="1116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nline business-unit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3"/>
          <p:cNvSpPr/>
          <p:nvPr/>
        </p:nvSpPr>
        <p:spPr>
          <a:xfrm>
            <a:off x="3692520" y="4386240"/>
            <a:ext cx="1738440" cy="1116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n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AutoShape 4"/>
          <p:cNvCxnSpPr>
            <a:stCxn id="276" idx="4"/>
            <a:endCxn id="277" idx="0"/>
          </p:cNvCxnSpPr>
          <p:nvPr/>
        </p:nvCxnSpPr>
        <p:spPr>
          <a:xfrm>
            <a:off x="4562280" y="4003200"/>
            <a:ext cx="108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Text Box 5"/>
          <p:cNvSpPr/>
          <p:nvPr/>
        </p:nvSpPr>
        <p:spPr>
          <a:xfrm>
            <a:off x="3423240" y="5834160"/>
            <a:ext cx="17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e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target market 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AutoShape 6"/>
          <p:cNvCxnSpPr/>
          <p:nvPr/>
        </p:nvCxnSpPr>
        <p:spPr>
          <a:xfrm>
            <a:off x="4562280" y="5489640"/>
            <a:ext cx="540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Text Box 7"/>
          <p:cNvSpPr/>
          <p:nvPr/>
        </p:nvSpPr>
        <p:spPr>
          <a:xfrm>
            <a:off x="4160520" y="25135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re-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Pure-Play Marketing Strateg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pure-play firms, the process is largely the same as it would be for a completely offline 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2"/>
          <p:cNvSpPr/>
          <p:nvPr/>
        </p:nvSpPr>
        <p:spPr>
          <a:xfrm>
            <a:off x="4095720" y="2111400"/>
            <a:ext cx="2032200" cy="114624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48600" y="2682000"/>
            <a:ext cx="80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290520" indent="-17604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ver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ff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4133880" y="3544920"/>
            <a:ext cx="1955880" cy="1046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egrated marketing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2679840" y="4853160"/>
            <a:ext cx="1955520" cy="1046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ff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6"/>
          <p:cNvSpPr/>
          <p:nvPr/>
        </p:nvSpPr>
        <p:spPr>
          <a:xfrm>
            <a:off x="5587920" y="4853160"/>
            <a:ext cx="1955880" cy="1046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n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AutoShape 7"/>
          <p:cNvCxnSpPr>
            <a:stCxn id="286" idx="4"/>
            <a:endCxn id="288" idx="0"/>
          </p:cNvCxnSpPr>
          <p:nvPr/>
        </p:nvCxnSpPr>
        <p:spPr>
          <a:xfrm>
            <a:off x="5111280" y="325764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88" idx="4"/>
            <a:endCxn id="289" idx="0"/>
          </p:cNvCxnSpPr>
          <p:nvPr/>
        </p:nvCxnSpPr>
        <p:spPr>
          <a:xfrm rot="5400000">
            <a:off x="4254480" y="3994920"/>
            <a:ext cx="262800" cy="145512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8" idx="4"/>
            <a:endCxn id="290" idx="0"/>
          </p:cNvCxnSpPr>
          <p:nvPr/>
        </p:nvCxnSpPr>
        <p:spPr>
          <a:xfrm flipH="1" rot="16200000">
            <a:off x="5707800" y="3995640"/>
            <a:ext cx="262800" cy="145332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Text Box 10"/>
          <p:cNvSpPr/>
          <p:nvPr/>
        </p:nvSpPr>
        <p:spPr>
          <a:xfrm>
            <a:off x="3627000" y="5837040"/>
            <a:ext cx="289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target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163760" y="177840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ricks-and-Mortar 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Bricks-and-Mortar Marketing Strateg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581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ricks-and-mortar firms must develop an online marketing strategy that complements and enhances existing offline brands and asse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Pure-Play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</a:t>
            </a: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eBay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6775920" y="2242080"/>
            <a:ext cx="1757880" cy="3562200"/>
            <a:chOff x="6775920" y="2242080"/>
            <a:chExt cx="1757880" cy="3562200"/>
          </a:xfrm>
        </p:grpSpPr>
        <p:sp>
          <p:nvSpPr>
            <p:cNvPr id="302" name="Oval 4"/>
            <p:cNvSpPr/>
            <p:nvPr/>
          </p:nvSpPr>
          <p:spPr>
            <a:xfrm>
              <a:off x="7003440" y="2634840"/>
              <a:ext cx="1472040" cy="896760"/>
            </a:xfrm>
            <a:prstGeom prst="ellipse">
              <a:avLst/>
            </a:prstGeom>
            <a:solidFill>
              <a:srgbClr val="fae3a4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Online business-unit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5"/>
            <p:cNvSpPr/>
            <p:nvPr/>
          </p:nvSpPr>
          <p:spPr>
            <a:xfrm>
              <a:off x="7003440" y="3777840"/>
              <a:ext cx="1472040" cy="896760"/>
            </a:xfrm>
            <a:prstGeom prst="ellipse">
              <a:avLst/>
            </a:prstGeom>
            <a:solidFill>
              <a:srgbClr val="fae3a4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arketing strategy for online 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" name="AutoShape 6"/>
            <p:cNvCxnSpPr>
              <a:stCxn id="302" idx="4"/>
              <a:endCxn id="303" idx="0"/>
            </p:cNvCxnSpPr>
            <p:nvPr/>
          </p:nvCxnSpPr>
          <p:spPr>
            <a:xfrm>
              <a:off x="7739640" y="3531240"/>
              <a:ext cx="1080" cy="2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" name="Text Box 7"/>
            <p:cNvSpPr/>
            <p:nvPr/>
          </p:nvSpPr>
          <p:spPr>
            <a:xfrm>
              <a:off x="6775920" y="4857840"/>
              <a:ext cx="175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ho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- se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- target market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25000"/>
                <a:buFont typeface="Arial Narrow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- posit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AutoShape 8"/>
            <p:cNvCxnSpPr>
              <a:stCxn id="303" idx="4"/>
              <a:endCxn id="305" idx="0"/>
            </p:cNvCxnSpPr>
            <p:nvPr/>
          </p:nvCxnSpPr>
          <p:spPr>
            <a:xfrm>
              <a:off x="7739640" y="4674240"/>
              <a:ext cx="4680" cy="27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" name="Text Box 9"/>
            <p:cNvSpPr/>
            <p:nvPr/>
          </p:nvSpPr>
          <p:spPr>
            <a:xfrm>
              <a:off x="7324200" y="224208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ure-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Oval 10"/>
          <p:cNvSpPr/>
          <p:nvPr/>
        </p:nvSpPr>
        <p:spPr>
          <a:xfrm>
            <a:off x="2854440" y="2170080"/>
            <a:ext cx="4079880" cy="116064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ring auction-based commerce to the m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2938320" y="3909960"/>
            <a:ext cx="3905280" cy="119844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ss-market auctions as being easy, fast and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AutoShape 12"/>
          <p:cNvCxnSpPr>
            <a:stCxn id="308" idx="4"/>
            <a:endCxn id="309" idx="0"/>
          </p:cNvCxnSpPr>
          <p:nvPr/>
        </p:nvCxnSpPr>
        <p:spPr>
          <a:xfrm flipH="1">
            <a:off x="4890240" y="3330360"/>
            <a:ext cx="3960" cy="57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Text Box 13"/>
          <p:cNvSpPr/>
          <p:nvPr/>
        </p:nvSpPr>
        <p:spPr>
          <a:xfrm>
            <a:off x="3795480" y="5514480"/>
            <a:ext cx="197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target market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posit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4910040" y="51624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4622760" y="17517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438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Bay offers an opportunity to examine the integration of business-unit and marketing strategy for a pure-play fir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Bay Position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cause consumers within the automobile, luxury goods, and real estate markets value a trusted name, reliability and a large selection, eBay positions itself with one simple message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219320" y="3733920"/>
            <a:ext cx="6794280" cy="715680"/>
          </a:xfrm>
          <a:prstGeom prst="rect">
            <a:avLst/>
          </a:prstGeom>
          <a:solidFill>
            <a:srgbClr val="4c95b2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eBay is “the world’s online marketpl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Bricks-and Mortar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 Study: </a:t>
            </a:r>
            <a:r>
              <a:rPr b="1" lang="en-US" sz="3200" spc="-1" strike="noStrike">
                <a:solidFill>
                  <a:srgbClr val="420000"/>
                </a:solidFill>
                <a:latin typeface="Arial Narrow"/>
              </a:rPr>
              <a:t>LifeSavers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7104240" y="2227320"/>
            <a:ext cx="1109520" cy="8589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usiness-unit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7104240" y="3321000"/>
            <a:ext cx="1109520" cy="85572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egrated marketing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6278400" y="4394160"/>
            <a:ext cx="1109880" cy="857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ff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929720" y="4394160"/>
            <a:ext cx="1109520" cy="8571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arketing strategy for online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AutoShape 8"/>
          <p:cNvCxnSpPr>
            <a:stCxn id="324" idx="4"/>
            <a:endCxn id="325" idx="0"/>
          </p:cNvCxnSpPr>
          <p:nvPr/>
        </p:nvCxnSpPr>
        <p:spPr>
          <a:xfrm rot="5400000">
            <a:off x="7137360" y="3872520"/>
            <a:ext cx="218160" cy="82620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Text Box 9"/>
          <p:cNvSpPr/>
          <p:nvPr/>
        </p:nvSpPr>
        <p:spPr>
          <a:xfrm>
            <a:off x="6588000" y="5302080"/>
            <a:ext cx="222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target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55400" y="195948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ricks-and-Mortar 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11"/>
          <p:cNvCxnSpPr/>
          <p:nvPr/>
        </p:nvCxnSpPr>
        <p:spPr>
          <a:xfrm>
            <a:off x="7656120" y="3086280"/>
            <a:ext cx="108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12"/>
          <p:cNvCxnSpPr/>
          <p:nvPr/>
        </p:nvCxnSpPr>
        <p:spPr>
          <a:xfrm flipH="1" rot="16200000">
            <a:off x="7958880" y="3873240"/>
            <a:ext cx="218160" cy="82476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Oval 13"/>
          <p:cNvSpPr/>
          <p:nvPr/>
        </p:nvSpPr>
        <p:spPr>
          <a:xfrm>
            <a:off x="2765520" y="2125800"/>
            <a:ext cx="2127240" cy="106200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’s favorite can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14"/>
          <p:cNvSpPr/>
          <p:nvPr/>
        </p:nvSpPr>
        <p:spPr>
          <a:xfrm>
            <a:off x="2765520" y="3479760"/>
            <a:ext cx="2127240" cy="10605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ifeSavers candies add fun to your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15"/>
          <p:cNvSpPr/>
          <p:nvPr/>
        </p:nvSpPr>
        <p:spPr>
          <a:xfrm>
            <a:off x="1181160" y="4809960"/>
            <a:ext cx="2128680" cy="10605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ifeSavers candies add fun to your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4348080" y="4809960"/>
            <a:ext cx="2129040" cy="1060560"/>
          </a:xfrm>
          <a:prstGeom prst="ellipse">
            <a:avLst/>
          </a:prstGeom>
          <a:solidFill>
            <a:srgbClr val="fae3a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andystand.com offers online fun for the whol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17"/>
          <p:cNvCxnSpPr>
            <a:stCxn id="333" idx="4"/>
            <a:endCxn id="334" idx="0"/>
          </p:cNvCxnSpPr>
          <p:nvPr/>
        </p:nvCxnSpPr>
        <p:spPr>
          <a:xfrm rot="5400000">
            <a:off x="2903040" y="3882600"/>
            <a:ext cx="270360" cy="1585080"/>
          </a:xfrm>
          <a:prstGeom prst="bentConnector3">
            <a:avLst>
              <a:gd name="adj1" fmla="val 49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Text Box 18"/>
          <p:cNvSpPr/>
          <p:nvPr/>
        </p:nvSpPr>
        <p:spPr>
          <a:xfrm>
            <a:off x="2824200" y="5819760"/>
            <a:ext cx="222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target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Arial Narro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 same v different pos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3365640" y="182772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ifeSa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AutoShape 20"/>
          <p:cNvCxnSpPr/>
          <p:nvPr/>
        </p:nvCxnSpPr>
        <p:spPr>
          <a:xfrm>
            <a:off x="3825360" y="318744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21"/>
          <p:cNvCxnSpPr/>
          <p:nvPr/>
        </p:nvCxnSpPr>
        <p:spPr>
          <a:xfrm flipH="1" rot="16200000">
            <a:off x="4480560" y="3884040"/>
            <a:ext cx="270360" cy="1582200"/>
          </a:xfrm>
          <a:prstGeom prst="bentConnector3">
            <a:avLst>
              <a:gd name="adj1" fmla="val 49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Rectangle 22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514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feSavers examines integrating online and offline marketing strategy at a bricks-and-mortar fir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LifeSavers Position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ir positioning captures the idea that LifeSavers has something for everyone and focuses on the key benefit of fu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30120" y="971640"/>
            <a:ext cx="83822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371600" y="3200400"/>
            <a:ext cx="6794640" cy="716040"/>
          </a:xfrm>
          <a:prstGeom prst="rect">
            <a:avLst/>
          </a:prstGeom>
          <a:solidFill>
            <a:srgbClr val="4c95b2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At the LifeSavers Candystand, fun comes in all flav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Life Savers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candystand.com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51" name="Picture 6" descr="Picture2"/>
          <p:cNvPicPr/>
          <p:nvPr/>
        </p:nvPicPr>
        <p:blipFill>
          <a:blip r:embed="rId2"/>
          <a:stretch/>
        </p:blipFill>
        <p:spPr>
          <a:xfrm>
            <a:off x="380880" y="1925640"/>
            <a:ext cx="8393400" cy="447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onclusion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keting strategy has three main components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gmentation, or identifying relevant market segments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pecific nee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argeting, or choosing an attractive segment consistent with the firm’s resources and goa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sitioning, or strategically communicating the product’s benefits to the target seg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keting strategy for bricks-and-mortar firms differs from that of pure-play online businesses in that they must make choices in segmentation, targeting and positioning that explicitly reconcile the offline and online components of the busin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Why Internet Advertising?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s are always timely and updated at a lower cos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s reach global potential buy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line ads are cheap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b ads can use a multiplicity of models (text, animation, audio and video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b ads could be interactive and can address specific interest grou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levision viewers are migrating to the Interne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chness of format and person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e-2-one targeted advertising and marketing can be expensive, but it can also be very rewarding onlin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vertising is an attempt to disseminate information in order to affect buyer-seller transa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line marketing, enabled by the Internet, in which advertisers can interact directly with customers and consumers can interact with advertisers/vend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ustomer Relationship Management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14" name="Picture 5" descr="Picture5"/>
          <p:cNvPicPr/>
          <p:nvPr/>
        </p:nvPicPr>
        <p:blipFill>
          <a:blip r:embed="rId1"/>
          <a:srcRect l="782" t="25000" r="3126" b="7293"/>
          <a:stretch/>
        </p:blipFill>
        <p:spPr>
          <a:xfrm>
            <a:off x="838080" y="2057400"/>
            <a:ext cx="7696440" cy="40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Advertising Term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(each time a visitor clicks on an advertising banner to access the advertiser‘s websit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PM (cost per thousand impressions) – the fee an advertiser pays for each 1,000 times a page with a banner ad is sh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que visit (the number of visitors to a site, regardless of how many pages are viewed per visi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 Double Click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Advertising Online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61" name="Picture 9" descr="Picture3"/>
          <p:cNvPicPr/>
          <p:nvPr/>
        </p:nvPicPr>
        <p:blipFill>
          <a:blip r:embed="rId1"/>
          <a:stretch/>
        </p:blipFill>
        <p:spPr>
          <a:xfrm>
            <a:off x="1143000" y="1981080"/>
            <a:ext cx="7004160" cy="447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DAGMAR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developing marketing and advertising to fit the online global market pla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GMAR = Defining Advertising Goals for Measured Advertising Resul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ving from a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NAWARENES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age to a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age from customer perspectiv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t is a 4-stage model to suit a newly introduced online environ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AGMAR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304920" y="251460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n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304920" y="403848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1523880" y="3657600"/>
            <a:ext cx="0" cy="38088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895480" y="4572000"/>
            <a:ext cx="38124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3276720" y="403848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5867280" y="4572000"/>
            <a:ext cx="38124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6248520" y="403848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v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6248520" y="2514600"/>
            <a:ext cx="2590560" cy="11430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7467480" y="3657600"/>
            <a:ext cx="0" cy="380880"/>
          </a:xfrm>
          <a:prstGeom prst="line">
            <a:avLst/>
          </a:prstGeom>
          <a:ln cap="sq"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active Online Marketing Proces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ep 1 – Segment and identify potential custo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gment the market into separate and distinct customer grou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lement online product position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13280" indent="-4132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ep 2 – Create promotional, advertising and educational materi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y the target from the ad and recipi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creasing awareness of business and generate sales lea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ttracting competitor’s custo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tain customers and developing loyalt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the content and mediu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 pag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ulletin boar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98840" indent="-38376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cide on the form of the a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atic versus interactive channe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s range from images to animation, digital video and audio – customer is more activ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2480" indent="-41184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re informative a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6" name="Picture 4" descr="Click Her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64160" y="4876920"/>
            <a:ext cx="4403520" cy="56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active Online Marketing Proces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3 – Put the material on customers’ computer scree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ed for a pull and push strategy for content deliver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is a 2-way communication process that needs to be made availab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4 – Interacting with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alogue with the customer (Q&amp;A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5 – Learning from custom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earning from customers (repeat customers are 80% of the customer base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corporating feedback from customer in advertising, marketing and strateg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 6 – Online customer servi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ssential for the eBusiness cha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stomer service is a key issue in business development and growth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rand loyalty buildu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Quality servi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9" name="Picture 4" descr="load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34280" y="5673600"/>
            <a:ext cx="1733400" cy="110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ase: Ziff Davis Media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81" name="Picture 5" descr="Picture4"/>
          <p:cNvPicPr/>
          <p:nvPr/>
        </p:nvPicPr>
        <p:blipFill>
          <a:blip r:embed="rId1"/>
          <a:stretch/>
        </p:blipFill>
        <p:spPr>
          <a:xfrm>
            <a:off x="1216080" y="1944720"/>
            <a:ext cx="6713640" cy="44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ase: Dell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383" name="Picture 5" descr="Picture5"/>
          <p:cNvPicPr/>
          <p:nvPr/>
        </p:nvPicPr>
        <p:blipFill>
          <a:blip r:embed="rId1"/>
          <a:stretch/>
        </p:blipFill>
        <p:spPr>
          <a:xfrm>
            <a:off x="1523880" y="1828800"/>
            <a:ext cx="6248520" cy="468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net Advertising Model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xt-based adverti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media-based Adverti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6" name="Picture 8" descr="ClickZ Net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609480"/>
            <a:ext cx="1523880" cy="72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Text-based advertis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 is the online version of direct-mail advertising (mailing lists via eMai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; no postage charges + convenient avenue for direct response (low cost – global reach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 ads direct users via hyperlink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ail databases are growing in value for business (LISTSERV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lletin boards or newsgroups can also be used in advertising and posting inform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posting (do not apologize, it is usele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9" name="Picture 10" descr="Merchandis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19051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6" descr="McAfee®">
            <a:hlinkClick r:id="rId3"/>
          </p:cNvPr>
          <p:cNvPicPr/>
          <p:nvPr/>
        </p:nvPicPr>
        <p:blipFill>
          <a:blip r:embed="rId4"/>
          <a:srcRect l="17462" t="35034" r="16158" b="24083"/>
          <a:stretch/>
        </p:blipFill>
        <p:spPr>
          <a:xfrm>
            <a:off x="7543800" y="6094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8" descr="DELL™ FORUMS">
            <a:hlinkClick r:id="rId5"/>
          </p:cNvPr>
          <p:cNvPicPr/>
          <p:nvPr/>
        </p:nvPicPr>
        <p:blipFill>
          <a:blip r:embed="rId6"/>
          <a:srcRect l="22773" t="44166" r="26182" b="14979"/>
          <a:stretch/>
        </p:blipFill>
        <p:spPr>
          <a:xfrm>
            <a:off x="7696080" y="1219320"/>
            <a:ext cx="1143000" cy="533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4" descr="Yahoo!"/>
          <p:cNvPicPr/>
          <p:nvPr/>
        </p:nvPicPr>
        <p:blipFill>
          <a:blip r:embed="rId7"/>
          <a:stretch/>
        </p:blipFill>
        <p:spPr>
          <a:xfrm>
            <a:off x="6705720" y="3505320"/>
            <a:ext cx="2209680" cy="419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6" descr="Google"/>
          <p:cNvPicPr/>
          <p:nvPr/>
        </p:nvPicPr>
        <p:blipFill>
          <a:blip r:embed="rId8"/>
          <a:stretch/>
        </p:blipFill>
        <p:spPr>
          <a:xfrm>
            <a:off x="6248520" y="396252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8" descr="Yahoo! Musi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96080" y="5867280"/>
            <a:ext cx="1800000" cy="838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0" descr="Yahoo! Hotjobs"/>
          <p:cNvPicPr/>
          <p:nvPr/>
        </p:nvPicPr>
        <p:blipFill>
          <a:blip r:embed="rId11"/>
          <a:stretch/>
        </p:blipFill>
        <p:spPr>
          <a:xfrm>
            <a:off x="5181480" y="5410080"/>
            <a:ext cx="2476800" cy="324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2" descr="H&amp;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601992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3" descr="Dell"/>
          <p:cNvPicPr/>
          <p:nvPr/>
        </p:nvPicPr>
        <p:blipFill>
          <a:blip r:embed="rId14"/>
          <a:stretch/>
        </p:blipFill>
        <p:spPr>
          <a:xfrm>
            <a:off x="533520" y="6019920"/>
            <a:ext cx="3619440" cy="361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" descr="ecred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95880" y="190512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399" name="DefaultOcx" descr=""/>
          <p:cNvPicPr/>
          <p:nvPr/>
        </p:nvPicPr>
        <p:blipFill>
          <a:blip r:embed="rId17"/>
          <a:stretch/>
        </p:blipFill>
        <p:spPr>
          <a:xfrm>
            <a:off x="7772400" y="5257800"/>
            <a:ext cx="114300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Supply Chain Management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16" name="Picture 5" descr="Picture4"/>
          <p:cNvPicPr/>
          <p:nvPr/>
        </p:nvPicPr>
        <p:blipFill>
          <a:blip r:embed="rId1"/>
          <a:srcRect l="782" t="26043" r="19533" b="7293"/>
          <a:stretch/>
        </p:blipFill>
        <p:spPr>
          <a:xfrm>
            <a:off x="1066680" y="1886040"/>
            <a:ext cx="7315200" cy="45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Multimedia-based Advertis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t is the primary model on the we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5400" indent="-4554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ertising expenditures are as follows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nner ads (55%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nner and buttons space (standard dimensions) are rented on the web (print advertising model in magazine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ideo and audio capacities are gaining groun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nners could lead to “downloads”, or transport to another site with appealing features (animation and video clip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eractive banners (speed, drop-down menus, built-in games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anners help build brand awarene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onsorships (40%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ponsorships are built around partnerships by more than one company for web develop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mercials (4%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36680" indent="-4539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ds that appear when a publisher’s content is load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thers 1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Advertisement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03" name="Picture 5" descr="Click Her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33840" y="647640"/>
            <a:ext cx="4457880" cy="571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1" descr="acc_random=9627082423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1981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2" descr="acc_random=96270825776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1981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3" descr="acc_random=96270825776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50532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4" descr="acc_random=96270907768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86200" y="1981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5" descr="acc_random=96270907735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5867280"/>
            <a:ext cx="5349960" cy="685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6" descr="football50_v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880" y="2057400"/>
            <a:ext cx="1589040" cy="571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7" descr="digibanner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69960" y="4495680"/>
            <a:ext cx="5349960" cy="685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8" descr="movies2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209680" y="1981080"/>
            <a:ext cx="1486080" cy="685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0" descr="cnncd120x90"/>
          <p:cNvPicPr/>
          <p:nvPr/>
        </p:nvPicPr>
        <p:blipFill>
          <a:blip r:embed="rId19"/>
          <a:stretch/>
        </p:blipFill>
        <p:spPr>
          <a:xfrm>
            <a:off x="7696080" y="36576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1" descr="370wimbledon"/>
          <p:cNvPicPr/>
          <p:nvPr/>
        </p:nvPicPr>
        <p:blipFill>
          <a:blip r:embed="rId20"/>
          <a:stretch/>
        </p:blipFill>
        <p:spPr>
          <a:xfrm>
            <a:off x="1219320" y="5257800"/>
            <a:ext cx="4228920" cy="536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2" descr="nw_promo3"/>
          <p:cNvPicPr/>
          <p:nvPr/>
        </p:nvPicPr>
        <p:blipFill>
          <a:blip r:embed="rId21"/>
          <a:stretch/>
        </p:blipFill>
        <p:spPr>
          <a:xfrm>
            <a:off x="380880" y="2743200"/>
            <a:ext cx="1051200" cy="879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3" descr="nw_promo1"/>
          <p:cNvPicPr/>
          <p:nvPr/>
        </p:nvPicPr>
        <p:blipFill>
          <a:blip r:embed="rId22"/>
          <a:stretch/>
        </p:blipFill>
        <p:spPr>
          <a:xfrm>
            <a:off x="1539720" y="2743200"/>
            <a:ext cx="1051200" cy="8794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4" descr="Home page"/>
          <p:cNvPicPr/>
          <p:nvPr/>
        </p:nvPicPr>
        <p:blipFill>
          <a:blip r:embed="rId23"/>
          <a:stretch/>
        </p:blipFill>
        <p:spPr>
          <a:xfrm>
            <a:off x="2743200" y="2743200"/>
            <a:ext cx="1050840" cy="835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5" descr="Cliquez ici !"/>
          <p:cNvPicPr/>
          <p:nvPr/>
        </p:nvPicPr>
        <p:blipFill>
          <a:blip r:embed="rId24"/>
          <a:stretch/>
        </p:blipFill>
        <p:spPr>
          <a:xfrm>
            <a:off x="669960" y="3733920"/>
            <a:ext cx="5349960" cy="685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36"/>
          <p:cNvGrpSpPr/>
          <p:nvPr/>
        </p:nvGrpSpPr>
        <p:grpSpPr>
          <a:xfrm>
            <a:off x="3714840" y="3200400"/>
            <a:ext cx="1714320" cy="457200"/>
            <a:chOff x="3714840" y="3200400"/>
            <a:chExt cx="1714320" cy="457200"/>
          </a:xfrm>
        </p:grpSpPr>
        <p:sp>
          <p:nvSpPr>
            <p:cNvPr id="419" name="Rectangle 37"/>
            <p:cNvSpPr/>
            <p:nvPr/>
          </p:nvSpPr>
          <p:spPr>
            <a:xfrm>
              <a:off x="3714840" y="3200400"/>
              <a:ext cx="171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38"/>
            <p:cNvSpPr/>
            <p:nvPr/>
          </p:nvSpPr>
          <p:spPr>
            <a:xfrm>
              <a:off x="3714840" y="3200400"/>
              <a:ext cx="171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 Narrow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1" name="Picture 39" descr="88X32"/>
          <p:cNvPicPr/>
          <p:nvPr/>
        </p:nvPicPr>
        <p:blipFill>
          <a:blip r:embed="rId25"/>
          <a:stretch/>
        </p:blipFill>
        <p:spPr>
          <a:xfrm>
            <a:off x="6400800" y="6340320"/>
            <a:ext cx="1006560" cy="365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1" descr="looksmart_banner"/>
          <p:cNvPicPr/>
          <p:nvPr/>
        </p:nvPicPr>
        <p:blipFill>
          <a:blip r:embed="rId26"/>
          <a:stretch/>
        </p:blipFill>
        <p:spPr>
          <a:xfrm>
            <a:off x="3429000" y="1219320"/>
            <a:ext cx="5562720" cy="68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Advertising Method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-up ad (ad that appears before, after, or during Internet surfing or when reading eMail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-under ad (ad that appears underneath the current browser window, so when the user closes the active window, they see the a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rs can remove these ads by simply closing them or by installing software to block th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ertising in chat roo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line Advertisements Strategie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ould be visually appea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t be targeted to specific groups or to individual consu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ould be valuable to consu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t emphasize brands and a firm’s im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t be part of an overall marketing strate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ould be competitively well desig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bcas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free Internet news service that broadcasts personalized news and information in categories selected by the us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line events, promotions, and attractions (webinar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lectronic Advertising Disadvantage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duct could not be sh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product-customer communic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etition is fierce…No secr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parent environ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mportant Variable in Web Ad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ge-loading spe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siness cont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ion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urity and priva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keting customer foc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Passive Pull v Active Push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562720" y="6019920"/>
            <a:ext cx="3276360" cy="6858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assive Pull Strate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stomers look for a website to visit if ONLY it provides helpful and attractive contents and displ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t is effective when it is addressing open and unidentified potential customers global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uidance is so importa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als such as Yahoo! are effective media for advertisements, search directories and engines are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Passive Pull v Active Push Strategy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5562720" y="6019920"/>
            <a:ext cx="3276360" cy="6858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ctive Push Strate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customers do not visit the merchants’ websites voluntarily, merchants need to actively advertise to the targeted custo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nding eMails and information circulars to various custom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neration of mailing lis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Marketer Daily </a:t>
            </a: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www.emarketer.com</a:t>
            </a: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38" name="Picture 5" descr="The eMarketer Daily provides timely coverage of Internet and e-business statistics combined with eMarketer analysis. It's delivered five days a week to your e-mail box — FREE."/>
          <p:cNvPicPr/>
          <p:nvPr/>
        </p:nvPicPr>
        <p:blipFill>
          <a:blip r:embed="rId1"/>
          <a:stretch/>
        </p:blipFill>
        <p:spPr>
          <a:xfrm>
            <a:off x="3200400" y="2133720"/>
            <a:ext cx="2762280" cy="3352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eball_with_line"/>
          <p:cNvPicPr/>
          <p:nvPr/>
        </p:nvPicPr>
        <p:blipFill>
          <a:blip r:embed="rId2"/>
          <a:stretch/>
        </p:blipFill>
        <p:spPr>
          <a:xfrm>
            <a:off x="457200" y="2209680"/>
            <a:ext cx="619200" cy="63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eMarketer.com - online advertising - Basic Search Results"/>
          <p:cNvPicPr/>
          <p:nvPr/>
        </p:nvPicPr>
        <p:blipFill>
          <a:blip r:embed="rId3"/>
          <a:stretch/>
        </p:blipFill>
        <p:spPr>
          <a:xfrm>
            <a:off x="1143000" y="2362320"/>
            <a:ext cx="1457280" cy="39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Podcast Advertising Spend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2" name="Picture 6" descr="Picture8"/>
          <p:cNvPicPr/>
          <p:nvPr/>
        </p:nvPicPr>
        <p:blipFill>
          <a:blip r:embed="rId1"/>
          <a:srcRect l="0" t="3003" r="0" b="0"/>
          <a:stretch/>
        </p:blipFill>
        <p:spPr>
          <a:xfrm>
            <a:off x="1973160" y="2590920"/>
            <a:ext cx="519768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Case: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Arial Narrow"/>
              </a:rPr>
              <a:t>Electronic Data Interchange </a:t>
            </a:r>
            <a:endParaRPr b="0" lang="en-US" sz="32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118" name="Picture 5" descr="Picture3"/>
          <p:cNvPicPr/>
          <p:nvPr/>
        </p:nvPicPr>
        <p:blipFill>
          <a:blip r:embed="rId1"/>
          <a:srcRect l="782" t="26043" r="3126" b="7293"/>
          <a:stretch/>
        </p:blipFill>
        <p:spPr>
          <a:xfrm>
            <a:off x="762120" y="1981080"/>
            <a:ext cx="7848360" cy="408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Internet Users in 2006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4" name="Picture 6" descr="Picture7"/>
          <p:cNvPicPr/>
          <p:nvPr/>
        </p:nvPicPr>
        <p:blipFill>
          <a:blip r:embed="rId1"/>
          <a:srcRect l="0" t="1909" r="0" b="0"/>
          <a:stretch/>
        </p:blipFill>
        <p:spPr>
          <a:xfrm>
            <a:off x="2335320" y="1981080"/>
            <a:ext cx="4475160" cy="44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Online Advertising Spend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6" name="Picture 9" descr="Picture6"/>
          <p:cNvPicPr/>
          <p:nvPr/>
        </p:nvPicPr>
        <p:blipFill>
          <a:blip r:embed="rId1"/>
          <a:srcRect l="0" t="1928" r="0" b="0"/>
          <a:stretch/>
        </p:blipFill>
        <p:spPr>
          <a:xfrm>
            <a:off x="1949400" y="2133720"/>
            <a:ext cx="5245200" cy="38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Case: P&amp;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pic>
        <p:nvPicPr>
          <p:cNvPr id="448" name="Picture 5" descr="Picture9"/>
          <p:cNvPicPr/>
          <p:nvPr/>
        </p:nvPicPr>
        <p:blipFill>
          <a:blip r:embed="rId1"/>
          <a:srcRect l="782" t="26043" r="23438" b="7293"/>
          <a:stretch/>
        </p:blipFill>
        <p:spPr>
          <a:xfrm>
            <a:off x="990720" y="1828800"/>
            <a:ext cx="7086600" cy="467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Arial Narrow"/>
              </a:rPr>
              <a:t>Case: Proctor and Gamble (P&amp;G)</a:t>
            </a:r>
            <a:br>
              <a:rPr sz="2800"/>
            </a:br>
            <a:r>
              <a:rPr b="1" lang="en-US" sz="2800" spc="-1" strike="noStrike">
                <a:solidFill>
                  <a:srgbClr val="420000"/>
                </a:solidFill>
                <a:latin typeface="Arial Narrow"/>
              </a:rPr>
              <a:t>Competing via a web-based advertising strategy</a:t>
            </a:r>
            <a:endParaRPr b="0" lang="en-US" sz="28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survive, consumer goods companies must constantly research the markets, develop new products and advertis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b advertising is critical to the welfare to all companies in the consumer goods indus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&amp;G’s business problem is how to best use its advertising budget to get the most market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&amp;G started to advertise on the Internet in the late 1990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 2000, it had 72 active sites, mostly one site for each product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&amp;G major objective is to build around each major product a community of users on the we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Arial Narrow"/>
              </a:rPr>
              <a:t>Case: Proctor and Gamble (P&amp;G)</a:t>
            </a:r>
            <a:br>
              <a:rPr sz="2800"/>
            </a:br>
            <a:r>
              <a:rPr b="1" lang="en-US" sz="2800" spc="-1" strike="noStrike">
                <a:solidFill>
                  <a:srgbClr val="420000"/>
                </a:solidFill>
                <a:latin typeface="Arial Narrow"/>
              </a:rPr>
              <a:t>Competing via a web-based advertising strategy</a:t>
            </a:r>
            <a:endParaRPr b="0" lang="en-US" sz="28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 in building and maintaining these sites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veloping brand awareness and recognition (brand equity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llecting valuable data from consu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tting down on advertising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ducting one-to-one advertise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ling customized beauty products to individua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st improvements achieved by its web advertising strategy are qualitativ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&amp;G did well during the economic downturn of 2000–200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conomics of Advertising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cing of adverti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cing based on ad views, using CP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cing based on click-throug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yment based on interac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yment based on actual purchase: affiliate progra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ertising as a revenue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dot-com failures were caused by using advertising income as the major or the only revenue sour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suring advertising effectiven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turn on investment is used to measure the benefits received from their online advertising campaig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easuring, auditing, and analyzing web traffi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378080" indent="-46836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udience track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Rectangle 4"/>
          <p:cNvSpPr/>
          <p:nvPr/>
        </p:nvSpPr>
        <p:spPr>
          <a:xfrm flipV="1">
            <a:off x="8534520" y="6171480"/>
            <a:ext cx="380880" cy="30492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 flipV="1">
            <a:off x="8534520" y="6476400"/>
            <a:ext cx="380880" cy="228600"/>
          </a:xfrm>
          <a:prstGeom prst="rect">
            <a:avLst/>
          </a:prstGeom>
          <a:solidFill>
            <a:srgbClr val="99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Arial Narrow"/>
              </a:rPr>
              <a:t>Electronic Business Formula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9440" y="3395520"/>
            <a:ext cx="69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EB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= EC + BI + CRM + SCM + ER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05280" y="2340000"/>
            <a:ext cx="11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914400" y="3048120"/>
            <a:ext cx="122400" cy="4572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818080" y="2340000"/>
            <a:ext cx="132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713560" y="2340000"/>
            <a:ext cx="15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Supply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43040" y="4729320"/>
            <a:ext cx="14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406560" y="4729320"/>
            <a:ext cx="12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753560" y="472932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 Narrow"/>
              </a:rPr>
              <a:t>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 flipV="1">
            <a:off x="2362320" y="411444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3048120" y="3048120"/>
            <a:ext cx="30456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 flipH="1" flipV="1">
            <a:off x="4267080" y="4190760"/>
            <a:ext cx="60984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6939000" y="411444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H="1">
            <a:off x="5638320" y="3124080"/>
            <a:ext cx="685800" cy="4572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7391520" y="3276720"/>
            <a:ext cx="1600200" cy="114300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Narrow"/>
              </a:rPr>
              <a:t>eBusiness Formula Components</a:t>
            </a:r>
            <a:endParaRPr b="0" lang="en-US" sz="3600" spc="-1" strike="noStrike">
              <a:solidFill>
                <a:srgbClr val="42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lectronic Commerce (EC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uses digital technologies such as the Internet and bar code scanners to enable the buying and selling process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Business Intelligence (BI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refers to the gathering of secondary and primary information about competitors, markets, customers, etc…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Customer Relationship Management (CRM)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involves retaining both business and individual customers through strategies that ensure their satisfaction with the firm and its produc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ly Chain Management (SC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involves coordination of the distribution channel to deliver products effectively and efficiently to custo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terprise Resource Planning (ERP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refers to the back office operations such as order entry, purchasing, invoicing, and inventory contro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62200" indent="-41436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t allows organizations to optimize business processes while lowering co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248520" y="652788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Rayport and Jaworsk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248520" y="637236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3 Marketspace LL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248520" y="6219720"/>
            <a:ext cx="2819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pyright © 2006 Turban el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0:22:44Z</dcterms:created>
  <dc:creator>Sherif Kamel</dc:creator>
  <dc:description/>
  <dc:language>en-US</dc:language>
  <cp:lastModifiedBy>lenovo</cp:lastModifiedBy>
  <dcterms:modified xsi:type="dcterms:W3CDTF">2012-03-09T16:38:10Z</dcterms:modified>
  <cp:revision>346</cp:revision>
  <dc:subject/>
  <dc:title>Slide 1</dc:title>
</cp:coreProperties>
</file>