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59.jpeg" ContentType="image/jpeg"/>
  <Override PartName="/ppt/media/image57.gif" ContentType="image/gif"/>
  <Override PartName="/ppt/media/image10.jpeg" ContentType="image/jpeg"/>
  <Override PartName="/ppt/media/image56.gif" ContentType="image/gif"/>
  <Override PartName="/ppt/media/image34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.jpeg" ContentType="image/jpeg"/>
  <Override PartName="/ppt/media/image61.png" ContentType="image/png"/>
  <Override PartName="/ppt/media/image63.jpeg" ContentType="image/jpeg"/>
  <Override PartName="/ppt/media/image26.gif" ContentType="image/gif"/>
  <Override PartName="/ppt/media/image55.png" ContentType="image/png"/>
  <Override PartName="/ppt/media/image52.gif" ContentType="image/gif"/>
  <Override PartName="/ppt/media/image20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22.png" ContentType="image/png"/>
  <Override PartName="/ppt/media/image19.jpeg" ContentType="image/jpeg"/>
  <Override PartName="/ppt/media/image24.jpeg" ContentType="image/jpeg"/>
  <Override PartName="/ppt/media/image27.gif" ContentType="image/gif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49.gif" ContentType="image/gif"/>
  <Override PartName="/ppt/media/image12.jpeg" ContentType="image/jpeg"/>
  <Override PartName="/ppt/media/image29.jpeg" ContentType="image/jpeg"/>
  <Override PartName="/ppt/media/image58.gif" ContentType="image/gif"/>
  <Override PartName="/ppt/media/image8.jpeg" ContentType="image/jpeg"/>
  <Override PartName="/ppt/media/image38.png" ContentType="image/png"/>
  <Override PartName="/ppt/media/image62.jpeg" ContentType="image/jpeg"/>
  <Override PartName="/ppt/media/image41.wmf" ContentType="image/x-wmf"/>
  <Override PartName="/ppt/media/image45.gif" ContentType="image/gif"/>
  <Override PartName="/ppt/media/image23.png" ContentType="image/png"/>
  <Override PartName="/ppt/media/image13.jpeg" ContentType="image/jpeg"/>
  <Override PartName="/ppt/media/image51.gif" ContentType="image/gif"/>
  <Override PartName="/ppt/media/image28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3.png" ContentType="image/png"/>
  <Override PartName="/ppt/media/image35.png" ContentType="image/png"/>
  <Override PartName="/ppt/media/image42.gif" ContentType="image/gif"/>
  <Override PartName="/ppt/media/image37.png" ContentType="image/png"/>
  <Override PartName="/ppt/media/image44.gif" ContentType="image/gif"/>
  <Override PartName="/ppt/media/image64.jpeg" ContentType="image/jpeg"/>
  <Override PartName="/ppt/media/image39.png" ContentType="image/png"/>
  <Override PartName="/ppt/media/image65.jpeg" ContentType="image/jpeg"/>
  <Override PartName="/ppt/media/image46.gif" ContentType="image/gif"/>
  <Override PartName="/ppt/media/image4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53.gif" ContentType="image/gif"/>
  <Override PartName="/ppt/media/image54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990-9F24-4C8F-8E78-BD19ABD9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487-8E22-4ADF-99C9-12BC1976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55F-B7E1-4CEE-9A82-D99B25F1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E72-FEF2-4D5E-8146-00D79EF5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7BA-6B61-4DEF-B999-CE39E1AE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8E1-6885-43AD-A8A3-B96E6EAF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0A9-193C-4853-8D97-7C104E54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DEE-E6F2-4040-9C16-A4E9A317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960-AEC2-4666-8DCE-7B302461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160-4131-4686-8F64-3249D4E9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1CB-D736-4C61-9B75-40F391EF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932-8039-43A4-9955-2CE2EC9B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297160" indent="-468360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Rectangle 13"/>
          <p:cNvSpPr/>
          <p:nvPr/>
        </p:nvSpPr>
        <p:spPr>
          <a:xfrm>
            <a:off x="763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4-2007 Sherif Kam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7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297160" indent="-468360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31F1-EF56-46FD-86A4-348FA09614E5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ll.com/" TargetMode="External"/><Relationship Id="rId2" Type="http://schemas.openxmlformats.org/officeDocument/2006/relationships/hyperlink" Target="http://www.mallofamerica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ell.com/" TargetMode="External"/><Relationship Id="rId2" Type="http://schemas.openxmlformats.org/officeDocument/2006/relationships/hyperlink" Target="http://www.mallofamerica.com/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bn.com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bn.com/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almart.com/" TargetMode="External"/><Relationship Id="rId2" Type="http://schemas.openxmlformats.org/officeDocument/2006/relationships/hyperlink" Target="http://www.internet.mall/" TargetMode="External"/><Relationship Id="rId3" Type="http://schemas.openxmlformats.org/officeDocument/2006/relationships/hyperlink" Target="http://www.bestbookbuys.com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almart.com/" TargetMode="External"/><Relationship Id="rId2" Type="http://schemas.openxmlformats.org/officeDocument/2006/relationships/hyperlink" Target="http://www.bestbookbuys.com/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hoo.com/" TargetMode="External"/><Relationship Id="rId2" Type="http://schemas.openxmlformats.org/officeDocument/2006/relationships/hyperlink" Target="http://www.excite.com/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ritishairways.com/" TargetMode="External"/><Relationship Id="rId2" Type="http://schemas.openxmlformats.org/officeDocument/2006/relationships/hyperlink" Target="http://www.gap.com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a.com/" TargetMode="External"/><Relationship Id="rId2" Type="http://schemas.openxmlformats.org/officeDocument/2006/relationships/hyperlink" Target="http://www.gap.com/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johnlewis.com/" TargetMode="External"/><Relationship Id="rId2" Type="http://schemas.openxmlformats.org/officeDocument/2006/relationships/hyperlink" Target="http://www.hp.com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johnlewis.com/" TargetMode="External"/><Relationship Id="rId2" Type="http://schemas.openxmlformats.org/officeDocument/2006/relationships/hyperlink" Target="http://www.hp.com/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eapod.com/" TargetMode="External"/><Relationship Id="rId2" Type="http://schemas.openxmlformats.org/officeDocument/2006/relationships/hyperlink" Target="http://www.walgreens.com/" TargetMode="External"/><Relationship Id="rId3" Type="http://schemas.openxmlformats.org/officeDocument/2006/relationships/hyperlink" Target="http://www.nwolb.com/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peapod.com/" TargetMode="External"/><Relationship Id="rId2" Type="http://schemas.openxmlformats.org/officeDocument/2006/relationships/hyperlink" Target="http://www.walgreens.com/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dell.com/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news.com/" TargetMode="External"/><Relationship Id="rId2" Type="http://schemas.openxmlformats.org/officeDocument/2006/relationships/hyperlink" Target="http://www.wired.com/news" TargetMode="External"/><Relationship Id="rId3" Type="http://schemas.openxmlformats.org/officeDocument/2006/relationships/hyperlink" Target="http://www.borders.comwww.bn.comwww.amazon.com/" TargetMode="External"/><Relationship Id="rId4" Type="http://schemas.openxmlformats.org/officeDocument/2006/relationships/hyperlink" Target="http://www.borders.comwww.bn.comwww.amazon.com/" TargetMode="Externa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ired.com/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one2one.com.au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candystand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216.34.184.221/banman.asp?Task=Click&amp;ZoneID=4&amp;CampaignID=76&amp;AdvertiserID=2&amp;BannerID=1&amp;SiteID=0&amp;RandomNumber=69975" TargetMode="Externa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livegoal.net/cgi-bin/adgenie/loadlink.cgi?125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newsletters.clickz.com/c.html?rtr=on&amp;s=auxa,29ud,52v,cx92,kl9f,51y9,8wz8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cafepress.com/itotd/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dhs.r.delivery.net/r/c/r?2.1.Hl.2Ue.qkMAH.EJQKEY..N.DclE.2awu.DbdOEbU0" TargetMode="External"/><Relationship Id="rId4" Type="http://schemas.openxmlformats.org/officeDocument/2006/relationships/image" Target="../media/image32.png"/><Relationship Id="rId5" Type="http://schemas.openxmlformats.org/officeDocument/2006/relationships/hyperlink" Target="http://dhs.r.delivery.net/r/c/r?2.1.Hl.2Ue.qkMAH.EJQKEY..N.DclG.2awu.DcDCEbW0" TargetMode="External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hyperlink" Target="http://music.yahoo.com/" TargetMode="External"/><Relationship Id="rId10" Type="http://schemas.openxmlformats.org/officeDocument/2006/relationships/image" Target="../media/image36.jpeg"/><Relationship Id="rId11" Type="http://schemas.openxmlformats.org/officeDocument/2006/relationships/image" Target="../media/image37.png"/><Relationship Id="rId12" Type="http://schemas.openxmlformats.org/officeDocument/2006/relationships/hyperlink" Target="http://us.ard.yahoo.com/SIG=12h43k15a/M=389956.10088034.10766394.7929445/D=hojo/S=396510659:NH3/Y=YAHOO/EXP=1172945884/A=4338812/R=0/SIG=11ss209if/*http://hotjobs.yahoo.com/Company-Profiles/H/H-M-Jobs_27882" TargetMode="External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hyperlink" Target="http://www.cnn.com/event.ng/Type=click&amp;RunID=27201&amp;ProfileID=2122&amp;AdID=21186&amp;GroupID=376&amp;FamilyID=5743&amp;TagValues=4.435.644.645.3434&amp;Redirect=http:%2F%2Fcgi.pathfinder.com%2Fcgi-bin%2Fmagsubs%2Fcc%2Fsubs%2Fecompanynowcc1%3FEFFORTKEY%3DECAASF1" TargetMode="External"/><Relationship Id="rId16" Type="http://schemas.openxmlformats.org/officeDocument/2006/relationships/image" Target="../media/image40.png"/><Relationship Id="rId17" Type="http://schemas.openxmlformats.org/officeDocument/2006/relationships/image" Target="../media/image41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adserver.adtech.de/?adlink%7C500%7C1003240%7C0%7C1%7CAdId=1001880;BnId=3;itime=938153826;key=footballscorecentre;" TargetMode="External"/><Relationship Id="rId2" Type="http://schemas.openxmlformats.org/officeDocument/2006/relationships/image" Target="../media/image42.gif"/><Relationship Id="rId3" Type="http://schemas.openxmlformats.org/officeDocument/2006/relationships/hyperlink" Target="http://business2.ads.imaginemedia.com/cgi-bin/accipiter/adclick.exe/site=BUSINESS2/area=B2.BUSINESS2.magazine.indepth.120X120.1/adsize=120X120/acc_random=962708242320" TargetMode="External"/><Relationship Id="rId4" Type="http://schemas.openxmlformats.org/officeDocument/2006/relationships/image" Target="../media/image43.gif"/><Relationship Id="rId5" Type="http://schemas.openxmlformats.org/officeDocument/2006/relationships/hyperlink" Target="http://business2.ads.imaginemedia.com/cgi-bin/accipiter/adclick.exe/site=BUSINESS2/area=B2.BUSINESS2.magazine.indepth.120X120.2/adsize=120X120/acc_random=962708257760" TargetMode="External"/><Relationship Id="rId6" Type="http://schemas.openxmlformats.org/officeDocument/2006/relationships/image" Target="../media/image44.gif"/><Relationship Id="rId7" Type="http://schemas.openxmlformats.org/officeDocument/2006/relationships/hyperlink" Target="http://business2.ads.imaginemedia.com/cgi-bin/accipiter/adclick.exe/site=BUSINESS2/area=B2.BUSINESS2.magazine.indepth.120X240/adsize=120X240/acc_random=962708257760" TargetMode="External"/><Relationship Id="rId8" Type="http://schemas.openxmlformats.org/officeDocument/2006/relationships/image" Target="../media/image45.gif"/><Relationship Id="rId9" Type="http://schemas.openxmlformats.org/officeDocument/2006/relationships/hyperlink" Target="http://business2.ads.imaginemedia.com/cgi-bin/accipiter/adclick.exe/site=BUSINESS2/area=B2.BUSINESS2.magazine.120X120.2/adsize=120X120/acc_random=962709077680" TargetMode="External"/><Relationship Id="rId10" Type="http://schemas.openxmlformats.org/officeDocument/2006/relationships/image" Target="../media/image46.gif"/><Relationship Id="rId11" Type="http://schemas.openxmlformats.org/officeDocument/2006/relationships/hyperlink" Target="http://business2.ads.imaginemedia.com/cgi-bin/accipiter/adclick.exe/site=BUSINESS2/area=B2.BUSINESS2.magazine.468X60/adsize=468X60/acc_random=962709077350" TargetMode="External"/><Relationship Id="rId12" Type="http://schemas.openxmlformats.org/officeDocument/2006/relationships/image" Target="../media/image47.gif"/><Relationship Id="rId13" Type="http://schemas.openxmlformats.org/officeDocument/2006/relationships/hyperlink" Target="http://www.sky.com/cgi/skybuy.pl?url=http://www.surreysports.com/sky.html?aff=18" TargetMode="External"/><Relationship Id="rId14" Type="http://schemas.openxmlformats.org/officeDocument/2006/relationships/image" Target="../media/image48.gif"/><Relationship Id="rId15" Type="http://schemas.openxmlformats.org/officeDocument/2006/relationships/hyperlink" Target="http://ad.doubleclick.net/click;1301248;0-0;0;3723273;1-468%7C60;0%7C0%7C0;;?http://www.sky.com/skydigital/" TargetMode="External"/><Relationship Id="rId16" Type="http://schemas.openxmlformats.org/officeDocument/2006/relationships/image" Target="../media/image49.gif"/><Relationship Id="rId17" Type="http://schemas.openxmlformats.org/officeDocument/2006/relationships/hyperlink" Target="http://ad.doubleclick.net/click;1411977;0-0;0;3723273;262-130%7C60;0%7C0%7C0;;?http://www.sky.com/movies" TargetMode="External"/><Relationship Id="rId18" Type="http://schemas.openxmlformats.org/officeDocument/2006/relationships/image" Target="../media/image50.gif"/><Relationship Id="rId19" Type="http://schemas.openxmlformats.org/officeDocument/2006/relationships/image" Target="../media/image51.gif"/><Relationship Id="rId20" Type="http://schemas.openxmlformats.org/officeDocument/2006/relationships/image" Target="../media/image52.gif"/><Relationship Id="rId21" Type="http://schemas.openxmlformats.org/officeDocument/2006/relationships/image" Target="../media/image53.gif"/><Relationship Id="rId22" Type="http://schemas.openxmlformats.org/officeDocument/2006/relationships/image" Target="../media/image54.gif"/><Relationship Id="rId23" Type="http://schemas.openxmlformats.org/officeDocument/2006/relationships/image" Target="../media/image55.png"/><Relationship Id="rId24" Type="http://schemas.openxmlformats.org/officeDocument/2006/relationships/image" Target="../media/image56.gif"/><Relationship Id="rId25" Type="http://schemas.openxmlformats.org/officeDocument/2006/relationships/image" Target="../media/image57.gif"/><Relationship Id="rId26" Type="http://schemas.openxmlformats.org/officeDocument/2006/relationships/image" Target="../media/image58.gif"/><Relationship Id="rId27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Arial Narrow"/>
              </a:rPr>
              <a:t>Marketing and Advertising </a:t>
            </a: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Arial Narrow"/>
              </a:rPr>
              <a:t>in Electronic Business 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2120" y="40381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r Sherif Kam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495360" y="1066680"/>
          <a:ext cx="3085920" cy="1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66680"/>
                    <a:ext cx="308592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What is Electronic Marketing?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 is the application of the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ne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nd related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gital technologie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to achieve marketing objectiv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rketing consists of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ividual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rganizational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ctivities that facilitate and expedite satisfying exchange relationships in a dynamic environment through the creation, distribution, promotion and pricing of goods, services and idea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 electronic marketing plan is essential to be able to realize the objectives of an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lectronic business strateg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nd it depends on the creation of a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early defined strategic proc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Electronic Marketing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48" name="Picture 5" descr="Picture2"/>
          <p:cNvPicPr/>
          <p:nvPr/>
        </p:nvPicPr>
        <p:blipFill>
          <a:blip r:embed="rId1"/>
          <a:srcRect l="21094" t="22918" r="22655" b="7293"/>
          <a:stretch/>
        </p:blipFill>
        <p:spPr>
          <a:xfrm>
            <a:off x="2362320" y="2133720"/>
            <a:ext cx="4419360" cy="4111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Stages of a Marketing Strategy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tu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where are we now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where do we want to be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ateg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how do we get there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ctic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how exactly do we get there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What is our plan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tro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did we get there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Business Models for Electronic Marketing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rect marketing v indirect 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 v partial cyber-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ctronic distributor v brok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ctronic store v shopping ma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eneralized v specialized eMalls/Sto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active v reactive strategic posture toward cyber-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lobal v regional 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les v customer supp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Direct v Indirect Marketing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ect 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nufacturers advertise and distribute their own products to customers via Internet-based electronic store – without interven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5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ample: Dell computers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dell.com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irect 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ts are distributed through third party intermediaries such as eMal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5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ample: Mall of America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mallofamerica.com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dell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mallofamerica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 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65" name="Picture 9" descr="Picture6"/>
          <p:cNvPicPr/>
          <p:nvPr/>
        </p:nvPicPr>
        <p:blipFill>
          <a:blip r:embed="rId3"/>
          <a:stretch/>
        </p:blipFill>
        <p:spPr>
          <a:xfrm>
            <a:off x="536400" y="1828800"/>
            <a:ext cx="4035600" cy="430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Picture7"/>
          <p:cNvPicPr/>
          <p:nvPr/>
        </p:nvPicPr>
        <p:blipFill>
          <a:blip r:embed="rId4"/>
          <a:stretch/>
        </p:blipFill>
        <p:spPr>
          <a:xfrm>
            <a:off x="4648320" y="1828800"/>
            <a:ext cx="4035240" cy="430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Full v Partial Cyber-marketing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ull Cyber-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anies sell their products and services only through the Intern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ample: Amazon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amazon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ial Cyber-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anies sell their products both online and offline (traditional physical store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Barnes and Nob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bn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amazon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bn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73" name="Picture 9" descr="Picture8"/>
          <p:cNvPicPr/>
          <p:nvPr/>
        </p:nvPicPr>
        <p:blipFill>
          <a:blip r:embed="rId3"/>
          <a:stretch/>
        </p:blipFill>
        <p:spPr>
          <a:xfrm>
            <a:off x="533520" y="1828800"/>
            <a:ext cx="4035240" cy="4303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Picture9"/>
          <p:cNvPicPr/>
          <p:nvPr/>
        </p:nvPicPr>
        <p:blipFill>
          <a:blip r:embed="rId4"/>
          <a:stretch/>
        </p:blipFill>
        <p:spPr>
          <a:xfrm>
            <a:off x="4648320" y="1828800"/>
            <a:ext cx="4035240" cy="430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Electronic Distributor v Broker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ctronic Distribu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tributors are responsible for order fulfillment and guarante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Dell, Amazon and Wal-Mart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walmart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ctronic Brok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okers only introduce suppliers who deal with the items that the customers are looking f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Internet Mall, bestbookbuy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827360" indent="-4381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internet.mall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827360" indent="-4381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www.bestbookbuys.co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ample: Yahoo! and Excite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walmart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bestbookbuys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81" name="Picture 9" descr="Picture11"/>
          <p:cNvPicPr/>
          <p:nvPr/>
        </p:nvPicPr>
        <p:blipFill>
          <a:blip r:embed="rId3"/>
          <a:stretch/>
        </p:blipFill>
        <p:spPr>
          <a:xfrm>
            <a:off x="4648320" y="1828800"/>
            <a:ext cx="4035240" cy="4303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Picture12"/>
          <p:cNvPicPr/>
          <p:nvPr/>
        </p:nvPicPr>
        <p:blipFill>
          <a:blip r:embed="rId4"/>
          <a:stretch/>
        </p:blipFill>
        <p:spPr>
          <a:xfrm>
            <a:off x="533520" y="1828800"/>
            <a:ext cx="4035240" cy="430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lectronic Business and Market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w electronic marketing strategies to handle changes in the world of eBusin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ping with the change from physical to intellectual and digital products, and process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role of electronic marketing in handling the change from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rketplac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rketspa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yahoo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excite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84" name="Picture 9" descr="Picture14"/>
          <p:cNvPicPr/>
          <p:nvPr/>
        </p:nvPicPr>
        <p:blipFill>
          <a:blip r:embed="rId3"/>
          <a:stretch/>
        </p:blipFill>
        <p:spPr>
          <a:xfrm>
            <a:off x="4648320" y="1828800"/>
            <a:ext cx="4035240" cy="430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Picture13"/>
          <p:cNvPicPr/>
          <p:nvPr/>
        </p:nvPicPr>
        <p:blipFill>
          <a:blip r:embed="rId4"/>
          <a:stretch/>
        </p:blipFill>
        <p:spPr>
          <a:xfrm>
            <a:off x="533520" y="1828800"/>
            <a:ext cx="4035240" cy="430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lectronic Store v Shopping Mall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ctronic St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anies selling their products onl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dependent sto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British Airway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britishairways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ctronic Shopping Mal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d as a wide umbrella term of electronic shop and electronic store as well as a ma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gap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gap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ba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gap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92" name="Picture 9" descr="Picture17"/>
          <p:cNvPicPr/>
          <p:nvPr/>
        </p:nvPicPr>
        <p:blipFill>
          <a:blip r:embed="rId3"/>
          <a:stretch/>
        </p:blipFill>
        <p:spPr>
          <a:xfrm>
            <a:off x="4648320" y="1828800"/>
            <a:ext cx="4035240" cy="4303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Picture15"/>
          <p:cNvPicPr/>
          <p:nvPr/>
        </p:nvPicPr>
        <p:blipFill>
          <a:blip r:embed="rId4"/>
          <a:stretch/>
        </p:blipFill>
        <p:spPr>
          <a:xfrm>
            <a:off x="533520" y="1828800"/>
            <a:ext cx="4035240" cy="430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eneralized v Specialized eMalls/Store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neralized eMalls/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als with various categories of items where supply is diversifi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Online department stor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johnlewis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ecialized eMalls/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cus only on special types of ite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books and computer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hp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johnlewis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hp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00" name="Picture 9" descr="Picture19"/>
          <p:cNvPicPr/>
          <p:nvPr/>
        </p:nvPicPr>
        <p:blipFill>
          <a:blip r:embed="rId3"/>
          <a:stretch/>
        </p:blipFill>
        <p:spPr>
          <a:xfrm>
            <a:off x="4724280" y="1905120"/>
            <a:ext cx="4035600" cy="4303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Picture18"/>
          <p:cNvPicPr/>
          <p:nvPr/>
        </p:nvPicPr>
        <p:blipFill>
          <a:blip r:embed="rId4"/>
          <a:stretch/>
        </p:blipFill>
        <p:spPr>
          <a:xfrm>
            <a:off x="533520" y="1905120"/>
            <a:ext cx="4035240" cy="430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active v React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rategic Positioning toward Cyber-marketing</a:t>
            </a:r>
            <a:endParaRPr b="0" lang="en-US" sz="28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any’s main distribution channel is the Intern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cus is to capitalize on the benefits of cyber-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ditional physical distribution channels continue to be the main mechanis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line distribution channel work as a parallel vehic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lobal v Regional Marketing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lobal 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erishable products can not be provided on a global basi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ample: Grocery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peapod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ample: Pharmacy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walgreens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onal 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ending on industry some of the services could have a regional extens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Banking Sector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www.nwolb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peapod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walgreens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13" name="Picture 9" descr="Picture21"/>
          <p:cNvPicPr/>
          <p:nvPr/>
        </p:nvPicPr>
        <p:blipFill>
          <a:blip r:embed="rId3"/>
          <a:stretch/>
        </p:blipFill>
        <p:spPr>
          <a:xfrm>
            <a:off x="533520" y="1905120"/>
            <a:ext cx="4035240" cy="4303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Picture20"/>
          <p:cNvPicPr/>
          <p:nvPr/>
        </p:nvPicPr>
        <p:blipFill>
          <a:blip r:embed="rId4"/>
          <a:stretch/>
        </p:blipFill>
        <p:spPr>
          <a:xfrm>
            <a:off x="4648320" y="1905120"/>
            <a:ext cx="4035240" cy="430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 Online Banking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NatWest Bank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16" name="Picture 5" descr="Picture22"/>
          <p:cNvPicPr/>
          <p:nvPr/>
        </p:nvPicPr>
        <p:blipFill>
          <a:blip r:embed="rId1"/>
          <a:srcRect l="782" t="21875" r="3126" b="7293"/>
          <a:stretch/>
        </p:blipFill>
        <p:spPr>
          <a:xfrm>
            <a:off x="609480" y="1978200"/>
            <a:ext cx="8001000" cy="442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ales v Customer Service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les Servi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les becomes the priority of the firm and using online transactions for the generation of additional sales transac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stomer Servi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stomer service and customer relationship management are key iss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Rules of Electronic Market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wer shift from sellers to buy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reasing spe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moval of dis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lobal rea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ime compress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nowledge manage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disciplinary focu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Direct Marketing - Example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intermediarie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dell.c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l critical success factor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dvanced web applicatio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ice competitiveness owing to mass customiz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atabase marketing and customer intimac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lobal reach and value-added services at a single contact poi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igh reliability and reput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livery suppo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ss marketing (undifferentiated targeting-broadcast market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How to attract Customers ?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aining market share through cont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tent should be hourly/daily/weekly updated (real time information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ttracted to come back – web is changing (window shopping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ffering free inform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ed to build a loyal customer bas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ree information, products and services should be offered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ample: screen savers, mouse pads, air miles, etc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sonaliz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uild an intelligent database about your customers (develop interest groups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Understand your custom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ivacy is a key issu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ne time customer v returning custome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How to attract Customers ?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 online and offline read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ge 1 is very important (opening screen is crucial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ownloading capacities is a must (speed is a decider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eb versus printed vers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news.co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wired.com/new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oss-marketing and cross-sell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ke cross references between products and services (Books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reating an added-value websit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www.borders.co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 Narrow"/>
                <a:hlinkClick r:id="rId4"/>
              </a:rPr>
              <a:t>www.bn.co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e faster than your custom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asiest way to get to a product/service (user friendly search engine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ne2one marketing help identify user requiremen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ubscribe to newsletter updat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You should be always 3 clicks away from your product/servi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wired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35" name="Picture 5" descr="Picture1"/>
          <p:cNvPicPr/>
          <p:nvPr/>
        </p:nvPicPr>
        <p:blipFill>
          <a:blip r:embed="rId2"/>
          <a:stretch/>
        </p:blipFill>
        <p:spPr>
          <a:xfrm>
            <a:off x="604800" y="1981080"/>
            <a:ext cx="7935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One2One Market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e2one marketing (marketing that treats each customer in a unique way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sonalization (matching of services, products, and advertising content to individual consumer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r profile (requirements, preferences, behaviors, and demographic traits of a particular customer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jor strategies used to compile user profil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olicit information directly from the use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bserve what people are doing onlin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3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okie (data file that is placed on a user’s hard drive by a webserver, frequently without disclosure or the user’s consent, that collects information about the user’s activities at a sit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uild from previous purchase patter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erform marketing research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One2One Market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41" name="Picture 3" descr="EXH04_05"/>
          <p:cNvPicPr/>
          <p:nvPr/>
        </p:nvPicPr>
        <p:blipFill>
          <a:blip r:embed="rId1"/>
          <a:srcRect l="3162" t="11767" r="1644" b="0"/>
          <a:stretch/>
        </p:blipFill>
        <p:spPr>
          <a:xfrm>
            <a:off x="1633680" y="1981080"/>
            <a:ext cx="5833800" cy="43434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One2One Market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stomer loyalty (degree to which a customer will stay with a specific vendor or brand) - eLoyal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reased customer loyalty produces cost savings through: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ower marketing cos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ower transaction cos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ower customer turnover expens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ower failure cos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 to increase eBusiness trust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gree of initial success that each party experienced with each other and with eBusin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ll-defined roles and procedures for all parties involv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istic expectations as to outcomes from eBusin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one2one.com.au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rcRect l="8594" t="27086" r="10938" b="7294"/>
          <a:stretch/>
        </p:blipFill>
        <p:spPr>
          <a:xfrm>
            <a:off x="990720" y="1981080"/>
            <a:ext cx="7086600" cy="433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Marketing in B2B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ganizational buyer behavi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organizational buyers is much smaller than the number of individual buy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nsaction volumes are far larg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rms of negotiations and purchasing are more complex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thods for B2B online 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rgeting custom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tact all of its targeted customers individuall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dvertisin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ectronic wholesal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ermediary sells directly to businesses, but does so exclusively onlin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ffiliate program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lacing banners on another vendor’s websit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tent alliance program in which content is exchanged so that all can obtain some free cont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fomediari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line data mining servic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2921040" y="2965320"/>
            <a:ext cx="17668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cd1b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usiness-Unit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971800" y="5511960"/>
            <a:ext cx="17668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cd1b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ing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4303800" y="4094280"/>
            <a:ext cx="0" cy="12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3416400" y="4121280"/>
            <a:ext cx="0" cy="12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927680" y="4165560"/>
            <a:ext cx="2004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enchma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Link between Business Unit 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and Marketing Strategy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siness-unit strategy provides a context for the choices made while creating a marketing strateg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lectronic Marketing Structure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ctronic marketing can be classified as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sumer-orient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siness-orient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 number of characteristics need to be addressed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arketing technologi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stomer relationship management (CRM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upply chain management (SCM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ectronic data interchange (EDI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2"/>
          <p:cNvSpPr/>
          <p:nvPr/>
        </p:nvSpPr>
        <p:spPr>
          <a:xfrm>
            <a:off x="3463920" y="3147840"/>
            <a:ext cx="1738440" cy="11163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usiness-unit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"/>
          <p:cNvSpPr/>
          <p:nvPr/>
        </p:nvSpPr>
        <p:spPr>
          <a:xfrm>
            <a:off x="3463920" y="4570560"/>
            <a:ext cx="1738440" cy="111600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AutoShape 4"/>
          <p:cNvCxnSpPr>
            <a:stCxn id="263" idx="4"/>
            <a:endCxn id="264" idx="0"/>
          </p:cNvCxnSpPr>
          <p:nvPr/>
        </p:nvCxnSpPr>
        <p:spPr>
          <a:xfrm>
            <a:off x="4333680" y="426384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5"/>
          <p:cNvSpPr/>
          <p:nvPr/>
        </p:nvSpPr>
        <p:spPr>
          <a:xfrm>
            <a:off x="3895200" y="6399720"/>
            <a:ext cx="7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AutoShape 6"/>
          <p:cNvCxnSpPr>
            <a:stCxn id="264" idx="4"/>
            <a:endCxn id="266" idx="0"/>
          </p:cNvCxnSpPr>
          <p:nvPr/>
        </p:nvCxnSpPr>
        <p:spPr>
          <a:xfrm flipH="1">
            <a:off x="4274640" y="5686560"/>
            <a:ext cx="5976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Marketing Strategy for 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Pure-Play v Bricks-and-Mortar Firm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though marketing strategy development follows a similar path for both pure-play online firms and bricks-and-mortar firms, there are differenc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914400" y="3422520"/>
            <a:ext cx="22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ure-Play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Click-and-Mort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278000" y="4084560"/>
            <a:ext cx="1757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Yah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ma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800680" y="3511440"/>
            <a:ext cx="22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ricks-and-Mor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6164280" y="4173480"/>
            <a:ext cx="2166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arnes and No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Oval 2"/>
          <p:cNvSpPr/>
          <p:nvPr/>
        </p:nvSpPr>
        <p:spPr>
          <a:xfrm>
            <a:off x="3692520" y="2887560"/>
            <a:ext cx="1738440" cy="111600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nline business-unit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3"/>
          <p:cNvSpPr/>
          <p:nvPr/>
        </p:nvSpPr>
        <p:spPr>
          <a:xfrm>
            <a:off x="3692520" y="4386240"/>
            <a:ext cx="1738440" cy="111600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arketing strategy for online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AutoShape 4"/>
          <p:cNvCxnSpPr>
            <a:stCxn id="276" idx="4"/>
            <a:endCxn id="277" idx="0"/>
          </p:cNvCxnSpPr>
          <p:nvPr/>
        </p:nvCxnSpPr>
        <p:spPr>
          <a:xfrm>
            <a:off x="4562280" y="4003200"/>
            <a:ext cx="108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Text Box 5"/>
          <p:cNvSpPr/>
          <p:nvPr/>
        </p:nvSpPr>
        <p:spPr>
          <a:xfrm>
            <a:off x="3423240" y="5834160"/>
            <a:ext cx="175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eg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target market 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posit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AutoShape 6"/>
          <p:cNvCxnSpPr/>
          <p:nvPr/>
        </p:nvCxnSpPr>
        <p:spPr>
          <a:xfrm>
            <a:off x="4562280" y="5489640"/>
            <a:ext cx="540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Text Box 7"/>
          <p:cNvSpPr/>
          <p:nvPr/>
        </p:nvSpPr>
        <p:spPr>
          <a:xfrm>
            <a:off x="4160520" y="25135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re-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Pure-Play Marketing Strategy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pure-play firms, the process is largely the same as it would be for a completely offline busin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2"/>
          <p:cNvSpPr/>
          <p:nvPr/>
        </p:nvSpPr>
        <p:spPr>
          <a:xfrm>
            <a:off x="4095720" y="2111400"/>
            <a:ext cx="2032200" cy="114624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usiness-unit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4548600" y="2682000"/>
            <a:ext cx="80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290520" indent="-17604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ver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ff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4"/>
          <p:cNvSpPr/>
          <p:nvPr/>
        </p:nvSpPr>
        <p:spPr>
          <a:xfrm>
            <a:off x="4133880" y="3544920"/>
            <a:ext cx="1955880" cy="10461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egrated marketing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2679840" y="4853160"/>
            <a:ext cx="1955520" cy="10461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arketing strategy for offline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6"/>
          <p:cNvSpPr/>
          <p:nvPr/>
        </p:nvSpPr>
        <p:spPr>
          <a:xfrm>
            <a:off x="5587920" y="4853160"/>
            <a:ext cx="1955880" cy="10461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arketing strategy for online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AutoShape 7"/>
          <p:cNvCxnSpPr>
            <a:stCxn id="286" idx="4"/>
            <a:endCxn id="288" idx="0"/>
          </p:cNvCxnSpPr>
          <p:nvPr/>
        </p:nvCxnSpPr>
        <p:spPr>
          <a:xfrm>
            <a:off x="5111280" y="325764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88" idx="4"/>
            <a:endCxn id="289" idx="0"/>
          </p:cNvCxnSpPr>
          <p:nvPr/>
        </p:nvCxnSpPr>
        <p:spPr>
          <a:xfrm rot="5400000">
            <a:off x="4254480" y="3994920"/>
            <a:ext cx="262800" cy="1455120"/>
          </a:xfrm>
          <a:prstGeom prst="bentConnector3">
            <a:avLst>
              <a:gd name="adj1" fmla="val 496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8" idx="4"/>
            <a:endCxn id="290" idx="0"/>
          </p:cNvCxnSpPr>
          <p:nvPr/>
        </p:nvCxnSpPr>
        <p:spPr>
          <a:xfrm flipH="1" rot="16200000">
            <a:off x="5707800" y="3995640"/>
            <a:ext cx="262800" cy="1453320"/>
          </a:xfrm>
          <a:prstGeom prst="bentConnector3">
            <a:avLst>
              <a:gd name="adj1" fmla="val 496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Text Box 10"/>
          <p:cNvSpPr/>
          <p:nvPr/>
        </p:nvSpPr>
        <p:spPr>
          <a:xfrm>
            <a:off x="3627000" y="5837040"/>
            <a:ext cx="2898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target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posit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4163760" y="177840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ricks-and-Mortar 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Bricks-and-Mortar Marketing Strategy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581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ricks-and-mortar firms must develop an online marketing strategy that complements and enhances existing offline brands and asse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Pure-Play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 </a:t>
            </a:r>
            <a:r>
              <a:rPr b="1" lang="en-US" sz="3200" spc="-1" strike="noStrike">
                <a:solidFill>
                  <a:srgbClr val="420000"/>
                </a:solidFill>
                <a:latin typeface="Arial Narrow"/>
              </a:rPr>
              <a:t>eBay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6775920" y="2242080"/>
            <a:ext cx="1757880" cy="3562200"/>
            <a:chOff x="6775920" y="2242080"/>
            <a:chExt cx="1757880" cy="3562200"/>
          </a:xfrm>
        </p:grpSpPr>
        <p:sp>
          <p:nvSpPr>
            <p:cNvPr id="302" name="Oval 4"/>
            <p:cNvSpPr/>
            <p:nvPr/>
          </p:nvSpPr>
          <p:spPr>
            <a:xfrm>
              <a:off x="7003440" y="2634840"/>
              <a:ext cx="1472040" cy="896760"/>
            </a:xfrm>
            <a:prstGeom prst="ellipse">
              <a:avLst/>
            </a:prstGeom>
            <a:solidFill>
              <a:srgbClr val="fae3a4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Online business-unit 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5"/>
            <p:cNvSpPr/>
            <p:nvPr/>
          </p:nvSpPr>
          <p:spPr>
            <a:xfrm>
              <a:off x="7003440" y="3777840"/>
              <a:ext cx="1472040" cy="896760"/>
            </a:xfrm>
            <a:prstGeom prst="ellipse">
              <a:avLst/>
            </a:prstGeom>
            <a:solidFill>
              <a:srgbClr val="fae3a4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arketing strategy for online 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4" name="AutoShape 6"/>
            <p:cNvCxnSpPr>
              <a:stCxn id="302" idx="4"/>
              <a:endCxn id="303" idx="0"/>
            </p:cNvCxnSpPr>
            <p:nvPr/>
          </p:nvCxnSpPr>
          <p:spPr>
            <a:xfrm>
              <a:off x="7739640" y="3531240"/>
              <a:ext cx="1080" cy="24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5" name="Text Box 7"/>
            <p:cNvSpPr/>
            <p:nvPr/>
          </p:nvSpPr>
          <p:spPr>
            <a:xfrm>
              <a:off x="6775920" y="4857840"/>
              <a:ext cx="1757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25000"/>
                <a:buFont typeface="Arial Narrow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ho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25000"/>
                <a:buFont typeface="Arial Narrow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- seg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25000"/>
                <a:buFont typeface="Arial Narrow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- target market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25000"/>
                <a:buFont typeface="Arial Narrow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- positi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6" name="AutoShape 8"/>
            <p:cNvCxnSpPr>
              <a:stCxn id="303" idx="4"/>
              <a:endCxn id="305" idx="0"/>
            </p:cNvCxnSpPr>
            <p:nvPr/>
          </p:nvCxnSpPr>
          <p:spPr>
            <a:xfrm>
              <a:off x="7739640" y="4674240"/>
              <a:ext cx="4680" cy="27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7" name="Text Box 9"/>
            <p:cNvSpPr/>
            <p:nvPr/>
          </p:nvSpPr>
          <p:spPr>
            <a:xfrm>
              <a:off x="7324200" y="224208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ure-P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Oval 10"/>
          <p:cNvSpPr/>
          <p:nvPr/>
        </p:nvSpPr>
        <p:spPr>
          <a:xfrm>
            <a:off x="2854440" y="2170080"/>
            <a:ext cx="4079880" cy="116064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ring auction-based commerce to the m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2938320" y="3909960"/>
            <a:ext cx="3905280" cy="119844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ss-market auctions as being easy, fast and f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AutoShape 12"/>
          <p:cNvCxnSpPr>
            <a:stCxn id="308" idx="4"/>
            <a:endCxn id="309" idx="0"/>
          </p:cNvCxnSpPr>
          <p:nvPr/>
        </p:nvCxnSpPr>
        <p:spPr>
          <a:xfrm flipH="1">
            <a:off x="4890240" y="3330360"/>
            <a:ext cx="3960" cy="57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Text Box 13"/>
          <p:cNvSpPr/>
          <p:nvPr/>
        </p:nvSpPr>
        <p:spPr>
          <a:xfrm>
            <a:off x="3795480" y="5514480"/>
            <a:ext cx="197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target market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positi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4910040" y="516240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4622760" y="17517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2438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Bay offers an opportunity to examine the integration of business-unit and marketing strategy for a pure-play fir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Bay Position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cause consumers within the automobile, luxury goods, and real estate markets value a trusted name, reliability and a large selection, eBay positions itself with one simple message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219320" y="3733920"/>
            <a:ext cx="6794280" cy="715680"/>
          </a:xfrm>
          <a:prstGeom prst="rect">
            <a:avLst/>
          </a:prstGeom>
          <a:solidFill>
            <a:srgbClr val="4c95b2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eBay is “the world’s online marketpla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Bricks-and Mortar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 Study: </a:t>
            </a:r>
            <a:r>
              <a:rPr b="1" lang="en-US" sz="3200" spc="-1" strike="noStrike">
                <a:solidFill>
                  <a:srgbClr val="420000"/>
                </a:solidFill>
                <a:latin typeface="Arial Narrow"/>
              </a:rPr>
              <a:t>LifeSavers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23" name="Oval 4"/>
          <p:cNvSpPr/>
          <p:nvPr/>
        </p:nvSpPr>
        <p:spPr>
          <a:xfrm>
            <a:off x="7104240" y="2227320"/>
            <a:ext cx="1109520" cy="8589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usiness-unit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5"/>
          <p:cNvSpPr/>
          <p:nvPr/>
        </p:nvSpPr>
        <p:spPr>
          <a:xfrm>
            <a:off x="7104240" y="3321000"/>
            <a:ext cx="1109520" cy="85572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egrated marketing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6278400" y="4394160"/>
            <a:ext cx="1109880" cy="8571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arketing strategy for offline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929720" y="4394160"/>
            <a:ext cx="1109520" cy="8571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arketing strategy for online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" name="AutoShape 8"/>
          <p:cNvCxnSpPr>
            <a:stCxn id="324" idx="4"/>
            <a:endCxn id="325" idx="0"/>
          </p:cNvCxnSpPr>
          <p:nvPr/>
        </p:nvCxnSpPr>
        <p:spPr>
          <a:xfrm rot="5400000">
            <a:off x="7137360" y="3872520"/>
            <a:ext cx="218160" cy="82620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Text Box 9"/>
          <p:cNvSpPr/>
          <p:nvPr/>
        </p:nvSpPr>
        <p:spPr>
          <a:xfrm>
            <a:off x="6588000" y="5302080"/>
            <a:ext cx="2222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target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posit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55400" y="195948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ricks-and-Mortar 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11"/>
          <p:cNvCxnSpPr/>
          <p:nvPr/>
        </p:nvCxnSpPr>
        <p:spPr>
          <a:xfrm>
            <a:off x="7656120" y="3086280"/>
            <a:ext cx="108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12"/>
          <p:cNvCxnSpPr/>
          <p:nvPr/>
        </p:nvCxnSpPr>
        <p:spPr>
          <a:xfrm flipH="1" rot="16200000">
            <a:off x="7958880" y="3873240"/>
            <a:ext cx="218160" cy="82476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Oval 13"/>
          <p:cNvSpPr/>
          <p:nvPr/>
        </p:nvSpPr>
        <p:spPr>
          <a:xfrm>
            <a:off x="2765520" y="2125800"/>
            <a:ext cx="2127240" cy="106200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’s favorite can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14"/>
          <p:cNvSpPr/>
          <p:nvPr/>
        </p:nvSpPr>
        <p:spPr>
          <a:xfrm>
            <a:off x="2765520" y="3479760"/>
            <a:ext cx="2127240" cy="10605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LifeSavers candies add fun to your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15"/>
          <p:cNvSpPr/>
          <p:nvPr/>
        </p:nvSpPr>
        <p:spPr>
          <a:xfrm>
            <a:off x="1181160" y="4809960"/>
            <a:ext cx="2128680" cy="10605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LifeSavers candies add fun to your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4348080" y="4809960"/>
            <a:ext cx="2129040" cy="10605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andystand.com offers online fun for the whol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17"/>
          <p:cNvCxnSpPr>
            <a:stCxn id="333" idx="4"/>
            <a:endCxn id="334" idx="0"/>
          </p:cNvCxnSpPr>
          <p:nvPr/>
        </p:nvCxnSpPr>
        <p:spPr>
          <a:xfrm rot="5400000">
            <a:off x="2903040" y="3882600"/>
            <a:ext cx="270360" cy="1585080"/>
          </a:xfrm>
          <a:prstGeom prst="bentConnector3">
            <a:avLst>
              <a:gd name="adj1" fmla="val 49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Text Box 18"/>
          <p:cNvSpPr/>
          <p:nvPr/>
        </p:nvSpPr>
        <p:spPr>
          <a:xfrm>
            <a:off x="2824200" y="5819760"/>
            <a:ext cx="2222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target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posit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3365640" y="1827720"/>
            <a:ext cx="9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ifeSa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AutoShape 20"/>
          <p:cNvCxnSpPr/>
          <p:nvPr/>
        </p:nvCxnSpPr>
        <p:spPr>
          <a:xfrm>
            <a:off x="3825360" y="318744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21"/>
          <p:cNvCxnSpPr/>
          <p:nvPr/>
        </p:nvCxnSpPr>
        <p:spPr>
          <a:xfrm flipH="1" rot="16200000">
            <a:off x="4480560" y="3884040"/>
            <a:ext cx="270360" cy="1582200"/>
          </a:xfrm>
          <a:prstGeom prst="bentConnector3">
            <a:avLst>
              <a:gd name="adj1" fmla="val 49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Rectangle 22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2514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ifeSavers examines integrating online and offline marketing strategy at a bricks-and-mortar fir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LifeSavers Position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ir positioning captures the idea that LifeSavers has something for everyone and focuses on the key benefit of fun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330120" y="971640"/>
            <a:ext cx="83822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1371600" y="3200400"/>
            <a:ext cx="6794640" cy="716040"/>
          </a:xfrm>
          <a:prstGeom prst="rect">
            <a:avLst/>
          </a:prstGeom>
          <a:solidFill>
            <a:srgbClr val="4c95b2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At the LifeSavers Candystand, fun comes in all flav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 Life Savers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candystand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351" name="Picture 6" descr="Picture2"/>
          <p:cNvPicPr/>
          <p:nvPr/>
        </p:nvPicPr>
        <p:blipFill>
          <a:blip r:embed="rId2"/>
          <a:stretch/>
        </p:blipFill>
        <p:spPr>
          <a:xfrm>
            <a:off x="380880" y="1925640"/>
            <a:ext cx="8393400" cy="447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onclusion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rketing strategy has three main components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gmentation, or identifying relevant market segments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pecific nee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argeting, or choosing an attractive segment consistent with the firm’s resources and goal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ositioning, or strategically communicating the product’s benefits to the target segm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rketing strategy for bricks-and-mortar firms differs from that of pure-play online businesses in that they must make choices in segmentation, targeting and positioning that explicitly reconcile the offline and online components of the busin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Why Internet Advertising?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s are always timely and updated at a lower cos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s reach global potential buy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line ads are cheap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b ads can use a multiplicity of models (text, animation, audio and video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b ads could be interactive and can address specific interest group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levision viewers are migrating to the Interne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ichness of format and personaliz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e-2-one targeted advertising and marketing can be expensive, but it can also be very rewarding onlin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vertising is an attempt to disseminate information in order to affect buyer-seller transac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line marketing, enabled by the Internet, in which advertisers can interact directly with customers and consumers can interact with advertisers/vend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ustomer Relationship Management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14" name="Picture 5" descr="Picture5"/>
          <p:cNvPicPr/>
          <p:nvPr/>
        </p:nvPicPr>
        <p:blipFill>
          <a:blip r:embed="rId1"/>
          <a:srcRect l="782" t="25000" r="3126" b="7293"/>
          <a:stretch/>
        </p:blipFill>
        <p:spPr>
          <a:xfrm>
            <a:off x="838080" y="2057400"/>
            <a:ext cx="7696440" cy="406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Advertising Term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(each time a visitor clicks on an advertising banner to access the advertiser‘s websit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PM (cost per thousand impressions) – the fee an advertiser pays for each 1,000 times a page with a banner ad is show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ique visit (the number of visitors to a site, regardless of how many pages are viewed per visit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 Double Click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Advertising Online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361" name="Picture 9" descr="Picture3"/>
          <p:cNvPicPr/>
          <p:nvPr/>
        </p:nvPicPr>
        <p:blipFill>
          <a:blip r:embed="rId1"/>
          <a:stretch/>
        </p:blipFill>
        <p:spPr>
          <a:xfrm>
            <a:off x="1143000" y="1981080"/>
            <a:ext cx="7004160" cy="447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DAGMAR Strategy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developing marketing and advertising to fit the online global market pla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GMAR = Defining Advertising Goals for Measured Advertising Resul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ving from an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NAWARENES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tage to an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tage from customer perspectiv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t is a 4-stage model to suit a newly introduced online environ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AGMAR Strategy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65" name="AutoShape 3"/>
          <p:cNvSpPr/>
          <p:nvPr/>
        </p:nvSpPr>
        <p:spPr>
          <a:xfrm>
            <a:off x="304920" y="2514600"/>
            <a:ext cx="2590560" cy="11430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n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304920" y="4038480"/>
            <a:ext cx="2590560" cy="11430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1523880" y="3657600"/>
            <a:ext cx="0" cy="38088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2895480" y="4572000"/>
            <a:ext cx="38124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7"/>
          <p:cNvSpPr/>
          <p:nvPr/>
        </p:nvSpPr>
        <p:spPr>
          <a:xfrm>
            <a:off x="3276720" y="4038480"/>
            <a:ext cx="2590560" cy="11430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5867280" y="4572000"/>
            <a:ext cx="38124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9"/>
          <p:cNvSpPr/>
          <p:nvPr/>
        </p:nvSpPr>
        <p:spPr>
          <a:xfrm>
            <a:off x="6248520" y="4038480"/>
            <a:ext cx="2590560" cy="11430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v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6248520" y="2514600"/>
            <a:ext cx="2590560" cy="11430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7467480" y="3657600"/>
            <a:ext cx="0" cy="380880"/>
          </a:xfrm>
          <a:prstGeom prst="line">
            <a:avLst/>
          </a:prstGeom>
          <a:ln cap="sq"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Interactive Online Marketing Proces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ep 1 – Segment and identify potential custom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8840" indent="-38376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gment the market into separate and distinct customer group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8840" indent="-38376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lement online product position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13280" indent="-4132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ep 2 – Create promotional, advertising and educational materia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8840" indent="-38376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dentify the target from the ad and recipien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creasing awareness of business and generate sales lea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ttracting competitor’s custom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tain customers and developing loyalt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98840" indent="-38376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the content and mediu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 pag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ulletin boar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98840" indent="-38376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cide on the form of the a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atic versus interactive channel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ds range from images to animation, digital video and audio – customer is more activ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re informative a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76" name="Picture 4" descr="Click Here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64160" y="4876920"/>
            <a:ext cx="4403520" cy="56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Interactive Online Marketing Proces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ep 3 – Put the material on customers’ computer scree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ed for a pull and push strategy for content deliver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is a 2-way communication process that needs to be made availabl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ep 4 – Interacting with custom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ialogue with the customer (Q&amp;A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ep 5 – Learning from custom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earning from customers (repeat customers are 80% of the customer base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corporating feedback from customer in advertising, marketing and strateg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ep 6 – Online customer servi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ssential for the eBusiness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stomer service is a key issue in business development and growth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rand loyalty buildup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Quality servi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79" name="Picture 4" descr="load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34280" y="5673600"/>
            <a:ext cx="1733400" cy="110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ase: Ziff Davis Media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381" name="Picture 5" descr="Picture4"/>
          <p:cNvPicPr/>
          <p:nvPr/>
        </p:nvPicPr>
        <p:blipFill>
          <a:blip r:embed="rId1"/>
          <a:stretch/>
        </p:blipFill>
        <p:spPr>
          <a:xfrm>
            <a:off x="1216080" y="1944720"/>
            <a:ext cx="6713640" cy="445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ase: Dell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383" name="Picture 5" descr="Picture5"/>
          <p:cNvPicPr/>
          <p:nvPr/>
        </p:nvPicPr>
        <p:blipFill>
          <a:blip r:embed="rId1"/>
          <a:stretch/>
        </p:blipFill>
        <p:spPr>
          <a:xfrm>
            <a:off x="1523880" y="1828800"/>
            <a:ext cx="6248520" cy="468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Internet Advertising Model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xt-based adverti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media-based Adverti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86" name="Picture 8" descr="ClickZ Netwo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609480"/>
            <a:ext cx="1523880" cy="723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Text-based advertis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ail is the online version of direct-mail advertising (mailing lists via eMail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ail; no postage charges + convenient avenue for direct response (low cost – global reach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ail ads direct users via hyperlink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ail databases are growing in value for business (LISTSERV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lletin boards or newsgroups can also be used in advertising and posting inform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oss posting (do not apologize, it is usele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89" name="Picture 10" descr="Merchandise 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19051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6" descr="McAfee®">
            <a:hlinkClick r:id="rId3"/>
          </p:cNvPr>
          <p:cNvPicPr/>
          <p:nvPr/>
        </p:nvPicPr>
        <p:blipFill>
          <a:blip r:embed="rId4"/>
          <a:srcRect l="17462" t="35034" r="16158" b="24083"/>
          <a:stretch/>
        </p:blipFill>
        <p:spPr>
          <a:xfrm>
            <a:off x="7543800" y="6094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8" descr="DELL™ FORUMS">
            <a:hlinkClick r:id="rId5"/>
          </p:cNvPr>
          <p:cNvPicPr/>
          <p:nvPr/>
        </p:nvPicPr>
        <p:blipFill>
          <a:blip r:embed="rId6"/>
          <a:srcRect l="22773" t="44166" r="26182" b="14979"/>
          <a:stretch/>
        </p:blipFill>
        <p:spPr>
          <a:xfrm>
            <a:off x="7696080" y="1219320"/>
            <a:ext cx="1143000" cy="533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4" descr="Yahoo!"/>
          <p:cNvPicPr/>
          <p:nvPr/>
        </p:nvPicPr>
        <p:blipFill>
          <a:blip r:embed="rId7"/>
          <a:stretch/>
        </p:blipFill>
        <p:spPr>
          <a:xfrm>
            <a:off x="6705720" y="3505320"/>
            <a:ext cx="2209680" cy="4190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6" descr="Google"/>
          <p:cNvPicPr/>
          <p:nvPr/>
        </p:nvPicPr>
        <p:blipFill>
          <a:blip r:embed="rId8"/>
          <a:stretch/>
        </p:blipFill>
        <p:spPr>
          <a:xfrm>
            <a:off x="6248520" y="3962520"/>
            <a:ext cx="2628720" cy="1047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8" descr="Yahoo! Music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896080" y="5867280"/>
            <a:ext cx="1800000" cy="838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0" descr="Yahoo! Hotjobs"/>
          <p:cNvPicPr/>
          <p:nvPr/>
        </p:nvPicPr>
        <p:blipFill>
          <a:blip r:embed="rId11"/>
          <a:stretch/>
        </p:blipFill>
        <p:spPr>
          <a:xfrm>
            <a:off x="5181480" y="5410080"/>
            <a:ext cx="2476800" cy="324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2" descr="H&amp;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601992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3" descr="Dell"/>
          <p:cNvPicPr/>
          <p:nvPr/>
        </p:nvPicPr>
        <p:blipFill>
          <a:blip r:embed="rId14"/>
          <a:stretch/>
        </p:blipFill>
        <p:spPr>
          <a:xfrm>
            <a:off x="533520" y="6019920"/>
            <a:ext cx="3619440" cy="361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" descr="ecred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095880" y="190512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399" name="DefaultOcx" descr=""/>
          <p:cNvPicPr/>
          <p:nvPr/>
        </p:nvPicPr>
        <p:blipFill>
          <a:blip r:embed="rId17"/>
          <a:stretch/>
        </p:blipFill>
        <p:spPr>
          <a:xfrm>
            <a:off x="7772400" y="5257800"/>
            <a:ext cx="114300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Supply Chain Management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16" name="Picture 5" descr="Picture4"/>
          <p:cNvPicPr/>
          <p:nvPr/>
        </p:nvPicPr>
        <p:blipFill>
          <a:blip r:embed="rId1"/>
          <a:srcRect l="782" t="26043" r="19533" b="7293"/>
          <a:stretch/>
        </p:blipFill>
        <p:spPr>
          <a:xfrm>
            <a:off x="1066680" y="1886040"/>
            <a:ext cx="7315200" cy="459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Multimedia-based Advertis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t is the primary model on the we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5400" indent="-4554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vertising expenditures are as follows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nner ads (55%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anner and buttons space (standard dimensions) are rented on the web (print advertising model in magazines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Video and audio capacities are gaining groun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anners could lead to “downloads”, or transport to another site with appealing features (animation and video clips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eractive banners (speed, drop-down menus, built-in games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anners help build brand awarenes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onsorships (40%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ponsorships are built around partnerships by more than one company for web developm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mercials (4%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ds that appear when a publisher’s content is loadin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thers 1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Advertisement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03" name="Picture 5" descr="Click Here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33840" y="647640"/>
            <a:ext cx="4457880" cy="571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1" descr="acc_random=9627082423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1981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2" descr="acc_random=96270825776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38680" y="1981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3" descr="acc_random=96270825776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3505320"/>
            <a:ext cx="1371600" cy="2743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4" descr="acc_random=96270907768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886200" y="1981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5" descr="acc_random=96270907735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5867280"/>
            <a:ext cx="5349960" cy="685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6" descr="football50_v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880" y="2057400"/>
            <a:ext cx="1589040" cy="571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7" descr="digibanner2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69960" y="4495680"/>
            <a:ext cx="5349960" cy="685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8" descr="movies2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209680" y="1981080"/>
            <a:ext cx="1486080" cy="685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0" descr="cnncd120x90"/>
          <p:cNvPicPr/>
          <p:nvPr/>
        </p:nvPicPr>
        <p:blipFill>
          <a:blip r:embed="rId19"/>
          <a:stretch/>
        </p:blipFill>
        <p:spPr>
          <a:xfrm>
            <a:off x="7696080" y="36576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1" descr="370wimbledon"/>
          <p:cNvPicPr/>
          <p:nvPr/>
        </p:nvPicPr>
        <p:blipFill>
          <a:blip r:embed="rId20"/>
          <a:stretch/>
        </p:blipFill>
        <p:spPr>
          <a:xfrm>
            <a:off x="1219320" y="5257800"/>
            <a:ext cx="4228920" cy="536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2" descr="nw_promo3"/>
          <p:cNvPicPr/>
          <p:nvPr/>
        </p:nvPicPr>
        <p:blipFill>
          <a:blip r:embed="rId21"/>
          <a:stretch/>
        </p:blipFill>
        <p:spPr>
          <a:xfrm>
            <a:off x="380880" y="2743200"/>
            <a:ext cx="1051200" cy="879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3" descr="nw_promo1"/>
          <p:cNvPicPr/>
          <p:nvPr/>
        </p:nvPicPr>
        <p:blipFill>
          <a:blip r:embed="rId22"/>
          <a:stretch/>
        </p:blipFill>
        <p:spPr>
          <a:xfrm>
            <a:off x="1539720" y="2743200"/>
            <a:ext cx="1051200" cy="8794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4" descr="Home page"/>
          <p:cNvPicPr/>
          <p:nvPr/>
        </p:nvPicPr>
        <p:blipFill>
          <a:blip r:embed="rId23"/>
          <a:stretch/>
        </p:blipFill>
        <p:spPr>
          <a:xfrm>
            <a:off x="2743200" y="2743200"/>
            <a:ext cx="1050840" cy="835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5" descr="Cliquez ici !"/>
          <p:cNvPicPr/>
          <p:nvPr/>
        </p:nvPicPr>
        <p:blipFill>
          <a:blip r:embed="rId24"/>
          <a:stretch/>
        </p:blipFill>
        <p:spPr>
          <a:xfrm>
            <a:off x="669960" y="3733920"/>
            <a:ext cx="5349960" cy="6858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36"/>
          <p:cNvGrpSpPr/>
          <p:nvPr/>
        </p:nvGrpSpPr>
        <p:grpSpPr>
          <a:xfrm>
            <a:off x="3714840" y="3200400"/>
            <a:ext cx="1714320" cy="457200"/>
            <a:chOff x="3714840" y="3200400"/>
            <a:chExt cx="1714320" cy="457200"/>
          </a:xfrm>
        </p:grpSpPr>
        <p:sp>
          <p:nvSpPr>
            <p:cNvPr id="419" name="Rectangle 37"/>
            <p:cNvSpPr/>
            <p:nvPr/>
          </p:nvSpPr>
          <p:spPr>
            <a:xfrm>
              <a:off x="3714840" y="3200400"/>
              <a:ext cx="171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38"/>
            <p:cNvSpPr/>
            <p:nvPr/>
          </p:nvSpPr>
          <p:spPr>
            <a:xfrm>
              <a:off x="3714840" y="3200400"/>
              <a:ext cx="171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 Narrow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1" name="Picture 39" descr="88X32"/>
          <p:cNvPicPr/>
          <p:nvPr/>
        </p:nvPicPr>
        <p:blipFill>
          <a:blip r:embed="rId25"/>
          <a:stretch/>
        </p:blipFill>
        <p:spPr>
          <a:xfrm>
            <a:off x="6400800" y="6340320"/>
            <a:ext cx="1006560" cy="365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1" descr="looksmart_banner"/>
          <p:cNvPicPr/>
          <p:nvPr/>
        </p:nvPicPr>
        <p:blipFill>
          <a:blip r:embed="rId26"/>
          <a:stretch/>
        </p:blipFill>
        <p:spPr>
          <a:xfrm>
            <a:off x="3429000" y="1219320"/>
            <a:ext cx="5562720" cy="68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Advertising Method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-up ad (ad that appears before, after, or during Internet surfing or when reading eMail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-under ad (ad that appears underneath the current browser window, so when the user closes the active window, they see the ad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rs can remove these ads by simply closing them or by installing software to block th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vertising in chat roo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Online Advertisements Strategie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hould be visually appea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st be targeted to specific groups or to individual consum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hould be valuable to consum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st emphasize brands and a firm’s ima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st be part of an overall marketing strate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hould be competitively well desig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bcas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free Internet news service that broadcasts personalized news and information in categories selected by the us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line events, promotions, and attractions (webinar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lectronic Advertising Disadvantage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t could not be show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product-customer communica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etition is fierce…No secre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nsparent environ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Important Variable in Web Ad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ge-loading spe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siness cont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vigation effici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urity and priva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rketing customer focu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Passive Pull v Active Push Strategy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5562720" y="6019920"/>
            <a:ext cx="3276360" cy="6858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assive Pull Strate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stomers look for a website to visit if ONLY it provides helpful and attractive contents and displ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t is effective when it is addressing open and unidentified potential customers global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uidance is so importa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rtals such as Yahoo! are effective media for advertisements, search directories and engines are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Passive Pull v Active Push Strategy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5562720" y="6019920"/>
            <a:ext cx="3276360" cy="6858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ctive Push Strate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customers do not visit the merchants’ websites voluntarily, merchants need to actively advertise to the targeted custom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nding eMails and information circulars to various custom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eneration of mailing lis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The </a:t>
            </a: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e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Marketer Daily 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www.emarketer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38" name="Picture 5" descr="The eMarketer Daily provides timely coverage of Internet and e-business statistics combined with eMarketer analysis. It's delivered five days a week to your e-mail box — FREE."/>
          <p:cNvPicPr/>
          <p:nvPr/>
        </p:nvPicPr>
        <p:blipFill>
          <a:blip r:embed="rId1"/>
          <a:stretch/>
        </p:blipFill>
        <p:spPr>
          <a:xfrm>
            <a:off x="3200400" y="2133720"/>
            <a:ext cx="2762280" cy="3352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eball_with_line"/>
          <p:cNvPicPr/>
          <p:nvPr/>
        </p:nvPicPr>
        <p:blipFill>
          <a:blip r:embed="rId2"/>
          <a:stretch/>
        </p:blipFill>
        <p:spPr>
          <a:xfrm>
            <a:off x="457200" y="2209680"/>
            <a:ext cx="619200" cy="638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eMarketer.com - online advertising - Basic Search Results"/>
          <p:cNvPicPr/>
          <p:nvPr/>
        </p:nvPicPr>
        <p:blipFill>
          <a:blip r:embed="rId3"/>
          <a:stretch/>
        </p:blipFill>
        <p:spPr>
          <a:xfrm>
            <a:off x="1143000" y="2362320"/>
            <a:ext cx="1457280" cy="39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Podcast Advertising Spend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42" name="Picture 6" descr="Picture8"/>
          <p:cNvPicPr/>
          <p:nvPr/>
        </p:nvPicPr>
        <p:blipFill>
          <a:blip r:embed="rId1"/>
          <a:srcRect l="0" t="3003" r="0" b="0"/>
          <a:stretch/>
        </p:blipFill>
        <p:spPr>
          <a:xfrm>
            <a:off x="1973160" y="2590920"/>
            <a:ext cx="5197680" cy="220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Electronic Data Interchange 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18" name="Picture 5" descr="Picture3"/>
          <p:cNvPicPr/>
          <p:nvPr/>
        </p:nvPicPr>
        <p:blipFill>
          <a:blip r:embed="rId1"/>
          <a:srcRect l="782" t="26043" r="3126" b="7293"/>
          <a:stretch/>
        </p:blipFill>
        <p:spPr>
          <a:xfrm>
            <a:off x="762120" y="1981080"/>
            <a:ext cx="7848360" cy="408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Internet Users in 2006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44" name="Picture 6" descr="Picture7"/>
          <p:cNvPicPr/>
          <p:nvPr/>
        </p:nvPicPr>
        <p:blipFill>
          <a:blip r:embed="rId1"/>
          <a:srcRect l="0" t="1909" r="0" b="0"/>
          <a:stretch/>
        </p:blipFill>
        <p:spPr>
          <a:xfrm>
            <a:off x="2335320" y="1981080"/>
            <a:ext cx="4475160" cy="44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Online Advertising Spend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46" name="Picture 9" descr="Picture6"/>
          <p:cNvPicPr/>
          <p:nvPr/>
        </p:nvPicPr>
        <p:blipFill>
          <a:blip r:embed="rId1"/>
          <a:srcRect l="0" t="1928" r="0" b="0"/>
          <a:stretch/>
        </p:blipFill>
        <p:spPr>
          <a:xfrm>
            <a:off x="1949400" y="2133720"/>
            <a:ext cx="5245200" cy="388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ase: P&amp;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48" name="Picture 5" descr="Picture9"/>
          <p:cNvPicPr/>
          <p:nvPr/>
        </p:nvPicPr>
        <p:blipFill>
          <a:blip r:embed="rId1"/>
          <a:srcRect l="782" t="26043" r="23438" b="7293"/>
          <a:stretch/>
        </p:blipFill>
        <p:spPr>
          <a:xfrm>
            <a:off x="990720" y="1828800"/>
            <a:ext cx="7086600" cy="467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Arial Narrow"/>
              </a:rPr>
              <a:t>Case: Proctor and Gamble (P&amp;G)</a:t>
            </a:r>
            <a:br>
              <a:rPr sz="2800"/>
            </a:br>
            <a:r>
              <a:rPr b="1" lang="en-US" sz="2800" spc="-1" strike="noStrike">
                <a:solidFill>
                  <a:srgbClr val="420000"/>
                </a:solidFill>
                <a:latin typeface="Arial Narrow"/>
              </a:rPr>
              <a:t>Competing via a web-based advertising strategy</a:t>
            </a:r>
            <a:endParaRPr b="0" lang="en-US" sz="28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 survive, consumer goods companies must constantly research the markets, develop new products and advertis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b advertising is critical to the welfare to all companies in the consumer goods indust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&amp;G’s business problem is how to best use its advertising budget to get the most market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&amp;G started to advertise on the Internet in the late 1990s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y 2000, it had 72 active sites, mostly one site for each product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&amp;G major objective is to build around each major product a community of users on the we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Arial Narrow"/>
              </a:rPr>
              <a:t>Case: Proctor and Gamble (P&amp;G)</a:t>
            </a:r>
            <a:br>
              <a:rPr sz="2800"/>
            </a:br>
            <a:r>
              <a:rPr b="1" lang="en-US" sz="2800" spc="-1" strike="noStrike">
                <a:solidFill>
                  <a:srgbClr val="420000"/>
                </a:solidFill>
                <a:latin typeface="Arial Narrow"/>
              </a:rPr>
              <a:t>Competing via a web-based advertising strategy</a:t>
            </a:r>
            <a:endParaRPr b="0" lang="en-US" sz="28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ives in building and maintaining these sites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veloping brand awareness and recognition (brand equity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llecting valuable data from consum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tting down on advertising cos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ducting one-to-one advertisem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ling customized beauty products to individual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st improvements achieved by its web advertising strategy are qualitativ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&amp;G did well during the economic downturn of 2000–2003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conomics of Advertis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icing of adverti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cing based on ad views, using CP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cing based on click-throug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yment based on interactiv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yment based on actual purchase: affiliate program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vertising as a revenue mod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y dot-com failures were caused by using advertising income as the major or the only revenue sour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suring advertising effectiven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turn on investment is used to measure the benefits received from their online advertising campaig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easuring, auditing, and analyzing web traffi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udience trackin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Rectangle 4"/>
          <p:cNvSpPr/>
          <p:nvPr/>
        </p:nvSpPr>
        <p:spPr>
          <a:xfrm flipV="1">
            <a:off x="8534520" y="6171480"/>
            <a:ext cx="380880" cy="304920"/>
          </a:xfrm>
          <a:prstGeom prst="rect">
            <a:avLst/>
          </a:prstGeom>
          <a:solidFill>
            <a:srgbClr val="66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5"/>
          <p:cNvSpPr/>
          <p:nvPr/>
        </p:nvSpPr>
        <p:spPr>
          <a:xfrm flipV="1">
            <a:off x="8534520" y="6476400"/>
            <a:ext cx="380880" cy="228600"/>
          </a:xfrm>
          <a:prstGeom prst="rect">
            <a:avLst/>
          </a:prstGeom>
          <a:solidFill>
            <a:srgbClr val="99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Arial Narrow"/>
              </a:rPr>
              <a:t>Electronic Business Formula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9440" y="3395520"/>
            <a:ext cx="69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EB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= EC + BI + CRM + SCM + ER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05280" y="2340000"/>
            <a:ext cx="11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914400" y="3048120"/>
            <a:ext cx="122400" cy="4572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818080" y="2340000"/>
            <a:ext cx="132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713560" y="2340000"/>
            <a:ext cx="15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Supply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343040" y="4729320"/>
            <a:ext cx="14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6406560" y="4729320"/>
            <a:ext cx="121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753560" y="472932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 flipV="1">
            <a:off x="2362320" y="4114440"/>
            <a:ext cx="0" cy="6858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3048120" y="3048120"/>
            <a:ext cx="30456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 flipH="1" flipV="1">
            <a:off x="4267080" y="4190760"/>
            <a:ext cx="60984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6939000" y="4114440"/>
            <a:ext cx="0" cy="6858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 flipH="1">
            <a:off x="5638320" y="3124080"/>
            <a:ext cx="685800" cy="4572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9"/>
          <p:cNvSpPr/>
          <p:nvPr/>
        </p:nvSpPr>
        <p:spPr>
          <a:xfrm>
            <a:off x="7391520" y="3276720"/>
            <a:ext cx="1600200" cy="114300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Business Formula Component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lectronic Commerce (EC)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uses digital technologies such as the Internet and bar code scanners to enable the buying and selling process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Business Intelligence (BI)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refers to the gathering of secondary and primary information about competitors, markets, customers, etc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Customer Relationship Management (CRM)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involves retaining both business and individual customers through strategies that ensure their satisfaction with the firm and its produc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ly Chain Management (SCM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involves coordination of the distribution channel to deliver products effectively and efficiently to custom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terprise Resource Planning (ERP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refers to the back office operations such as order entry, purchasing, invoicing, and inventory contro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allows organizations to optimize business processes while lowering cos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0:22:44Z</dcterms:created>
  <dc:creator>Sherif Kamel</dc:creator>
  <dc:description/>
  <dc:language>en-US</dc:language>
  <cp:lastModifiedBy>lenovo</cp:lastModifiedBy>
  <dcterms:modified xsi:type="dcterms:W3CDTF">2012-03-09T16:38:10Z</dcterms:modified>
  <cp:revision>346</cp:revision>
  <dc:subject/>
  <dc:title>Slide 1</dc:title>
</cp:coreProperties>
</file>