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3AD-6C89-4050-B13B-733D4DB7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947-A58B-45E3-8F26-EB3691C9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68F-41B5-464D-9DC6-8017D997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788-553A-475D-89E8-DDCA9F1B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02D-7222-4772-95CD-C90DF316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C78-C775-4C96-9C48-DA6D1067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AAE-44C0-42D0-BCCB-66A1645A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8B0-18F5-42E1-8A9B-D2D0324F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C5F-422D-4F3F-8DC2-BCFAA366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8E5-3198-46B7-B646-65B24E8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D52-1E05-4849-8670-2378E4E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9BC-FE5C-44E7-8533-8472503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2FC50-FB35-4180-820D-83ADF6727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23018-B680-4C47-99E2-3E9C0BCA857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8:00:49Z</dcterms:created>
  <dc:creator>최봉수</dc:creator>
  <dc:description/>
  <dc:language>en-US</dc:language>
  <cp:lastModifiedBy>군만두 맛있다</cp:lastModifiedBy>
  <dcterms:modified xsi:type="dcterms:W3CDTF">2023-07-12T05:55:15Z</dcterms:modified>
  <cp:revision>2</cp:revision>
  <dc:subject/>
  <dc:title>슬라이드 1</dc:title>
</cp:coreProperties>
</file>