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D9B8-1164-40C0-9D83-67FF8806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4DCB-6B22-4E51-8006-E120B6C3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0DED-0DF9-4B19-A51A-1CEC8D702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E4C6-34FE-48F8-B8E0-3BA061BD2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16F4-93D9-4DE2-AC09-B6EBB818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41A9-15D4-4D4B-9C84-70BA6380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5764-1C49-40B2-AD49-DA7D6158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BE85-F2D0-4615-A5E5-72392E92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BFF9-CF62-450E-9CB5-1A34E382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9114-C594-4D19-8783-AD36A8E0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3DBE-4ED5-4A50-8220-C81BFBFD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8716-AB8F-4051-992C-460520C1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D4EE38-868D-4429-AD2D-7BB81673E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299764-7F2C-43C8-B00B-60DB9D8FA3F1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" Target="slide5.xml"/><Relationship Id="rId7" Type="http://schemas.openxmlformats.org/officeDocument/2006/relationships/image" Target="../media/image2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7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40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4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47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50" name="Picture 10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54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7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60" name="Picture 10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0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1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0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1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08:00:49Z</dcterms:created>
  <dc:creator>최봉수</dc:creator>
  <dc:description/>
  <dc:language>en-US</dc:language>
  <cp:lastModifiedBy>군만두 맛있다</cp:lastModifiedBy>
  <dcterms:modified xsi:type="dcterms:W3CDTF">2023-07-12T05:55:15Z</dcterms:modified>
  <cp:revision>2</cp:revision>
  <dc:subject/>
  <dc:title>슬라이드 1</dc:title>
</cp:coreProperties>
</file>