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5.jpeg" ContentType="image/jpeg"/>
  <Override PartName="/ppt/media/image4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Ave%20Maria%20-%20Maria%20Callas.wav" ContentType="audio/x-wav"/>
  <Override PartName="/ppt/media/image37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33.jpeg" ContentType="image/jpeg"/>
  <Override PartName="/ppt/media/image6.jpeg" ContentType="image/jpeg"/>
  <Override PartName="/ppt/media/image55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56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52.jpeg" ContentType="image/jpeg"/>
  <Override PartName="/ppt/media/image29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28.jpeg" ContentType="image/jpeg"/>
  <Override PartName="/ppt/media/image5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3D37-A9D8-41BD-90AE-BE148190C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0E3A-B038-4F4E-AD8A-55B2AA042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E206-D996-42CD-A187-C466646A3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DCE7-3F39-4094-AEC6-ABC5B6124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8B60-3726-4721-B95C-166AC684C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97DC-57F9-44F6-9123-7D6A57E30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59D1-FA26-49F9-8996-532FD2E01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BFEC-B16C-47FA-8375-01A58A95D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1815-5813-4A76-924C-E5CF730F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4DAA-1B01-4486-BACC-0927076F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A093-FF74-4474-8B2C-50EA24AB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042F-5274-40EA-88CC-E58162CD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D240E-B78E-4AE4-97F8-0E9B6E4F938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ve%20Maria%20-%20Maria%20Calla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42472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Another worl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1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I find in m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y self a desi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t no one experience of the world could not meet, probably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explan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ould be that 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 made for another world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rld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.S. Lew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560" y="4868640"/>
            <a:ext cx="88930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can not choose the time in which we are born, but we can choose ourselves in this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tim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ists only one race - a race of mankind, there is only one religion - religion of love, there is only one language - the language of the hear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2" name="Ave%20Maria%20-%20Maria%20Calla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826920" y="4653000"/>
            <a:ext cx="561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395280" y="4508640"/>
            <a:ext cx="554508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Izbor i rad: Ljerka Ujević / Split, 25.12.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Muzika: Maria Callas -Ave Ma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7 0.033 -0.0586 0.058 -0.0586 C 0.095 -0.0586 0.125 -0.02264 0.125 0.02264 C 0.125 0.03729 0.122 0.05061 0.116 0.06259 C 0.117 0.06259 0 0.24239 0 0.24372 C 0 0.24239 -0.117 0.06259 -0.116 0.06259 C -0.122 0.05061 -0.125 0.03729 -0.125 0.02264 C -0.125 -0.02264 -0.095 -0.0586 -0.057 -0.0586 C -0.033 -0.0586 -0.012 -0.02397 0 0 Z">
                                      <p:cBhvr>
                                        <p:cTn id="22" dur="3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9T15:48:10Z</dcterms:created>
  <dc:creator>a</dc:creator>
  <dc:description/>
  <dc:language>en-US</dc:language>
  <cp:lastModifiedBy>Anita</cp:lastModifiedBy>
  <dcterms:modified xsi:type="dcterms:W3CDTF">2009-10-15T13:24:54Z</dcterms:modified>
  <cp:revision>20</cp:revision>
  <dc:subject/>
  <dc:title>Ne možemo birati vrijeme u kojem smo rođeni, ali možemo birati sebe u tom vremenu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48000000000001024120</vt:lpwstr>
  </property>
</Properties>
</file>