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4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Ave%20Maria%20-%20Maria%20Callas.wav" ContentType="audio/x-wav"/>
  <Override PartName="/ppt/media/image37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C93-7E6F-45E2-827F-19C6B047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B32-C158-4716-9DCC-2C2A80A5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577-6847-488E-97A9-7EE9D332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5767-D688-4067-ADBB-DFF60D59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F8B-B04C-4BB7-9BA1-94FA9B64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F78-8914-41CD-9FAC-9E1B1174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CC23-62E4-4CD8-BB83-8545A94A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CCF-50FB-44FD-B4E8-EFF5ACFE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2012-8DE3-472B-8A85-49386422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A84-39BF-4946-ACB6-F412189D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B2E6-2376-4D78-B7D1-BE01B71E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484-9AF0-4077-BFA7-99A070DB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AF34-E097-4395-BD97-22D3AD741D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ve%20Maria%20-%20Maria%20Calla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424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nother worl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1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 find in m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y self a desi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no one experience of the world could not meet, probably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explan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uld be that 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made for another world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l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.S. Lew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4868640"/>
            <a:ext cx="8893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not choose the time in which we are born, but we can choose ourselves in this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ists only one race - a race of mankind, there is only one religion - religion of love, there is only one language - the language of the he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Ave%20Maria%20-%20Maria%20Calla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4653000"/>
            <a:ext cx="56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95280" y="4508640"/>
            <a:ext cx="55450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Izbor i rad: Ljerka Ujević / Split, 25.12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Muzika: Maria Callas -Ave M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22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15:48:10Z</dcterms:created>
  <dc:creator>a</dc:creator>
  <dc:description/>
  <dc:language>en-US</dc:language>
  <cp:lastModifiedBy>Anita</cp:lastModifiedBy>
  <dcterms:modified xsi:type="dcterms:W3CDTF">2009-10-15T13:24:54Z</dcterms:modified>
  <cp:revision>20</cp:revision>
  <dc:subject/>
  <dc:title>Ne možemo birati vrijeme u kojem smo rođeni, ali možemo birati sebe u tom vremen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48000000000001024120</vt:lpwstr>
  </property>
</Properties>
</file>