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A3109B-5ABF-4A2E-82DA-253120A9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F07741-5661-4504-8D6A-E0DFD1C88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0ED7B4-5116-4129-9A74-E7C9CD14D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5929B4-2040-45B5-9B40-81C6E34497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8F931F-0198-4473-9A24-37775660B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D54-AFF3-44DF-B8FD-AA4C08B0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B1F-2B0F-4699-82C8-532C0CB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43A-DE70-48C0-8E9E-65C06871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78F-0411-4375-A939-CA1ED563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243-E56F-42DD-A694-56217847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DF41-3B26-4F0A-AD04-BBDA5EF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3E1-0827-45D5-955C-41E8D64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4906-DD64-43D7-AA6E-EDF65FD5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195-FD37-4DAF-8901-37D8CE5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7E99-835F-4B06-BB60-B28C59F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86F-8E26-4882-9AFB-D3D0565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895-897B-4288-AF78-EC1EE6AB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F1FB-36BC-4B39-9369-1C11872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FDB-8F5B-4971-AFFB-069EFF1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DC6C-FA36-482D-BFDB-FDB29DD0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EA04-A83C-4671-946E-534F927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3E9-14B8-4332-B14B-96635FA2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940-FC11-4D23-969A-C37BE02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3C7-1067-48A1-865C-3B22EA4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266-AF55-4704-B063-637FE3E2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D76-0C5E-4BBE-B670-33F2DA6F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FE6-1A4E-4CF0-BD38-597D225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218-EACE-451C-BB50-B33F05E0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B05-6A8B-41C8-8037-292F467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1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93E-47FD-4F05-B8E5-3457B3EC3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1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2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90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10186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8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10179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1017d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99"/>
                    </a:gs>
                    <a:gs pos="100000">
                      <a:srgbClr val="0101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1016b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1016b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9CC-C57B-4BE2-B733-2B9169321E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GANGGUAN KELENJAR PANKREA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e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Sri Utami B.R. 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engaturan Kadar Gula dan Da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fungsi sebagai suatu sistem penyangga glukosa 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at glukosa darah meningkat hingga konsentrasi yang tinggi, sesudah makan dan kecepatan sekresi insulin juga meningkat, sebanyak 2/3 dari seluruh glukosa yang diabsorpsi dari usus dalam waktu singkat akan disimpan dalam hati dalam bentuk glik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entrasi glukosa dan konsentrasi sekresi insulin berkurang, hati akan melepaskan glukosa kembali dalam da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ti mengurangi fluktuasi konsentrasi glukosa darah sampai kira-kira 1/3 dari yang dapat terj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insulin dan gluka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tingnya sistim pengatur umpan balik untuk mempertahankan konsentrasi glukosa darah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entrasi glukosa darah meningkat maka akan timbul sekresi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entrasi glukosa darah menurun maka akan timbul sekresi gluk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a keadaan hipoglikemia be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ul suatu efek langsung akibat kadar glukosa darah yang rendah terhadap hipotalamus, akan merangsang sistem saraf simpa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mon epinefrin yang disekresikan oleh kelenjar adrenal menyebabkan pelepasan glukosa lebih lanjut dari h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a keadaan hipoglikemia yang 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berapa jam dan beberapa hari, suatu respons terhadap keadaan hipoglikemia yang 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n timbul sekresi hormon pertumbuhan dan kortisol dan kedua hormon ini mengurangi kecepatan pemakaian glukosa oleh sebagian besar sel tub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ubah jumlah pemakaian lemak menjadi lebih bes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san mengapa kadar glukosa dalam darah perlu dijag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kosa sangat berpengaruh dalam tekanan osmotik di dalam cairan ekstrasel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gat tingginya konsentrasi glukosa dalam darah menyebabkan keluarnya glukosa dalam air se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adaan di atas menimbulkan diuresis osmotik oleh ginjal, yang dapat mengurangi jumlah cairan tubuh dan elektro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Gula dar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Sewaktu &lt; 14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Puasa &lt; 11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dar Gula Darah Sehabis makan &lt; 200 mg/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jadi abnormal karena sel beta di pankr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sak atau berkurang sehingga sekresi insul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hambat, maka glukosa darah y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harusnya dikontrol oleh insulin tidak terjad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hingga kadar glukosa dalam darah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KLASIFIKASI D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Type 1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ulin Dependent Diabetes Melli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/ ID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Type 2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 Insulin Dependent Diabetes Mellit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/ NID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obese NID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NID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Y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turity Onset Diabetes of theYou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 tipe l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yakit eksokrin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kre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kreatekto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brokalkulus pankreas (Pankreopati fibrokalkul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ainan endok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romeg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a Cu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okromosi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pertiroidis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in-lain seperti obat-obatan: glukokortikoid, tiazid, dilantin, interfe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gesta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meriksaan, Penanganan dan Pencegaha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meriks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la darah puasa dan sesudah ma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um, krea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 ru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to thorax, EKG, fundusko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ha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l 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bumin urin, mikroalbu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ang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mberian obat hipoglikemik oral (O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fonylu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at golongan sulfonylurea bekerja dengan ca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stimulasi penglepasan insulin yang tersim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urunkan ambang sekresi insu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ingkatkan sekresi insulin sebagai akibat rangsangan gluk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uan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urunkan kadar glukosa darah tapi tidak sampai di bawah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at yang aman adalah metfor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at ini dianjurkan untuk pasien gemuk obat tung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ceg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ikan informasi dan edukasi mengenai diabetes me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runkan berat ba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atur asupan berupa karbohidrat (60-70%), lemak (20-25%), protein (10-15%), kolesterol (&lt; 300 mg/hari), kandungan serat larut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5 g/ha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ahraga (3-4 kali dalam semingg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han yang dijadikan pilihan adalah jalan kaki, jogging, renang, bersepeda dan menday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natomi Fisiologi Pankre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kreas merupak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 yang panjang dan r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enjar yang berstruktur sangat mirip dengan kelenjar l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jangny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5 cm mulai dari duodenum sampai ke limpa dan beratnya 60-90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bentang pada vertebra lumbalis I dan II di belakang lamb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yebab Diabetes Melit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sel beta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plasma, beredarnya antibodi anti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lainan kerja insulin pada sel sasaran, menurunkan kadar reseptor insulin atau kegagalan pengikatan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4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elainan Morfolog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ubahan morfologi pada D.M. merupakan dasar diagnosis, ditentukan ole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ma penyakit dider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atnya penyak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a dan berat penyakit mempengaruhi perubahan anato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M. yang sudah berlangsung 10 sampai 15 tahun akan menimbulk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giop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balan pembuluh darah) d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nj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ti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ga timbul aterosklerosis lebih be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840" y="115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ubahan anatomis yang terjadi adalah 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balan membran basal dan angiopa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ini terjadi penebalan mikrovaskular pada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k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u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- re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tot skel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- glomerulus/medula ginj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vask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ubulus ginj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apsula Bow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raf per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lasenta (pd wanita ham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an basal tiap jaringan bertambah lebar dan diganti dengan lapisan hialin yang komposisi jaringan ko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an basal akan menebal dan menyempitkan lumen kapiler pembuluh da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adaan ini disebut mikro-angiop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ubahan pankre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9200" y="1269720"/>
            <a:ext cx="8686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uran dan jumlah pulau Langerhans berkur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ingkatan jumlah dan ukuran pulau Langerh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granulasi sel beta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umpukan glikogen dalam sel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gantian bahan amiloid pada pulau Langerh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ltrasi sel limfosit pada pulau-pulau Langerhan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atu reaksi imunolog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ingkatan jumlah &amp; ukuran pulau-pulau Langerhans terjadi pada bayi yang dilahirkan oleh ibu diabetes melitus merupakan reaksi hiperplasi bayi terhadap ibu diabetes mell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istem pembuluh darah pada Diabetes Mellitu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yakit Diabetes Mellitus 10 sampai 15 tahun, kebanyakan telah menimbulkan kelainan vaskular secara ny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penderita diabetes mellitus meninggal akibat penyakit kardiovaskular, termasuk pembuluh darah ginj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ua jenis pembuluh darah terkena dari aorta sampai arteriol dan kap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orta dan arteri ukuran besar, menengah mengalami percepatan arteriosklerosis be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ark miokardi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ebabkan oleh artero-sklerosis arteri-coroner, menyebabkan kematian tersering pada diabetes mellitus laki-laki dan wan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ngr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da tungkai bawah akibat gangguan vaskular lanjut, kira-kira 100 kali dari non diabetes mell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usakan pembuluh darah arteri paling berat pa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lomerul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irkulasi mik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f Pathology: Robbin &amp; Ku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ofisiology: Sylvia A.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2627280" y="2347920"/>
            <a:ext cx="4105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rima kasi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gian dari pankre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epala (kapu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erletak di sebelah kanan dari organ abdomen dan di dalam lekukan duodenum yang melingkari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her (kolum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yang tepat lateral terhadap kaput panrkeatis; panjangnya 2,5 cm, mula-mula menuju ke ventral lalu ke kiri untuk bergabung dengan korpus pankrea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dan (korpu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utama dari organ ini, letaknya di belakang lambung dan di depan vertebral lumbalis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kor (kaud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bagian ruang di sebelah kiri yang sebenarnya menyentuk lim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gsi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iliki fungsi endokrin maupun eksokrin, saling berhubu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gsi eksokrin utama membentuk getah pankreas yang berisi enzim dan elektrolit (pethidine, tripsine dan amilase)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mfasilitasi proses pencernaan melalui sekresi enzim ke dalam duodenum proks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gsi endok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glukagon yang berfungsi meningkatkan glukoneogenesis untuk meningkatkan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insulin yang mengatur metabolisme karbohidrat, protein dan lemak yang menstimulasikan permeabilitas sel sehingga glukosa dapat masuk ke dalam 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sekresikan hormon somatostatin yang berfungsi menghambat sekresi insulin dan glukagon dari pank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anan pankreas dalam mengat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bolisme gl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bohidrat terdapat dalam berbagai bentuk, termasuk gula sederhana atau monosakarida, dan unit-unit kimia yang kompleks, disakarida dan polisaka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bohidrat yang sudah ditelan akan dicerna menjadi monosakarida dan diabsorbsi, terutama dalam duodenum dan jejunum prok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udah absorbsi, kadar glukosa darah akan meningkat untuk sementara waktu dan akhirnya akan kembali lagi ke kadar glukosa darah normal, sebagian besar tergantung da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Ekstraksi gluk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Sintesis glik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Glikogenesis dalam h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perifer otot dan adiposa juga mempergunakan glukosa sebagai sumber ener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-jaringan berperan dalam mempertahankan kadar glukosa darah meskipun secara kuantitatif tidak sebesar h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glukosa diambil dan dilepaskan oleh hati dan dipergunakan oleh jaringan-jaringan perifer tergantung dari keseimbangan fisiologis beberapa hor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mon-hormon ini dapat diklasifikasikan sebaga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yang merendahkan kadar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yang meningkatkan kadar glukosa da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in merupakan hormon yang menurunkan glukosa da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in dibentuk oleh sel-sel beta pulau langerhans pank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mon tertentu yang dapat meningkatkan kadar glukosa darah, antara la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kagon yang disekresi oleh sel-sel alpa pulau Langerh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nefrin yang disekresikan oleh medula adrenal dan jaringan kroma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kokortikoid yang disekresi oleh korteks ad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th hormone yang disekresi oleh kelenjar hipofisis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kagon, epinefrin, glukokortikoid dan growth hormon membentuk suatu mekanisme counter regulator yang mencegah timbulnya hipoglikemia akibat pengaruh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22:37:19Z</dcterms:created>
  <dc:creator>USER</dc:creator>
  <dc:description/>
  <dc:language>en-US</dc:language>
  <cp:lastModifiedBy>uki</cp:lastModifiedBy>
  <dcterms:modified xsi:type="dcterms:W3CDTF">2011-07-11T04:47:47Z</dcterms:modified>
  <cp:revision>8</cp:revision>
  <dc:subject/>
  <dc:title>GANGGUAN KELENJAR PANKREAS</dc:title>
</cp:coreProperties>
</file>