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FB708E-84F7-4DA2-A1FB-F3887C82B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C58573-17EE-44FC-8B81-7DC0AF4B53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380ECD2-8A9C-4AD6-AFD0-5A71F1F320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FFA07F-B430-4710-BF53-0BFDC6847C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ACE685-E25B-428C-B3F2-81231C9492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34C-5974-4BBA-B0E8-BDD79183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E24-A94E-4A99-99E4-9D287DB8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32F-8C0D-4F45-95C8-22D74414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6B3-9E52-4FC3-8C20-D0964E59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26BA-A2D8-40BF-A809-58E2110B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F2AD-0D7B-418B-8777-E2AE3BC4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8032-37B0-4DBA-BF67-A8694AAD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FD30-1C52-413B-A5AE-AC8CC6A7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3763-1583-4562-BFFE-BF731877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6407-C75B-4A57-90C8-73FE73B0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1900-7927-428C-ACF5-5D0AC19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128-4403-4CE6-95FF-A624460A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4DFB-1CF2-4D09-98DA-00B822CB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DD80-8A21-4129-A725-CA82BCF0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63DD-83F9-4E7E-BB90-B5EB262E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35F3-63BE-4B3E-AA04-D211782C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8327-9387-485B-8417-8B3CB240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AE8-AEDF-45E6-AD44-236A5788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A44-CEC7-4E1E-B434-CB48F739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4F5-355C-42DC-8A50-6DD1BAF0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F43-7833-44B6-BC3F-1A611DC8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887-65DD-4CC9-BFB4-3507D20B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796-4700-4AD1-B56F-1E034EA6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6E5-12D8-432E-9D54-B360050A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1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1018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01018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10186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10186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10182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10182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10186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8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01016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01016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6197-8385-4277-AD26-892E1687F3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1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1018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01018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10186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10186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10182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10182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10186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8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01016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01016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11B6-90C8-4DB9-A95C-7854151720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GANGGUAN KELENJAR PANKREA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763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e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Sri Utami B.R. 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engaturan Kadar Gula dan Dar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fungsi sebagai suatu sistem penyangga glukosa da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at glukosa darah meningkat hingga konsentrasi yang tinggi, sesudah makan dan kecepatan sekresi insulin juga meningkat, sebanyak 2/3 dari seluruh glukosa yang diabsorpsi dari usus dalam waktu singkat akan disimpan dalam hati dalam bentuk glik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sentrasi glukosa dan konsentrasi sekresi insulin berkurang, hati akan melepaskan glukosa kembali dalam da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ti mengurangi fluktuasi konsentrasi glukosa darah sampai kira-kira 1/3 dari yang dapat terja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gsi insulin dan gluka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tingnya sistim pengatur umpan balik untuk mempertahankan konsentrasi glukosa darah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entrasi glukosa darah meningkat maka akan timbul sekresi insu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entrasi glukosa darah menurun maka akan timbul sekresi gluka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a keadaan hipoglikemia be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ul suatu efek langsung akibat kadar glukosa darah yang rendah terhadap hipotalamus, akan merangsang sistem saraf simpa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 epinefrin yang disekresikan oleh kelenjar adrenal menyebabkan pelepasan glukosa lebih lanjut dari h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a keadaan hipoglikemia yang l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berapa jam dan beberapa hari, suatu respons terhadap keadaan hipoglikemia yang 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an timbul sekresi hormon pertumbuhan dan kortisol dan kedua hormon ini mengurangi kecepatan pemakaian glukosa oleh sebagian besar sel tubu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ubah jumlah pemakaian lemak menjadi lebih bes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san mengapa kadar glukosa dalam darah perlu dijag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ukosa sangat berpengaruh dalam tekanan osmotik di dalam cairan ekstraselu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gat tingginya konsentrasi glukosa dalam darah menyebabkan keluarnya glukosa dalam air se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adaan di atas menimbulkan diuresis osmotik oleh ginjal, yang dapat mengurangi jumlah cairan tubuh dan elektro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0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Gula dar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dar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dar Gula Darah Sewaktu &lt; 140 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dar Gula Darah Puasa &lt; 110 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dar Gula Darah Sehabis makan &lt; 200 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jadi abnormal karena sel beta di pankre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sak atau berkurang sehingga sekresi insul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hambat, maka glukosa darah ya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harusnya dikontrol oleh insulin tidak terjad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hingga kadar glukosa dalam darah ting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KLASIFIKASI D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 Type 1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ulin Dependent Diabetes Melli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/ ID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 Type 2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n Insulin Dependent Diabetes Melli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/ NID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 obese NIDD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e NIDD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Y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turity Onset Diabetes of theYou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betes tipe 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yakit eksokrin pank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kreat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kreatekto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brokalkulus pankreas (Pankreopati fibrokalkul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lainan endok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romega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droma Cu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okromosi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pertiroidis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in-lain seperti obat-obatan: glukokortikoid, tiazid, dilantin, interfe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 gesta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meriksaan, Penanganan dan Pencegaha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meriksa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la darah puasa dan sesudah ma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um, krea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 ru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to thorax, EKG, fundusko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gsi ha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il 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bumin urin, mikroalbu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anga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mberian obat hipoglikemik oral (OH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lfonylu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at golongan sulfonylurea bekerja dengan car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stimulasi penglepasan insulin yang tersim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urunkan ambang sekresi insul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ingkatkan sekresi insulin sebagai akibat rangsangan gluk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uan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urunkan kadar glukosa darah tapi tidak sampai di bawah 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at yang aman adalah metfor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at ini dianjurkan untuk pasien gemuk obat tung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ceg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ikan informasi dan edukasi mengenai diabetes mel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urunkan berat bad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atur asupan berupa karbohidrat (60-70%), lemak (20-25%), protein (10-15%), kolesterol (&lt; 300 mg/hari), kandungan serat larut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5 g/har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ahraga (3-4 kali dalam semingg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han yang dijadikan pilihan adalah jalan kaki, jogging, renang, bersepeda dan menday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natomi Fisiologi Pankre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kreas merupak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 yang panjang dan ram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lenjar yang berstruktur sangat mirip dengan kelenjar l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jangny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5 cm mulai dari duodenum sampai ke limpa dan beratnya 60-90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bentang pada vertebra lumbalis I dan II di belakang lamb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nyebab Diabetes Melit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lainan sel beta pank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lainan plasma, beredarnya antibodi anti insu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lainan kerja insulin pada sel sasaran, menurunkan kadar reseptor insulin atau kegagalan pengikatan insu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4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Kelainan Morfolog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ubahan morfologi pada D.M. merupakan dasar diagnosis, ditentukan oleh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ma penyakit dider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atnya penyak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ma dan berat penyakit mempengaruhi perubahan anato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M. yang sudah berlangsung 10 sampai 15 tahun akan menimbulk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giopa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penebalan pembuluh darah) di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nj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ti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ga timbul aterosklerosis lebih be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6840" y="115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rubahan anatomis yang terjadi adalah 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ebalan membran basal dan angiopa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ini terjadi penebalan mikrovaskular pada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ku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ul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- re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tot skel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- glomerulus/medula ginj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vasku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ubulus ginj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apsula Bow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raf peri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lasenta (pd wanita ham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isan basal tiap jaringan bertambah lebar dan diganti dengan lapisan hialin yang komposisi jaringan kol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isan basal akan menebal dan menyempitkan lumen kapiler pembuluh da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adaan ini disebut mikro-angiop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rubahan pankre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9200" y="1269720"/>
            <a:ext cx="86868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uran dan jumlah pulau Langerhans berkur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ingkatan jumlah dan ukuran pulau Langerh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granulasi sel beta pank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umpukan glikogen dalam sel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gantian bahan amiloid pada pulau Langerh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iltrasi sel limfosit pada pulau-pulau Langerhan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atu reaksi imunolog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ingkatan jumlah &amp; ukuran pulau-pulau Langerhans terjadi pada bayi yang dilahirkan oleh ibu diabetes melitus merupakan reaksi hiperplasi bayi terhadap ibu diabetes mell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istem pembuluh darah pada Diabetes Mellitu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yakit Diabetes Mellitus 10 sampai 15 tahun, kebanyakan telah menimbulkan kelainan vaskular secara ny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penderita diabetes mellitus meninggal akibat penyakit kardiovaskular, termasuk pembuluh darah ginj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ua jenis pembuluh darah terkena dari aorta sampai arteriol dan kap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orta dan arteri ukuran besar, menengah mengalami percepatan arteriosklerosis be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ark miokard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sebabkan oleh artero-sklerosis arteri-coroner, menyebabkan kematian tersering pada diabetes mellitus laki-laki dan wan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ang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da tungkai bawah akibat gangguan vaskular lanjut, kira-kira 100 kali dari non diabetes mell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usakan pembuluh darah arteri paling berat pad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lomerul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irkulasi mik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of Pathology: Robbin &amp; Kum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ofisiology: Sylvia A.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>
            <a:off x="2627280" y="2347920"/>
            <a:ext cx="4105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rima kasih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gian dari pankre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Kepala (kapu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erletak di sebelah kanan dari organ abdomen dan di dalam lekukan duodenum yang melingkari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her (kolum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gian yang tepat lateral terhadap kaput panrkeatis; panjangnya 2,5 cm, mula-mula menuju ke ventral lalu ke kiri untuk bergabung dengan korpus pankrea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dan (korpus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gian utama dari organ ini, letaknya di belakang lambung dan di depan vertebral lumbalis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kor (kauda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gian ruang di sebelah kiri yang sebenarnya menyentuk lim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gsi pank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iliki fungsi endokrin maupun eksokrin, saling berhubu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gsi eksokrin utama membentuk getah pankreas yang berisi enzim dan elektrolit (pethidine, tripsine dan amilase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mfasilitasi proses pencernaan melalui sekresi enzim ke dalam duodenum proksi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ngsi endok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sekresikan glukagon yang berfungsi meningkatkan glukoneogenesis untuk meningkatkan glukosa da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sekresikan insulin yang mengatur metabolisme karbohidrat, protein dan lemak yang menstimulasikan permeabilitas sel sehingga glukosa dapat masuk ke dalam s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 de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sekresikan hormon somatostatin yang berfungsi menghambat sekresi insulin dan glukagon dari pank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anan pankreas dalam mengat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bolisme gluk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rbohidrat terdapat dalam berbagai bentuk, termasuk gula sederhana atau monosakarida, dan unit-unit kimia yang kompleks, disakarida dan polisaka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rbohidrat yang sudah ditelan akan dicerna menjadi monosakarida dan diabsorbsi, terutama dalam duodenum dan jejunum prok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sudah absorbsi, kadar glukosa darah akan meningkat untuk sementara waktu dan akhirnya akan kembali lagi ke kadar glukosa darah normal, sebagian besar tergantung dar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Ekstraksi gluk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Sintesis glik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Glikogenesis dalam ha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perifer otot dan adiposa juga mempergunakan glukosa sebagai sumber ener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-jaringan berperan dalam mempertahankan kadar glukosa darah meskipun secara kuantitatif tidak sebesar h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glukosa diambil dan dilepaskan oleh hati dan dipergunakan oleh jaringan-jaringan perifer tergantung dari keseimbangan fisiologis beberapa hor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mon-hormon ini dapat diklasifikasikan sebaga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 yang merendahkan kadar glukosa da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 yang meningkatkan kadar glukosa da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lin merupakan hormon yang menurunkan glukosa da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lin dibentuk oleh sel-sel beta pulau langerhans pank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 tertentu yang dapat meningkatkan kadar glukosa darah, antara la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kagon yang disekresi oleh sel-sel alpa pulau Langerh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nefrin yang disekresikan oleh medula adrenal dan jaringan kromaf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kokortikoid yang disekresi oleh korteks adr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th hormone yang disekresi oleh kelenjar hipofisis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ukagon, epinefrin, glukokortikoid dan growth hormon membentuk suatu mekanisme counter regulator yang mencegah timbulnya hipoglikemia akibat pengaruh insu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22:37:19Z</dcterms:created>
  <dc:creator>USER</dc:creator>
  <dc:description/>
  <dc:language>en-US</dc:language>
  <cp:lastModifiedBy>uki</cp:lastModifiedBy>
  <dcterms:modified xsi:type="dcterms:W3CDTF">2011-07-11T04:47:47Z</dcterms:modified>
  <cp:revision>8</cp:revision>
  <dc:subject/>
  <dc:title>GANGGUAN KELENJAR PANKREAS</dc:title>
</cp:coreProperties>
</file>