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29.gif" ContentType="image/gif"/>
  <Override PartName="/ppt/media/image14.png" ContentType="image/png"/>
  <Override PartName="/ppt/media/image1.wmf" ContentType="image/x-wmf"/>
  <Override PartName="/ppt/media/image7.jpeg" ContentType="image/jpeg"/>
  <Override PartName="/ppt/media/image38.jpeg" ContentType="image/jpeg"/>
  <Override PartName="/ppt/media/image10.gif" ContentType="image/gif"/>
  <Override PartName="/ppt/media/image37.jpeg" ContentType="image/jpeg"/>
  <Override PartName="/ppt/media/image42.jpeg" ContentType="image/jpeg"/>
  <Override PartName="/ppt/media/image32.gif" ContentType="image/gif"/>
  <Override PartName="/ppt/media/image34.jpeg" ContentType="image/jpeg"/>
  <Override PartName="/ppt/media/image18.png" ContentType="image/png"/>
  <Override PartName="/ppt/media/image30.gif" ContentType="image/gif"/>
  <Override PartName="/ppt/media/image28.gif" ContentType="image/gif"/>
  <Override PartName="/ppt/media/image35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33.gif" ContentType="image/gif"/>
  <Override PartName="/ppt/media/image44.jpeg" ContentType="image/jpeg"/>
  <Override PartName="/ppt/media/image31.gif" ContentType="image/gif"/>
  <Override PartName="/ppt/media/image11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602-5BF4-4BD4-9F2C-0CEB70A3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FC0-CAC6-440B-A6F0-D6F9E98B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A40-41BF-4EF6-B7CC-4F9705F8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189-8742-4DBC-9B80-40DB1D94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51A3-ACB7-417D-BEAC-A5253A52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B89F-26A8-4CCB-A6D7-4F13724E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B007-9363-471B-8E2B-91F3CAD3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F029-D836-4B52-B15F-FED0A51D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DDFB-7ACA-4215-9986-E133BD1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5E42-62B3-4DAD-A344-DD63E6C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9BFD-9319-4010-A6AF-67F170A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DDA-95B9-475B-B9BA-80A73B95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2C46-671B-4E7F-BCC8-DD6FC47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A408-B115-4E97-AEE1-70056137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5848-B749-4629-9D79-99827229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5E4F-F945-4596-BA53-EFC840B9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0BAE-4B59-4898-99F9-A04D790F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94D-5967-4D53-8A86-5F6DAD4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A6E-9D0B-42C1-AADE-5751F1C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B3F-8EC2-425E-B5F8-5A9084E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CCE-64AD-4D1E-8270-B81DA32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E88-C6E9-4236-885F-AB5309B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803-89D6-487E-BBF2-4D0E3E6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72F-44B0-4A90-B462-DE59C9D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e39dc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e39dc2"/>
                </a:gs>
                <a:gs pos="5000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1e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766-06A1-44DD-B93A-0AAF5A8774BB}" type="slidenum"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e39dc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e39dc2"/>
                </a:gs>
                <a:gs pos="5000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FB4-7C0C-4039-AC53-734EF3E822B4}" type="slidenum"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81e7c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81e7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81e7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lan.udec.cl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image" Target="../media/image29.gi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8.png"/><Relationship Id="rId11" Type="http://schemas.openxmlformats.org/officeDocument/2006/relationships/image" Target="../media/image3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3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3.png"/><Relationship Id="rId19" Type="http://schemas.openxmlformats.org/officeDocument/2006/relationships/image" Target="../media/image11.png"/><Relationship Id="rId20" Type="http://schemas.openxmlformats.org/officeDocument/2006/relationships/image" Target="../media/image33.gif"/><Relationship Id="rId21" Type="http://schemas.openxmlformats.org/officeDocument/2006/relationships/image" Target="../media/image34.jpeg"/><Relationship Id="rId22" Type="http://schemas.openxmlformats.org/officeDocument/2006/relationships/image" Target="../media/image35.jpeg"/><Relationship Id="rId2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images.google.cl/imgres?imgurl=http://1.bp.blogspot.com/_-14yh7gMLiY/SKlxXA-58uI/AAAAAAAAAFQ/ajDgknoG2EE/S760/hamster-porn-P1010050.jpg&amp;imgrefurl=http://www.drpez.net/panel/showthread.php%3Ft%3D291501&amp;usg=__bDu0hXMObQI4ohIk1ob4gIU5fX8=&amp;h=570&amp;w=760&amp;sz=91&amp;hl=es&amp;start=1&amp;um=1&amp;tbnid=PzCd519E4cYdVM:&amp;tbnh=107&amp;tbnw=142&amp;prev=/images%3Fq%3Dhamster%2Bapareamiento%26hl%3Des%26sa%3DN%26um%3D1" TargetMode="External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3.png"/><Relationship Id="rId12" Type="http://schemas.openxmlformats.org/officeDocument/2006/relationships/image" Target="../media/image18.png"/><Relationship Id="rId13" Type="http://schemas.openxmlformats.org/officeDocument/2006/relationships/image" Target="../media/image3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3.png"/><Relationship Id="rId11" Type="http://schemas.openxmlformats.org/officeDocument/2006/relationships/image" Target="../media/image11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image" Target="../media/image18.png"/><Relationship Id="rId16" Type="http://schemas.openxmlformats.org/officeDocument/2006/relationships/image" Target="../media/image11.png"/><Relationship Id="rId17" Type="http://schemas.openxmlformats.org/officeDocument/2006/relationships/image" Target="../media/image18.png"/><Relationship Id="rId18" Type="http://schemas.openxmlformats.org/officeDocument/2006/relationships/image" Target="../media/image11.png"/><Relationship Id="rId19" Type="http://schemas.openxmlformats.org/officeDocument/2006/relationships/image" Target="../media/image18.png"/><Relationship Id="rId20" Type="http://schemas.openxmlformats.org/officeDocument/2006/relationships/hyperlink" Target="http://images.google.com/imgres?imgurl=http://www.minifauna.com/wp-content/uploads/2009/01/mascotas-35.jpg&amp;imgrefurl=http://www.minifauna.com/categorias/hamster/&amp;usg=__gR2mfhreQduA2oiv8EApd6JUPeU=&amp;h=320&amp;w=307&amp;sz=23&amp;hl=es&amp;start=16&amp;um=1&amp;tbnid=RvFlIpnu331kQM:&amp;tbnh=118&amp;tbnw=113&amp;prev=/images%3Fq%3Dincisivos%2Bhamster%26hl%3Des%26lr%3D%26um%3D1" TargetMode="External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792000" y="420840"/>
            <a:ext cx="5822640" cy="808200"/>
            <a:chOff x="792000" y="420840"/>
            <a:chExt cx="5822640" cy="808200"/>
          </a:xfrm>
        </p:grpSpPr>
        <p:pic>
          <p:nvPicPr>
            <p:cNvPr id="193" name="udec" descr="Logo Universid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0" y="420840"/>
              <a:ext cx="69192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86760" y="469440"/>
              <a:ext cx="472788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81e7c"/>
                  </a:solidFill>
                  <a:latin typeface="Arial"/>
                  <a:ea typeface="Times New Roman"/>
                </a:rPr>
                <a:t> </a:t>
              </a:r>
              <a:r>
                <a:rPr b="1" lang="pt-BR" sz="1200" spc="-1" strike="noStrike">
                  <a:solidFill>
                    <a:srgbClr val="681e7c"/>
                  </a:solidFill>
                  <a:latin typeface="Arial"/>
                  <a:ea typeface="Times New Roman"/>
                </a:rPr>
                <a:t>U  N  I  V  E  R  S  I  D  A  D     D  E     C  O  N  C  E  P  C  I  O  N</a:t>
              </a:r>
              <a:endParaRPr b="0" lang="en-US" sz="1200" spc="-1" strike="noStrike">
                <a:solidFill>
                  <a:srgbClr val="681e7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81e7c"/>
                  </a:solidFill>
                  <a:latin typeface="Arial"/>
                  <a:ea typeface="Times New Roman"/>
                </a:rPr>
                <a:t>FACULTAD DE MEDICINA VETERINARIA</a:t>
              </a:r>
              <a:endParaRPr b="0" lang="en-US" sz="1200" spc="-1" strike="noStrike">
                <a:solidFill>
                  <a:srgbClr val="681e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681e7c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2232000" y="1773360"/>
            <a:ext cx="409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logía del hamster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DSCN1057" descr=""/>
          <p:cNvPicPr/>
          <p:nvPr/>
        </p:nvPicPr>
        <p:blipFill>
          <a:blip r:embed="rId3"/>
          <a:srcRect l="27877" t="10901" r="26224" b="21180"/>
          <a:stretch/>
        </p:blipFill>
        <p:spPr>
          <a:xfrm>
            <a:off x="3527280" y="2924280"/>
            <a:ext cx="182088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facultad" descr=""/>
          <p:cNvPicPr/>
          <p:nvPr/>
        </p:nvPicPr>
        <p:blipFill>
          <a:blip r:embed="rId4"/>
          <a:stretch/>
        </p:blipFill>
        <p:spPr>
          <a:xfrm>
            <a:off x="7343640" y="333360"/>
            <a:ext cx="78444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32400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00" y="238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24000" y="238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9000" y="5732280"/>
            <a:ext cx="656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Asignatura: Introducción Animales Exóticos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Profesor:     Dr. Daniel Muñoz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Alumna:       Jenniffer Benitez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Fecha:         15 de mayo de 2009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db91"/>
                </a:solidFill>
                <a:latin typeface="Arial"/>
              </a:rPr>
              <a:t>Consejos para adquirir un hámster.</a:t>
            </a:r>
            <a:endParaRPr b="0" lang="en-US" sz="36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6613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Reconocer que el ejemplar se encuentre sano y goce de una perfecta salud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No adquirir un ejemplar ya anciano y sin capacidad para reproducirse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l momento de comprarlo hay que prestar atención a: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goce de perfecto estado de salud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sea joven y presente un aspecto vivo y animad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sus orejas estén alzadas y recubiertas de pelusilla en su interio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los ojos sean expresivos y brillante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el pelaje sea suave y sedos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las patas estén sana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el tamaño se ajuste a su edad.</a:t>
            </a:r>
            <a:br>
              <a:rPr sz="2000"/>
            </a:b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36" name="" descr="hamster_circus.jpg hamster hula image by deadmistresswalking"/>
          <p:cNvPicPr/>
          <p:nvPr/>
        </p:nvPicPr>
        <p:blipFill>
          <a:blip r:embed="rId4"/>
          <a:stretch/>
        </p:blipFill>
        <p:spPr>
          <a:xfrm>
            <a:off x="6659640" y="3645000"/>
            <a:ext cx="23270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lojamiento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11684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Jaulas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No reja base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Medidas no menor a 35 cm por lad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Alambres horizontales para trepa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Juego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Recipiente cristal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Hamsters enanos                no trepan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Acuarios, terrarios, etc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4149720"/>
            <a:ext cx="647640" cy="214200"/>
          </a:xfrm>
          <a:prstGeom prst="rightArrow">
            <a:avLst>
              <a:gd name="adj1" fmla="val 50000"/>
              <a:gd name="adj2" fmla="val 75588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6012000" y="404640"/>
            <a:ext cx="2736720" cy="1795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6012000" y="2205000"/>
            <a:ext cx="2741400" cy="1798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6012000" y="4005360"/>
            <a:ext cx="2736720" cy="2703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>
            <a:off x="1763640" y="53737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"/>
          <a:stretch/>
        </p:blipFill>
        <p:spPr>
          <a:xfrm>
            <a:off x="3924360" y="53895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Consejos alojamiento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3284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Evitar los cambios bruscos de temperatur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Alejarlos de otros animales, por su seguridad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Ventilación tanto en la jaula como la habitación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La jaula ha de estar situada en un lugar un poco elevado, para evitar el reflejo de defensa hacia su cuidado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Evitar ruidos cerca de su jaul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No exponerlos al calor, prefieren temperaturas ambientales más fría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Cuidar las puertas de la jaula, por su tendencia a escaparse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47" name="" descr="guinea_pig02.gif (424 bytes)"/>
          <p:cNvPicPr/>
          <p:nvPr/>
        </p:nvPicPr>
        <p:blipFill>
          <a:blip r:embed="rId8"/>
          <a:stretch/>
        </p:blipFill>
        <p:spPr>
          <a:xfrm>
            <a:off x="6516720" y="5803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guinea_pig01.gif (421 bytes)"/>
          <p:cNvPicPr/>
          <p:nvPr/>
        </p:nvPicPr>
        <p:blipFill>
          <a:blip r:embed="rId9"/>
          <a:stretch/>
        </p:blipFill>
        <p:spPr>
          <a:xfrm>
            <a:off x="68436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Higiene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1e7c"/>
                </a:solidFill>
                <a:latin typeface="Arial"/>
              </a:rPr>
              <a:t>Por naturaleza son animales muy limpios y no expelen olores.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Si hay mal olor                     Jaula sucia.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Limpiar la jaula una o dos veces a la semana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Al menos una vez a la semana se limpiarán los barrotes de la jaula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A diario limpiar los comederos y bebederos, además de cambiar el agua y los alimentos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A diario limpiar el rincón donde tengan costumbre de orinar defecar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Para el suelo se utiliza arena, tierra gruesa, virutas de madera o hen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Cepillarles el pelaje con un cepillo especial para est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Una vez al mes desinfectar toda la jaula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Durante el verano resguardar la jaula del sol direct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1e7c"/>
                </a:solidFill>
                <a:latin typeface="Arial"/>
              </a:rPr>
              <a:t>Baño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No es aconsejable a menos que sea necesari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6516720" y="5084640"/>
            <a:ext cx="863640" cy="828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84360" y="2205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Alimentación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77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Alimentación equilibrada y rica en sales minerales, vitaminas y otros nutrientes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Dieta alta en fibra y baja en grasa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Frutas y verduras ayudan a satisfacer necesidades de vitaminas y los cereales y semillas cubrirán los hidratos de carbono y fibra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Vegetales y frutas: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En los que no toman agua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Restringir el consumo de cítricos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Cereales: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Se puede administrar copos de avena, soja, girasol, maíz, sémola de trigo, etc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Proteínas: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Tenebrios, carne cruda o cocida, yema de huevo, queso, yogurt.</a:t>
            </a: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Alimentos prohibidos: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Sal y  grasa,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Dulces y chocolate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Perejil, el cilantro, las verduras aliñadas o las congeladas, junto al apio. La uva, la zanahoria y la remolacha en altas dosis resultan muy nocivas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Consejos para una perfecta alimentación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La ración de comida del hámster dependerá del tamaño del animal, la edad, si es hembra gestante o si está en periodo lactante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Comida seca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Agua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Depende de dieta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0"/>
          <a:stretch/>
        </p:blipFill>
        <p:spPr>
          <a:xfrm>
            <a:off x="8028000" y="260280"/>
            <a:ext cx="884160" cy="868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1"/>
          <a:srcRect l="17984" t="15487" r="29364" b="22421"/>
          <a:stretch/>
        </p:blipFill>
        <p:spPr>
          <a:xfrm>
            <a:off x="7020000" y="4983120"/>
            <a:ext cx="21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2"/>
          <a:stretch/>
        </p:blipFill>
        <p:spPr>
          <a:xfrm>
            <a:off x="7196040" y="1989000"/>
            <a:ext cx="194796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Reproducción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Estro cada 5-7 días, (secreción, olor y actitud)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Las hembras tienen generalmente 12 o 14 pezones (15 crías)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La hembra debe tener por lo menos diez semanas para su primera camada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9db91"/>
                </a:solidFill>
                <a:latin typeface="Arial"/>
              </a:rPr>
              <a:t>Apareamiento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Territorio neutral al atardecer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Hembra receptiva             Posición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Cuando uno de los dos ya no muestra interés en continuar, devolver a cada uno a su sitio correspondiente, (20-45 min.)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5229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61" name="" descr="">
            <a:hlinkClick r:id="rId7"/>
          </p:cNvPr>
          <p:cNvPicPr/>
          <p:nvPr/>
        </p:nvPicPr>
        <p:blipFill>
          <a:blip r:embed="rId8"/>
          <a:srcRect l="7479" t="14836" r="21560" b="10809"/>
          <a:stretch/>
        </p:blipFill>
        <p:spPr>
          <a:xfrm>
            <a:off x="7020000" y="135000"/>
            <a:ext cx="1944720" cy="1536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rcRect l="20056" t="33435" r="5623" b="18286"/>
          <a:stretch/>
        </p:blipFill>
        <p:spPr>
          <a:xfrm>
            <a:off x="5724360" y="3860640"/>
            <a:ext cx="305928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Gestación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16 a 23 días promedio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No molestar a hembr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Días antes de parto limpieza general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Dar a la hembra gran cantidad de materiales para construir el nido (palitos de madera, papel higiénico picado, alfalfa, etc)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Alimentación variada y bastante cantidad de vegetales y fruta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Aumentar cantidad de proteínas (huevo, carne, alimento de perro)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6516720" y="476280"/>
            <a:ext cx="211752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Parto y crianza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8066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Generalmente pare en la tarde o noche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Parto &lt; 1Hr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Madre se dedica a limpiar y lamer a sus crías, (estimula metabolismo),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Crías nacen sin pelo y miden unos tres centímetros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Después de un parto normal queda todo limpio y seco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3780000" y="0"/>
            <a:ext cx="2244600" cy="919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211640" y="981000"/>
            <a:ext cx="1781280" cy="1552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rcRect l="21851" t="17291" r="20859" b="18748"/>
          <a:stretch/>
        </p:blipFill>
        <p:spPr>
          <a:xfrm>
            <a:off x="6012000" y="0"/>
            <a:ext cx="313200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Crías crecen rápidamente y comienzan a comer alimentos sólidos desde la primera semana de edad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Leche materna es indispensable durante las tres primeras semanas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Nunca tocar las crías (2 semanas)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 los doce días abren los ojos y comienzan a salir con mayor frecuencia del nido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 las tres semanas son independientes y pueden ser separadas de la madre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 los veintiocho días deben estar separadas por sexo, porque a esta edad comienza su madurez sexual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Parto y crianza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796000" y="189000"/>
            <a:ext cx="313200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Generalmente los hámsters no acostumbrados al manejo      mordedores, sobretodo si se asustan, dañan o incomodan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Sujeción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Para procedimientos no dolorosos y no estresantes se puede levantar al animal y sostenerlo entre las dos mano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i el examen debe ser más exhaustivo, es mejor cogerlo por la piel del cuello, cogiendo tanta piel como sea posible entre el índice y el pulga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e pueden coger colocando los dedos alrededor del tórax, espalda y col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i se ve que es agresivo, se recomienda el traslado dentro de un recipiente de pequeño tamaño (ejemplo: lata limpia)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rcRect l="9065" t="8043" r="6265" b="0"/>
          <a:stretch/>
        </p:blipFill>
        <p:spPr>
          <a:xfrm>
            <a:off x="6048360" y="0"/>
            <a:ext cx="3095640" cy="2521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92360" y="2637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Familia </a:t>
            </a:r>
            <a:r>
              <a:rPr b="0" i="1" lang="es-ES" sz="2800" spc="-1" strike="noStrike">
                <a:solidFill>
                  <a:srgbClr val="681e7c"/>
                </a:solidFill>
                <a:latin typeface="Arial"/>
              </a:rPr>
              <a:t>Cricetidiae</a:t>
            </a: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hamstern           “acaparar”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Orígenes en siglo XIX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Popularidad 1930, primera crianz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Características sociales según raz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1e7c"/>
                </a:solidFill>
                <a:latin typeface="Arial"/>
              </a:rPr>
              <a:t>Emparejados: Hámsters enanos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1e7c"/>
                </a:solidFill>
                <a:latin typeface="Arial"/>
              </a:rPr>
              <a:t>Territoriales: Hámsters dorados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1e7c"/>
                </a:solidFill>
                <a:latin typeface="Arial"/>
              </a:rPr>
              <a:t>Sociables: Hámsters chinos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03" name="" descr="aplauso.gif (9085 bytes)"/>
          <p:cNvPicPr/>
          <p:nvPr/>
        </p:nvPicPr>
        <p:blipFill>
          <a:blip r:embed="rId9"/>
          <a:stretch/>
        </p:blipFill>
        <p:spPr>
          <a:xfrm>
            <a:off x="5867280" y="5445000"/>
            <a:ext cx="989280" cy="1008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56000" y="198900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Hámster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484360" y="1197000"/>
            <a:ext cx="215748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497320" cy="33433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mispeques.jpg image by alma_m0"/>
          <p:cNvPicPr/>
          <p:nvPr/>
        </p:nvPicPr>
        <p:blipFill>
          <a:blip r:embed="rId2"/>
          <a:stretch/>
        </p:blipFill>
        <p:spPr>
          <a:xfrm>
            <a:off x="684360" y="4076640"/>
            <a:ext cx="813564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Hámster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772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Nocturnos (no niños)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Hibernan (&lt;10°C)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Variedades: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ratón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Zungaria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Roborowski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Eversmann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Mongolia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aúrico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chino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cola larga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gris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l Tibet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-rata enano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vulgar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4643280" y="620640"/>
            <a:ext cx="29530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Variedades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3717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Hámster dorado de Siria o </a:t>
            </a:r>
            <a:r>
              <a:rPr b="0" i="1" lang="es-ES" sz="2800" spc="-1" strike="noStrike">
                <a:solidFill>
                  <a:srgbClr val="681e7c"/>
                </a:solidFill>
                <a:latin typeface="Arial"/>
              </a:rPr>
              <a:t>Mesocricetus auratus</a:t>
            </a: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rcRect l="11377" t="0" r="6766" b="5946"/>
          <a:stretch/>
        </p:blipFill>
        <p:spPr>
          <a:xfrm>
            <a:off x="611280" y="3716280"/>
            <a:ext cx="2808360" cy="24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3780000" y="907920"/>
          <a:ext cx="3904920" cy="5131080"/>
        </p:xfrm>
        <a:graphic>
          <a:graphicData uri="http://schemas.openxmlformats.org/drawingml/2006/table">
            <a:tbl>
              <a:tblPr/>
              <a:tblGrid>
                <a:gridCol w="1187280"/>
                <a:gridCol w="271764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itud: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rededor de los 16 cm.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gramo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a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 1 o 1,2 cm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o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des y de color negro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laje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color castaño y blanco en el vientre y garganta. Es brillante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eja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queñas y redonda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a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a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cico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iagudo y poblado de bigote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azone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atables (o elásticos)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ácter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ectuoso y comprensivo. Simpático y cariñoso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Variedades enanas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81e7c"/>
                </a:solidFill>
                <a:latin typeface="Arial"/>
              </a:rPr>
              <a:t>Hámster enano chino, </a:t>
            </a:r>
            <a:r>
              <a:rPr b="0" i="1" lang="es-ES" sz="3200" spc="-1" strike="noStrike">
                <a:solidFill>
                  <a:srgbClr val="681e7c"/>
                </a:solidFill>
                <a:latin typeface="Arial"/>
              </a:rPr>
              <a:t>Cricetulus griseus.</a:t>
            </a:r>
            <a:r>
              <a:rPr b="0" lang="es-ES" sz="3200" spc="-1" strike="noStrike">
                <a:solidFill>
                  <a:srgbClr val="681e7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Dorso gri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Grandes ojos negro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Estría central oscur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Cola “larga”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Pies y vientres blanco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15" name="chino3" descr=""/>
          <p:cNvPicPr/>
          <p:nvPr/>
        </p:nvPicPr>
        <p:blipFill>
          <a:blip r:embed="rId7"/>
          <a:stretch/>
        </p:blipFill>
        <p:spPr>
          <a:xfrm>
            <a:off x="5219640" y="4108320"/>
            <a:ext cx="316872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69008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Hámster enano gris, hámster ruso o hámster enano de Zungaria, </a:t>
            </a:r>
            <a:r>
              <a:rPr b="0" i="1" lang="es-ES" sz="2400" spc="-1" strike="noStrike">
                <a:solidFill>
                  <a:srgbClr val="681e7c"/>
                </a:solidFill>
                <a:latin typeface="Arial"/>
              </a:rPr>
              <a:t>Phodopus sungorus</a:t>
            </a: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De 10 a 13,5 cms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Su color puede variar 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Las orejas, de color oscuro, no tienen bordes blancos y las plantas de los pies carecen de pel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Hámster enano de Roborowski, </a:t>
            </a:r>
            <a:r>
              <a:rPr b="0" i="1" lang="es-ES" sz="2400" spc="-1" strike="noStrike">
                <a:solidFill>
                  <a:srgbClr val="681e7c"/>
                </a:solidFill>
                <a:latin typeface="Arial"/>
              </a:rPr>
              <a:t>Phodopus roborovskii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El el hámster más pequeñ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Pelaje de color arena. 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Es mucho más ágil, a veces incluso “hiperactivo”, por lo que no es tan adecuado como animal para acaricia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Variedades enanas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7086600" y="4437000"/>
            <a:ext cx="2057400" cy="1892520"/>
          </a:xfrm>
          <a:prstGeom prst="rect">
            <a:avLst/>
          </a:prstGeom>
          <a:ln w="0">
            <a:noFill/>
          </a:ln>
        </p:spPr>
      </p:pic>
      <p:pic>
        <p:nvPicPr>
          <p:cNvPr id="219" name="winterwhitezafiro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7020000" y="2193840"/>
            <a:ext cx="21240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natomía</a:t>
            </a: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81e7c"/>
                </a:solidFill>
                <a:latin typeface="Arial"/>
              </a:rPr>
              <a:t>Peso y medid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Adulto: 17 a 18 cm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Hembras más grandes.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Peso de hembra entre 150 y 180 grs., macho sólo alcanza entre 120 y 170 grs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Arial"/>
              </a:rPr>
              <a:t>Pelaje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Pelaje tupido y suave, generalmente más oscuro en la zona de la espalda y más claro en el vientre.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Arial"/>
              </a:rPr>
              <a:t>Pat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Patas anteriores con 4 dedos bien desarrollados, mientras que el quinto (el pulgar) es más rudimentario.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Dedos bastante prensiles, con uñas fuertes 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Limpieza con manos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81e7c"/>
                </a:solidFill>
                <a:latin typeface="Arial"/>
              </a:rPr>
              <a:t>Glándul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En el flanco, con estas emanan olores para marcaje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1e7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681e7c"/>
                </a:solidFill>
                <a:latin typeface="Arial"/>
              </a:rPr>
              <a:t>Orej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1e7c"/>
                </a:solidFill>
                <a:latin typeface="Arial"/>
              </a:rPr>
              <a:t>Cubiertas por fina pelusa exteriormente, sin pelo al interior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1e7c"/>
                </a:solidFill>
                <a:latin typeface="Arial"/>
              </a:rPr>
              <a:t>Las enrollan al dormir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76215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81e7c"/>
                </a:solidFill>
                <a:latin typeface="Arial"/>
              </a:rPr>
              <a:t>Sexo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Cuerpo del macho termina en forma puntiaguda, siendo muy visibles sus testículo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Distancia entre el ano y la abertura de los órganos sexuales es mayor en los machos que en las hembra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En la hembra existen 3 aberturas: el ano, la vagina y la uretr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natomía</a:t>
            </a: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pic>
        <p:nvPicPr>
          <p:cNvPr id="224" name="hembra" descr=""/>
          <p:cNvPicPr/>
          <p:nvPr/>
        </p:nvPicPr>
        <p:blipFill>
          <a:blip r:embed="rId5"/>
          <a:stretch/>
        </p:blipFill>
        <p:spPr>
          <a:xfrm>
            <a:off x="4573440" y="3860640"/>
            <a:ext cx="2154240" cy="2176560"/>
          </a:xfrm>
          <a:prstGeom prst="rect">
            <a:avLst/>
          </a:prstGeom>
          <a:ln w="0">
            <a:noFill/>
          </a:ln>
        </p:spPr>
      </p:pic>
      <p:pic>
        <p:nvPicPr>
          <p:cNvPr id="225" name="macho" descr=""/>
          <p:cNvPicPr/>
          <p:nvPr/>
        </p:nvPicPr>
        <p:blipFill>
          <a:blip r:embed="rId6"/>
          <a:stretch/>
        </p:blipFill>
        <p:spPr>
          <a:xfrm>
            <a:off x="1765440" y="3860640"/>
            <a:ext cx="2154240" cy="217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79640" y="6165720"/>
            <a:ext cx="1805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Times New Roman"/>
              </a:rPr>
              <a:t>Macho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6165720"/>
            <a:ext cx="1805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Times New Roman"/>
              </a:rPr>
              <a:t>Hembra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8920" y="1453680"/>
            <a:ext cx="79930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81e7c"/>
                </a:solidFill>
                <a:latin typeface="Arial"/>
              </a:rPr>
              <a:t>Dientes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Roedores,               dos fuertes incisivos en cada mandíbula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Carecen de raíz                crecimiento continuo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o tienen caninos ni premolares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Fórmula dentaria 2(I1 C0 P0 M3)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acen con los dientes incisivos ya presentes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81e7c"/>
                </a:solidFill>
                <a:latin typeface="Arial"/>
              </a:rPr>
              <a:t>Abazones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Invaginaciones de la pared lateral de la boca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Formadas por piel dura y seca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81e7c"/>
                </a:solidFill>
                <a:latin typeface="Arial"/>
              </a:rPr>
              <a:t>Sentidos  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Visión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o poseen buena vista, &gt; 1mt sólo sombras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o distinguen los colores y ven todo en blanco y negro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Audición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Oído muy desarrollado, las grandes orejas les permiten oír el menor ruido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Olfato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Sentido más desarrollado, (cuidado mordeduras)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Tacto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Animales nocturnos y que viven en galerías subterráneas, con este sentido bastante desarrollado. (pelos nariz)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natomía</a:t>
            </a: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1773360"/>
            <a:ext cx="358920" cy="71280"/>
          </a:xfrm>
          <a:prstGeom prst="rightArrow">
            <a:avLst>
              <a:gd name="adj1" fmla="val 50000"/>
              <a:gd name="adj2" fmla="val 125884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1916280"/>
            <a:ext cx="358920" cy="71280"/>
          </a:xfrm>
          <a:prstGeom prst="rightArrow">
            <a:avLst>
              <a:gd name="adj1" fmla="val 50000"/>
              <a:gd name="adj2" fmla="val 125884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32" name="images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588000" y="2781360"/>
            <a:ext cx="182268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018" descr=""/>
          <p:cNvPicPr/>
          <p:nvPr/>
        </p:nvPicPr>
        <p:blipFill>
          <a:blip r:embed="rId22"/>
          <a:stretch/>
        </p:blipFill>
        <p:spPr>
          <a:xfrm>
            <a:off x="6516720" y="134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8:20:26Z</dcterms:created>
  <dc:creator>JeNiTa</dc:creator>
  <dc:description/>
  <dc:language>en-US</dc:language>
  <cp:lastModifiedBy>JeNiTa</cp:lastModifiedBy>
  <dcterms:modified xsi:type="dcterms:W3CDTF">2009-06-05T04:28:23Z</dcterms:modified>
  <cp:revision>5</cp:revision>
  <dc:subject/>
  <dc:title>Diapositiva 1</dc:title>
</cp:coreProperties>
</file>